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Click to move the slid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th February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E362-EA6A-4995-8D58-42BAF7CE20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3B1E-8D91-46CE-962F-069BE61798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C0B3-7B11-4367-A5F2-5BD7704946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642D-2CEF-4697-B824-CA8D5429B8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A629-BC5C-419D-9050-292B75163C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9670-9EA7-4647-936E-B642045DD4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EDE0-2FDE-443E-BE8C-CDF69BDEA8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43F9-195A-4118-9BAD-0FAD9739D8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3D73-6D85-42F5-A0CC-61040703B3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4774-2BEA-42BD-8CCD-B1E777A988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11BC-92A4-4FA1-B81B-FC3A334303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04F7-26FD-4098-9DA2-2864429D48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6004-F841-4AB7-BDC2-88356CC310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000D-9215-4648-BA10-9F5FA17D7E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A56C-AAB4-4342-B2CC-5A661D928F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4C37-CCAD-434A-9191-5710B94884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61DA-F06B-4BA3-A5A6-F454601C15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EFC9-7527-4B3B-837D-A4CCC7F459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1861-573E-4BF6-92D1-752F2B4FBB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8730-C022-45C4-B84F-DA8C52C734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FF6A-7AC2-4C2A-B981-B9617A8DD4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F53C-0E7D-4DB3-98D7-3122022EED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CEA0-776F-46D7-8A3C-4741EA95A2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DC26-C3D8-417F-A2C2-040F1E229B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3396-9057-4BF4-B69A-AA60100589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DCE9-B5E8-41F4-BB95-63B92AEE57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85AC-B061-4D86-8481-97487BAB6B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59DB-0896-4ADA-967A-253225BD5C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8002-E65B-4902-946C-8B8D599CF8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1725-90AF-48B7-B68F-3818F52843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207F-DA7A-4737-8919-130B41EEBD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673B-A24B-49C8-AD8E-D393DE3DE9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EF3F-C5EF-4D09-9FAB-F15AB4D87E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A0E4-8609-4A04-9B49-EFA12AFFE5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9EB4-2F78-46D9-A431-B69BA52EE8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EF2C3-0CD9-4FF1-ACE7-24AB6DE42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3AD9C-3AB6-48B1-909B-A2ACCFEC86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201D9-920A-4AA4-B1D6-676091FC7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EECC7-DD24-4F05-8F1F-B6C4C31057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BCD5B-7EB7-4E25-8805-783487E012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D8550-0DC6-4ED1-B0D8-1A9F0615B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0799F-4235-4623-BC27-525A730CD5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98AE1-90EE-440E-8683-33B2DA945E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35280" y="260280"/>
            <a:ext cx="547200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66185-EF3F-42F9-A8C0-BBA7126CA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DDE09-8CCD-4EE0-B9A7-188FBA3D6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ACD57-0D89-4166-9EF4-9E10CAEC3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2B1F8-AB9E-484F-86F8-B1AF683AE3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5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627280" y="6381360"/>
            <a:ext cx="460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68CB-D9FC-4D22-AD12-0F2F02E85D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7"/>
          <p:cNvSpPr/>
          <p:nvPr/>
        </p:nvSpPr>
        <p:spPr>
          <a:xfrm>
            <a:off x="611280" y="620640"/>
            <a:ext cx="777708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539640" y="26028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Book Antiqua"/>
              </a:rPr>
              <a:t>ASD: Manipulat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uofs84"/>
          <p:cNvPicPr/>
          <p:nvPr/>
        </p:nvPicPr>
        <p:blipFill>
          <a:blip r:embed="rId2"/>
          <a:stretch/>
        </p:blipFill>
        <p:spPr>
          <a:xfrm>
            <a:off x="8244000" y="6219720"/>
            <a:ext cx="593640" cy="59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trochim.human.cornell.edu/kb/stat_t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ession Outlin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9280" y="126792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ory so f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ipulating data (preparing for analy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oding existing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uting new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ighting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ing SPSS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An example of statistical significanc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900000" y="6021360"/>
            <a:ext cx="61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Thanks to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rochim.human.cornell.edu/kb/stat_t.htm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for the coloured graph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7524720" y="227664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10"/>
          <p:cNvSpPr/>
          <p:nvPr/>
        </p:nvSpPr>
        <p:spPr>
          <a:xfrm flipV="1">
            <a:off x="7451640" y="3499920"/>
            <a:ext cx="0" cy="792360"/>
          </a:xfrm>
          <a:prstGeom prst="line">
            <a:avLst/>
          </a:prstGeom>
          <a:ln w="475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12"/>
          <p:cNvSpPr/>
          <p:nvPr/>
        </p:nvSpPr>
        <p:spPr>
          <a:xfrm flipV="1">
            <a:off x="8317080" y="3499920"/>
            <a:ext cx="0" cy="792360"/>
          </a:xfrm>
          <a:prstGeom prst="line">
            <a:avLst/>
          </a:prstGeom>
          <a:ln w="475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15"/>
          <p:cNvCxnSpPr/>
          <p:nvPr/>
        </p:nvCxnSpPr>
        <p:spPr>
          <a:xfrm>
            <a:off x="7524720" y="3933360"/>
            <a:ext cx="7200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6048360" cy="40766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9"/>
          <p:cNvSpPr/>
          <p:nvPr/>
        </p:nvSpPr>
        <p:spPr>
          <a:xfrm>
            <a:off x="7527600" y="35002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5" descr=""/>
          <p:cNvPicPr/>
          <p:nvPr/>
        </p:nvPicPr>
        <p:blipFill>
          <a:blip r:embed="rId1"/>
          <a:stretch/>
        </p:blipFill>
        <p:spPr>
          <a:xfrm>
            <a:off x="5219640" y="4508640"/>
            <a:ext cx="3924360" cy="2076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2"/>
          <a:stretch/>
        </p:blipFill>
        <p:spPr>
          <a:xfrm>
            <a:off x="395280" y="4495680"/>
            <a:ext cx="4257720" cy="236232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Manipulating data: Selecting data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-468720" y="83628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times researchers will only want to carry out a statistical test on a certain cases of the dataset (e.g. only 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requires a process in SPSS called “selecting dat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ases are selected according to their values on a particular variable (e.g. on variable “sex”, we select all those with value 1 – corresponding to “male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24000" y="4149720"/>
            <a:ext cx="43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Comic Sans MS"/>
              </a:rPr>
              <a:t>Sex with Label Values button on</a:t>
            </a: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364000" y="4149720"/>
            <a:ext cx="37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Comic Sans MS"/>
              </a:rPr>
              <a:t>Sex with Label Values button off</a:t>
            </a: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8"/>
          <p:cNvSpPr/>
          <p:nvPr/>
        </p:nvSpPr>
        <p:spPr>
          <a:xfrm>
            <a:off x="3995640" y="4724280"/>
            <a:ext cx="576360" cy="576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9"/>
          <p:cNvSpPr/>
          <p:nvPr/>
        </p:nvSpPr>
        <p:spPr>
          <a:xfrm>
            <a:off x="8640720" y="4724280"/>
            <a:ext cx="503280" cy="506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0"/>
          <p:cNvSpPr/>
          <p:nvPr/>
        </p:nvSpPr>
        <p:spPr>
          <a:xfrm>
            <a:off x="1187280" y="5805360"/>
            <a:ext cx="50328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1"/>
          <p:cNvSpPr/>
          <p:nvPr/>
        </p:nvSpPr>
        <p:spPr>
          <a:xfrm>
            <a:off x="5940360" y="5805360"/>
            <a:ext cx="50328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317080" cy="4887720"/>
          </a:xfrm>
          <a:prstGeom prst="rect">
            <a:avLst/>
          </a:prstGeom>
          <a:ln w="0">
            <a:noFill/>
          </a:ln>
        </p:spPr>
      </p:pic>
      <p:sp>
        <p:nvSpPr>
          <p:cNvPr id="116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Manipulating data: Selecting data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4859280" y="4869000"/>
            <a:ext cx="649440" cy="43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395280" y="1268280"/>
            <a:ext cx="821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Check the value number that you want to select by (in Variable vie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5"/>
          <p:cNvSpPr/>
          <p:nvPr/>
        </p:nvSpPr>
        <p:spPr>
          <a:xfrm>
            <a:off x="5148360" y="2565360"/>
            <a:ext cx="50328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6588000" y="2349360"/>
            <a:ext cx="208764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ck on the three dots to open up the Values dialogue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7"/>
          <p:cNvSpPr/>
          <p:nvPr/>
        </p:nvSpPr>
        <p:spPr>
          <a:xfrm flipH="1" flipV="1">
            <a:off x="5724360" y="2852640"/>
            <a:ext cx="935280" cy="14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6" descr=""/>
          <p:cNvPicPr/>
          <p:nvPr/>
        </p:nvPicPr>
        <p:blipFill>
          <a:blip r:embed="rId1"/>
          <a:stretch/>
        </p:blipFill>
        <p:spPr>
          <a:xfrm>
            <a:off x="7132680" y="907920"/>
            <a:ext cx="2011320" cy="1152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4467240" cy="4734000"/>
          </a:xfrm>
          <a:prstGeom prst="rect">
            <a:avLst/>
          </a:prstGeom>
          <a:ln w="0">
            <a:noFill/>
          </a:ln>
        </p:spPr>
      </p:pic>
      <p:sp>
        <p:nvSpPr>
          <p:cNvPr id="125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electing data in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-468720" y="1268280"/>
            <a:ext cx="9612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Click on the Select Cases button (or find i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nu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1763640" y="2565360"/>
            <a:ext cx="2016360" cy="576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1979640" y="4724280"/>
            <a:ext cx="187164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 flipH="1" flipV="1">
            <a:off x="3779640" y="2923920"/>
            <a:ext cx="1439640" cy="361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 flipH="1" flipV="1">
            <a:off x="3995280" y="5013000"/>
            <a:ext cx="151308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5292720" y="2060640"/>
            <a:ext cx="331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5435640" y="30700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Select “If condition is satisfied” and then click “If..”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5580000" y="5013360"/>
            <a:ext cx="29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Make sure that the unselected cases are “filtered” rather than deleted, or you will los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3"/>
          <p:cNvSpPr/>
          <p:nvPr/>
        </p:nvSpPr>
        <p:spPr>
          <a:xfrm>
            <a:off x="8423280" y="981000"/>
            <a:ext cx="720720" cy="64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1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6253200" cy="4465800"/>
          </a:xfrm>
          <a:prstGeom prst="rect">
            <a:avLst/>
          </a:prstGeom>
          <a:ln w="0">
            <a:noFill/>
          </a:ln>
        </p:spPr>
      </p:pic>
      <p:sp>
        <p:nvSpPr>
          <p:cNvPr id="137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electing data in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39" name="Oval 4"/>
          <p:cNvSpPr/>
          <p:nvPr/>
        </p:nvSpPr>
        <p:spPr>
          <a:xfrm>
            <a:off x="250920" y="3068640"/>
            <a:ext cx="180000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5"/>
          <p:cNvSpPr/>
          <p:nvPr/>
        </p:nvSpPr>
        <p:spPr>
          <a:xfrm>
            <a:off x="3276720" y="2637000"/>
            <a:ext cx="358560" cy="358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5292720" y="2060640"/>
            <a:ext cx="331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419640" y="5661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Press the “=“ 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9280" y="573408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Choose the variable to select on and move it to the big box by clicking th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1692360" y="1413000"/>
            <a:ext cx="50472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6875640" y="907920"/>
            <a:ext cx="226836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need to tell SPSS how to select the case by writing a formula in the large whit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nk of this as a statement starting “Select the case if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6551640" y="4581360"/>
            <a:ext cx="2700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Decide the value that you want to select (e.g. 1 for male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Press continue and OK/P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5"/>
          <p:cNvSpPr/>
          <p:nvPr/>
        </p:nvSpPr>
        <p:spPr>
          <a:xfrm>
            <a:off x="2556000" y="2565360"/>
            <a:ext cx="43164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9"/>
          <p:cNvSpPr/>
          <p:nvPr/>
        </p:nvSpPr>
        <p:spPr>
          <a:xfrm flipV="1">
            <a:off x="395280" y="3644640"/>
            <a:ext cx="360360" cy="208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0"/>
          <p:cNvSpPr/>
          <p:nvPr/>
        </p:nvSpPr>
        <p:spPr>
          <a:xfrm flipV="1">
            <a:off x="1692360" y="1844280"/>
            <a:ext cx="28728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3348000" y="1413000"/>
            <a:ext cx="28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i.e. “select cases if sex = 1 (male samp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4"/>
          <p:cNvSpPr/>
          <p:nvPr/>
        </p:nvSpPr>
        <p:spPr>
          <a:xfrm flipH="1" flipV="1">
            <a:off x="2987280" y="3284640"/>
            <a:ext cx="576360" cy="24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1"/>
          <p:cNvSpPr/>
          <p:nvPr/>
        </p:nvSpPr>
        <p:spPr>
          <a:xfrm>
            <a:off x="3059280" y="2708280"/>
            <a:ext cx="144360" cy="7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33156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electing data in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5292720" y="2060640"/>
            <a:ext cx="331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4140360" y="1484280"/>
            <a:ext cx="50036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go back to data view, all those cases that weren’t selected will be crossed (filtered) ou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9. Check that filtering looks cor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8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2160720" cy="3888000"/>
          </a:xfrm>
          <a:prstGeom prst="rect">
            <a:avLst/>
          </a:prstGeom>
          <a:ln w="0">
            <a:noFill/>
          </a:ln>
        </p:spPr>
      </p:pic>
      <p:sp>
        <p:nvSpPr>
          <p:cNvPr id="158" name="Oval 20"/>
          <p:cNvSpPr/>
          <p:nvPr/>
        </p:nvSpPr>
        <p:spPr>
          <a:xfrm>
            <a:off x="250920" y="1484280"/>
            <a:ext cx="136836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1"/>
          <p:cNvSpPr/>
          <p:nvPr/>
        </p:nvSpPr>
        <p:spPr>
          <a:xfrm flipH="1" flipV="1">
            <a:off x="1618920" y="1736280"/>
            <a:ext cx="2521080" cy="1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electing the main sample in BC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24000" y="1125360"/>
            <a:ext cx="88200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llowing the above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ck the value that we want to select by in the variable “samptyp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on Select Cases button to enter the Select Cases dialogu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hat the unselected cases are fi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 “If”, and then click on the “If” dialogue box so we can tell it what value we want se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 “samptype” and bring it to the main white box by clicking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on “=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oose the value 1 for “main sam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continue and OK/P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ck that any cases not main sample crossed out in data view to ensure we did i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ecod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-468720" y="126792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sometimes necessary to simplify a variable by combining two or more values (answers).  Reason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plifying tests and findings (eg a variable listing different offences you might find it easier to combine all violent offences into one catego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sts may be more reliable if there are more cases in each value of a variable (e.g. 100 cases for ‘violent offences’ against 10-15 for each t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tests require dichotomous variables, so we might need to combine values into just two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ing the values in a variable is known as “recoding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ecode Examp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-468720" y="1413000"/>
            <a:ext cx="9612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ld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trum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trom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vio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vi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 c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fl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 dr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780000" y="1268280"/>
            <a:ext cx="216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859280" y="1413000"/>
            <a:ext cx="21607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New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Br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>
            <a:off x="2050920" y="213372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>
            <a:off x="1619280" y="342900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1763640" y="4797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324000" y="52419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exactly the same process that we have to tell SPSS to do.  We tell it the old values and the new values, and g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ecode Examp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-468720" y="1413000"/>
            <a:ext cx="9612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ld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trum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trom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vio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vi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 c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fl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 dr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780000" y="1268280"/>
            <a:ext cx="216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859280" y="1413000"/>
            <a:ext cx="21607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New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Br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2050920" y="213372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1619280" y="342900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1763640" y="4797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4932360" y="4581360"/>
            <a:ext cx="93492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755640" y="476280"/>
            <a:ext cx="7772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he story so far… What quant data looks like: variable by case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1557360"/>
          <a:ext cx="8675640" cy="3709800"/>
        </p:xfrm>
        <a:graphic>
          <a:graphicData uri="http://schemas.openxmlformats.org/drawingml/2006/table">
            <a:tbl>
              <a:tblPr/>
              <a:tblGrid>
                <a:gridCol w="1735200"/>
                <a:gridCol w="1734840"/>
                <a:gridCol w="1735200"/>
                <a:gridCol w="1419480"/>
                <a:gridCol w="2050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iday desti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ma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(lower midd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fema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(work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Ve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fema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upper midd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of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ecode Examp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-468720" y="1413000"/>
            <a:ext cx="9612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Ol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trump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trom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a6a6a6"/>
                </a:solidFill>
                <a:latin typeface="Arial"/>
              </a:rPr>
              <a:t>French ho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vio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vi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 c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a6a6a6"/>
                </a:solidFill>
                <a:latin typeface="Arial"/>
              </a:rPr>
              <a:t>double b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 f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a6a6a6"/>
                </a:solidFill>
                <a:latin typeface="Arial"/>
              </a:rPr>
              <a:t>ob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a6a6a6"/>
                </a:solidFill>
                <a:latin typeface="Arial"/>
              </a:rPr>
              <a:t>clari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a6a6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a6a6a6"/>
                </a:solidFill>
                <a:latin typeface="Arial"/>
              </a:rPr>
              <a:t>bass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 dr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780000" y="1268280"/>
            <a:ext cx="216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859280" y="1413000"/>
            <a:ext cx="21607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New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Br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Woodw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Per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6"/>
          <p:cNvSpPr/>
          <p:nvPr/>
        </p:nvSpPr>
        <p:spPr>
          <a:xfrm>
            <a:off x="2050920" y="213372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1619280" y="3933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1835280" y="530064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1835280" y="6237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ecode Examp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780000" y="1268280"/>
            <a:ext cx="216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1116000" y="1916280"/>
            <a:ext cx="7056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How you recode variables depends 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question you want to answ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groups matt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ther your current groups work for future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ecode in SPSS – Recoding ethnicity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24000" y="1125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Make a note of all the values in the existing variable, and how you want them to be recoded.  Do this by looking at Value Labels in Variable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9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4324320" cy="27338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20"/>
          <p:cNvSpPr/>
          <p:nvPr/>
        </p:nvSpPr>
        <p:spPr>
          <a:xfrm>
            <a:off x="395280" y="5013360"/>
            <a:ext cx="5113440" cy="86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Values 1 to 3 into new value 1 (Wh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Values 4 to 16 into new value 2 (ME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7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5695920" cy="3457440"/>
          </a:xfrm>
          <a:prstGeom prst="rect">
            <a:avLst/>
          </a:prstGeom>
          <a:ln w="0">
            <a:noFill/>
          </a:ln>
        </p:spPr>
      </p:pic>
      <p:sp>
        <p:nvSpPr>
          <p:cNvPr id="203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ecode in SPSS – Recoding ethnicity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79280" y="105264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 From the menu –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ransform &gt; Recode into different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95280" y="5084640"/>
            <a:ext cx="25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. Choose the variable to recode from the list and click the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468360" y="3429000"/>
            <a:ext cx="151272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9"/>
          <p:cNvSpPr/>
          <p:nvPr/>
        </p:nvSpPr>
        <p:spPr>
          <a:xfrm>
            <a:off x="2050920" y="2781360"/>
            <a:ext cx="432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6588000" y="1628640"/>
            <a:ext cx="25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 Choose a name and label for the new recoded variable and click “Chang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"/>
          <p:cNvSpPr/>
          <p:nvPr/>
        </p:nvSpPr>
        <p:spPr>
          <a:xfrm>
            <a:off x="4643280" y="1916280"/>
            <a:ext cx="1440000" cy="1441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2340000" y="3716280"/>
            <a:ext cx="180036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4067280" y="537372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. Click on “Old and New Values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 flipV="1">
            <a:off x="900000" y="3715920"/>
            <a:ext cx="71640" cy="136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 flipV="1">
            <a:off x="1692360" y="3068280"/>
            <a:ext cx="360360" cy="35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5"/>
          <p:cNvSpPr/>
          <p:nvPr/>
        </p:nvSpPr>
        <p:spPr>
          <a:xfrm flipH="1">
            <a:off x="6084720" y="2349360"/>
            <a:ext cx="432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6"/>
          <p:cNvSpPr/>
          <p:nvPr/>
        </p:nvSpPr>
        <p:spPr>
          <a:xfrm flipH="1" flipV="1">
            <a:off x="3347640" y="4149360"/>
            <a:ext cx="1079640" cy="1150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7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5691240" cy="3816360"/>
          </a:xfrm>
          <a:prstGeom prst="rect">
            <a:avLst/>
          </a:prstGeom>
          <a:ln w="0">
            <a:noFill/>
          </a:ln>
        </p:spPr>
      </p:pic>
      <p:sp>
        <p:nvSpPr>
          <p:cNvPr id="218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ecode in SPSS - Recoding ethnicity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250920" y="537372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. Select the old value from the left.  If a there are consecutive numbers changing to the same new value, you can use a r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6300720" y="1484280"/>
            <a:ext cx="28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. Type in the new value.  If the value is to be the same, you can click on “Copy old valu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6300720" y="2997360"/>
            <a:ext cx="28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. Click on “Add” and repeat for the next ol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9"/>
          <p:cNvSpPr/>
          <p:nvPr/>
        </p:nvSpPr>
        <p:spPr>
          <a:xfrm>
            <a:off x="684360" y="1773360"/>
            <a:ext cx="1942920" cy="33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1"/>
          <p:cNvSpPr/>
          <p:nvPr/>
        </p:nvSpPr>
        <p:spPr>
          <a:xfrm>
            <a:off x="3780000" y="1989000"/>
            <a:ext cx="2087280" cy="649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755640" y="981000"/>
            <a:ext cx="3887640" cy="631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Comic Sans MS"/>
              </a:rPr>
              <a:t>Values 1 to 3 into new value 1 (Wh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Comic Sans MS"/>
              </a:rPr>
              <a:t>Values 4 to 16 into new value 2 (ME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4"/>
          <p:cNvSpPr/>
          <p:nvPr/>
        </p:nvSpPr>
        <p:spPr>
          <a:xfrm flipV="1">
            <a:off x="468360" y="4005360"/>
            <a:ext cx="28728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5"/>
          <p:cNvSpPr/>
          <p:nvPr/>
        </p:nvSpPr>
        <p:spPr>
          <a:xfrm flipH="1">
            <a:off x="5724000" y="1700280"/>
            <a:ext cx="57636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6"/>
          <p:cNvSpPr/>
          <p:nvPr/>
        </p:nvSpPr>
        <p:spPr>
          <a:xfrm>
            <a:off x="2987640" y="3357720"/>
            <a:ext cx="93672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7"/>
          <p:cNvSpPr/>
          <p:nvPr/>
        </p:nvSpPr>
        <p:spPr>
          <a:xfrm flipH="1">
            <a:off x="3995280" y="3429000"/>
            <a:ext cx="2305080" cy="71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6300720" y="414972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. Click “Continue” and “O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6300720" y="4941720"/>
            <a:ext cx="28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. Check the new variable looks correct, compared with last one, and label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Comput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-468720" y="1052640"/>
            <a:ext cx="961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ode” made up a new variable by combining values in an old one.  COMPUTE makes up a new variable by combining other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A new variable where males over 35 are value 1, and everyone else is value 0.  We need to combine two existing variables for “sex” and “ag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are trying to create a statement which s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both  “sex” is “male”, and “age” variable equals “over 35”, code as “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either “sex” isn’t “male”, or “age” isn’t  “over 35”, code as “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now need to recreate this kind of statement in SP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5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6086160" cy="4895640"/>
          </a:xfrm>
          <a:prstGeom prst="rect">
            <a:avLst/>
          </a:prstGeom>
          <a:ln w="0">
            <a:noFill/>
          </a:ln>
        </p:spPr>
      </p:pic>
      <p:sp>
        <p:nvSpPr>
          <p:cNvPr id="236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Compute in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-468720" y="1052640"/>
            <a:ext cx="961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e a note of the variables and values you’l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the menu –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ransform &gt; Comp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6696000" y="16286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Type the name of the new variable. Label the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6696000" y="270828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Type the number of the first value you wish to make a code for (usually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6696000" y="4724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 Click on “If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1"/>
          <p:cNvSpPr/>
          <p:nvPr/>
        </p:nvSpPr>
        <p:spPr>
          <a:xfrm>
            <a:off x="0" y="2205000"/>
            <a:ext cx="183528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3"/>
          <p:cNvSpPr/>
          <p:nvPr/>
        </p:nvSpPr>
        <p:spPr>
          <a:xfrm>
            <a:off x="1979640" y="2205000"/>
            <a:ext cx="43164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4"/>
          <p:cNvSpPr/>
          <p:nvPr/>
        </p:nvSpPr>
        <p:spPr>
          <a:xfrm>
            <a:off x="324000" y="5877000"/>
            <a:ext cx="720720" cy="504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 flipH="1">
            <a:off x="1547640" y="1844640"/>
            <a:ext cx="482472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8"/>
          <p:cNvSpPr/>
          <p:nvPr/>
        </p:nvSpPr>
        <p:spPr>
          <a:xfrm flipH="1" flipV="1">
            <a:off x="2484000" y="2565360"/>
            <a:ext cx="3816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9"/>
          <p:cNvSpPr/>
          <p:nvPr/>
        </p:nvSpPr>
        <p:spPr>
          <a:xfrm flipH="1">
            <a:off x="1258560" y="5013360"/>
            <a:ext cx="504180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5" descr=""/>
          <p:cNvPicPr/>
          <p:nvPr/>
        </p:nvPicPr>
        <p:blipFill>
          <a:blip r:embed="rId1"/>
          <a:stretch/>
        </p:blipFill>
        <p:spPr>
          <a:xfrm>
            <a:off x="0" y="1628640"/>
            <a:ext cx="6238800" cy="4608720"/>
          </a:xfrm>
          <a:prstGeom prst="rect">
            <a:avLst/>
          </a:prstGeom>
          <a:ln w="0">
            <a:noFill/>
          </a:ln>
        </p:spPr>
      </p:pic>
      <p:sp>
        <p:nvSpPr>
          <p:cNvPr id="249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Compute in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6372360" y="198900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. Click on “Include if case satisfied condi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6300720" y="2852640"/>
            <a:ext cx="2843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. Make up the formula using the variable list on the left, and the symbols and numbers in the midd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B Use symbol “|” for the word “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6443640" y="55879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. Click on Continue when the statement is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179280" y="98100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trying to create a formula in the white box that corresponds to our first written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8"/>
          <p:cNvSpPr/>
          <p:nvPr/>
        </p:nvSpPr>
        <p:spPr>
          <a:xfrm>
            <a:off x="1908000" y="2133720"/>
            <a:ext cx="2303640" cy="21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9"/>
          <p:cNvSpPr/>
          <p:nvPr/>
        </p:nvSpPr>
        <p:spPr>
          <a:xfrm>
            <a:off x="0" y="3573360"/>
            <a:ext cx="180036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6"/>
          <p:cNvSpPr/>
          <p:nvPr/>
        </p:nvSpPr>
        <p:spPr>
          <a:xfrm flipH="1">
            <a:off x="4284360" y="2205000"/>
            <a:ext cx="2087640" cy="7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7"/>
          <p:cNvSpPr/>
          <p:nvPr/>
        </p:nvSpPr>
        <p:spPr>
          <a:xfrm flipH="1">
            <a:off x="3851280" y="3068640"/>
            <a:ext cx="244800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8"/>
          <p:cNvSpPr/>
          <p:nvPr/>
        </p:nvSpPr>
        <p:spPr>
          <a:xfrm>
            <a:off x="2627280" y="3860640"/>
            <a:ext cx="360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 flipH="1" flipV="1">
            <a:off x="3132000" y="4076640"/>
            <a:ext cx="31687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1" descr=""/>
          <p:cNvPicPr/>
          <p:nvPr/>
        </p:nvPicPr>
        <p:blipFill>
          <a:blip r:embed="rId1"/>
          <a:stretch/>
        </p:blipFill>
        <p:spPr>
          <a:xfrm>
            <a:off x="4859280" y="2133720"/>
            <a:ext cx="3591000" cy="1508040"/>
          </a:xfrm>
          <a:prstGeom prst="rect">
            <a:avLst/>
          </a:prstGeom>
          <a:ln w="0">
            <a:noFill/>
          </a:ln>
        </p:spPr>
      </p:pic>
      <p:sp>
        <p:nvSpPr>
          <p:cNvPr id="262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Compute in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-468720" y="1052640"/>
            <a:ext cx="961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 at the first COMPUTE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395280" y="177336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. Click on Paste to create a Syntax with the first part of our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395280" y="414972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. Click on “If” and do steps 6 to 9 with the second part of our statement so that both statements are now in the Syntax 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395280" y="227664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. Open  COMPUTE again and type in 0 for the secon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5"/>
          <p:cNvSpPr/>
          <p:nvPr/>
        </p:nvSpPr>
        <p:spPr>
          <a:xfrm>
            <a:off x="7956720" y="2924280"/>
            <a:ext cx="360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6"/>
          <p:cNvSpPr/>
          <p:nvPr/>
        </p:nvSpPr>
        <p:spPr>
          <a:xfrm>
            <a:off x="3995640" y="2565360"/>
            <a:ext cx="396108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6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5905440" cy="3452760"/>
          </a:xfrm>
          <a:prstGeom prst="rect">
            <a:avLst/>
          </a:prstGeom>
          <a:ln w="0">
            <a:noFill/>
          </a:ln>
        </p:spPr>
      </p:pic>
      <p:sp>
        <p:nvSpPr>
          <p:cNvPr id="271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Compute in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6372360" y="1413000"/>
            <a:ext cx="27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. Make sure there is only one Execute line, at the end (delete any other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6372360" y="270828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. Select and run the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324000" y="5732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. Check that the new variable looks right (right cases selected), and label the new value in Variable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9"/>
          <p:cNvSpPr/>
          <p:nvPr/>
        </p:nvSpPr>
        <p:spPr>
          <a:xfrm flipH="1">
            <a:off x="1186920" y="1916280"/>
            <a:ext cx="5185080" cy="79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8"/>
          <p:cNvSpPr/>
          <p:nvPr/>
        </p:nvSpPr>
        <p:spPr>
          <a:xfrm>
            <a:off x="179280" y="2565360"/>
            <a:ext cx="93672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2" descr=""/>
          <p:cNvPicPr/>
          <p:nvPr/>
        </p:nvPicPr>
        <p:blipFill>
          <a:blip r:embed="rId2"/>
          <a:stretch/>
        </p:blipFill>
        <p:spPr>
          <a:xfrm>
            <a:off x="179280" y="4797360"/>
            <a:ext cx="3390840" cy="86688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3"/>
          <p:cNvSpPr/>
          <p:nvPr/>
        </p:nvSpPr>
        <p:spPr>
          <a:xfrm>
            <a:off x="3564000" y="4724280"/>
            <a:ext cx="55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running the command, the bottom right of the spreadsheet says “Running EXECUTE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4"/>
          <p:cNvSpPr/>
          <p:nvPr/>
        </p:nvSpPr>
        <p:spPr>
          <a:xfrm>
            <a:off x="250920" y="5300640"/>
            <a:ext cx="129672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 flipH="1">
            <a:off x="1908000" y="5157720"/>
            <a:ext cx="1657440" cy="1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he story so far… Ways of describing a variab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-468720" y="1052640"/>
            <a:ext cx="961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ature of da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t produ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ing (turn into numerical by giving values where pos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mer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evel of measure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t produces (how we can measure the valu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d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a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ther we are treating it as 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au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ffe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our te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pendent (or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utcom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ependent (or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xplanator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7" descr=""/>
          <p:cNvPicPr/>
          <p:nvPr/>
        </p:nvPicPr>
        <p:blipFill>
          <a:blip r:embed="rId1"/>
          <a:stretch/>
        </p:blipFill>
        <p:spPr>
          <a:xfrm>
            <a:off x="8028000" y="501336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283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eighting data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-468720" y="126792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all data is only collected in a randomly sampled survey, demographic characteristics (e.g. gender, social class, age) are used to compare the sample with the wider population to see how typical it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re is found to be differences, statisticians can provide a formula which, when run in SPSS, will realign the sample with the population.  The formula is presented as a variable, that can be turned on or of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known as “weighting” the data.  SPSS has an weighting button to turn the weighting on, and this should be done before any statistical test is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BCS, the weighting variable is at the end of the datas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ivwgt - Respondent weight after calib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5"/>
          <p:cNvSpPr/>
          <p:nvPr/>
        </p:nvSpPr>
        <p:spPr>
          <a:xfrm>
            <a:off x="8028000" y="5013360"/>
            <a:ext cx="692280" cy="590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10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867120" cy="2504880"/>
          </a:xfrm>
          <a:prstGeom prst="rect">
            <a:avLst/>
          </a:prstGeom>
          <a:ln w="0">
            <a:noFill/>
          </a:ln>
        </p:spPr>
      </p:pic>
      <p:sp>
        <p:nvSpPr>
          <p:cNvPr id="288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eighting BC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-468360" y="126792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ck on the weighing scales icon, or via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 “weight cases b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 Either press OK to activate the weighting, or press Paste to produce a readout of your action (and then run the synta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 Always take off the weighting before saving a fil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3995640" y="1916280"/>
            <a:ext cx="468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 From near end of list on the left hand side, select the weighting variable “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pondent weight after calibr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 and click on the arrow to bring it across to the little white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7"/>
          <p:cNvSpPr/>
          <p:nvPr/>
        </p:nvSpPr>
        <p:spPr>
          <a:xfrm>
            <a:off x="1979640" y="2349360"/>
            <a:ext cx="1295280" cy="28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 flipV="1">
            <a:off x="684360" y="2852640"/>
            <a:ext cx="1295280" cy="165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1" descr=""/>
          <p:cNvPicPr/>
          <p:nvPr/>
        </p:nvPicPr>
        <p:blipFill>
          <a:blip r:embed="rId2"/>
          <a:stretch/>
        </p:blipFill>
        <p:spPr>
          <a:xfrm>
            <a:off x="6948360" y="1268280"/>
            <a:ext cx="428760" cy="4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PSS SYNTAX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324000" y="1268280"/>
            <a:ext cx="280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 time you run an process, the output log will give you the syntax outlining what you told SPSS to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"/>
          <p:cNvPicPr/>
          <p:nvPr/>
        </p:nvPicPr>
        <p:blipFill>
          <a:blip r:embed="rId1"/>
          <a:stretch/>
        </p:blipFill>
        <p:spPr>
          <a:xfrm>
            <a:off x="3959280" y="1125360"/>
            <a:ext cx="5184720" cy="2090880"/>
          </a:xfrm>
          <a:prstGeom prst="rect">
            <a:avLst/>
          </a:prstGeom>
          <a:ln w="0">
            <a:noFill/>
          </a:ln>
        </p:spPr>
      </p:pic>
      <p:sp>
        <p:nvSpPr>
          <p:cNvPr id="299" name="Line 7"/>
          <p:cNvSpPr/>
          <p:nvPr/>
        </p:nvSpPr>
        <p:spPr>
          <a:xfrm flipV="1">
            <a:off x="3203640" y="1844280"/>
            <a:ext cx="1225440" cy="7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324000" y="350028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el and save this as you go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0" descr=""/>
          <p:cNvPicPr/>
          <p:nvPr/>
        </p:nvPicPr>
        <p:blipFill>
          <a:blip r:embed="rId2"/>
          <a:stretch/>
        </p:blipFill>
        <p:spPr>
          <a:xfrm>
            <a:off x="250920" y="3987720"/>
            <a:ext cx="7345440" cy="2870280"/>
          </a:xfrm>
          <a:prstGeom prst="rect">
            <a:avLst/>
          </a:prstGeom>
          <a:ln w="0">
            <a:noFill/>
          </a:ln>
        </p:spPr>
      </p:pic>
      <p:sp>
        <p:nvSpPr>
          <p:cNvPr id="302" name="Oval 11"/>
          <p:cNvSpPr/>
          <p:nvPr/>
        </p:nvSpPr>
        <p:spPr>
          <a:xfrm>
            <a:off x="468360" y="4149720"/>
            <a:ext cx="194292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2"/>
          <p:cNvSpPr/>
          <p:nvPr/>
        </p:nvSpPr>
        <p:spPr>
          <a:xfrm>
            <a:off x="3059280" y="4149720"/>
            <a:ext cx="280800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3"/>
          <p:cNvSpPr/>
          <p:nvPr/>
        </p:nvSpPr>
        <p:spPr>
          <a:xfrm>
            <a:off x="3059280" y="5877000"/>
            <a:ext cx="3600360" cy="358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4"/>
          <p:cNvSpPr/>
          <p:nvPr/>
        </p:nvSpPr>
        <p:spPr>
          <a:xfrm>
            <a:off x="1116000" y="3860640"/>
            <a:ext cx="576360" cy="28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5"/>
          <p:cNvSpPr/>
          <p:nvPr/>
        </p:nvSpPr>
        <p:spPr>
          <a:xfrm>
            <a:off x="1042920" y="3860640"/>
            <a:ext cx="237672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PSS SYNTAX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-468720" y="126792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SS stores deals in Syntax language.  It is a straightforward to follow “formal logic” language (e.g. If x variable = 1, then do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essential that you keep a syntax record of every process that was done; so that you c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 in the future how variables were der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n a syntax again without going though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ve the syntax in the output file.  You can then run the syntax again by copying and pasting into the Syntax Edi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unning a process using existing SPSS SYNTAX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1332000" y="3933720"/>
            <a:ext cx="5960880" cy="23846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6"/>
          <p:cNvSpPr/>
          <p:nvPr/>
        </p:nvSpPr>
        <p:spPr>
          <a:xfrm>
            <a:off x="611280" y="1341360"/>
            <a:ext cx="78483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 and copy a syntax command from a saved output log file (without any of your labels or head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n the Syntax Editor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ile&gt;New&gt;Synta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ste the command into the Syntax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ing sure that the command lines are still highlighted (otherwise, select them again), run the selection (Run&gt;Sel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7"/>
          <p:cNvSpPr/>
          <p:nvPr/>
        </p:nvSpPr>
        <p:spPr>
          <a:xfrm>
            <a:off x="900000" y="4653000"/>
            <a:ext cx="3816360" cy="180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8"/>
          <p:cNvSpPr/>
          <p:nvPr/>
        </p:nvSpPr>
        <p:spPr>
          <a:xfrm flipH="1">
            <a:off x="2556000" y="3716280"/>
            <a:ext cx="71280" cy="9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9"/>
          <p:cNvSpPr/>
          <p:nvPr/>
        </p:nvSpPr>
        <p:spPr>
          <a:xfrm flipH="1">
            <a:off x="6732720" y="3716280"/>
            <a:ext cx="50328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5364000" y="4365720"/>
            <a:ext cx="1981440" cy="1368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he story so far… Types of analysi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-468720" y="1052640"/>
            <a:ext cx="961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nivari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tests on one variable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equencies (percen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ver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ivari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effect of one variable on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osstab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sting whether variables linked (tests of associ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sting whether link is causal (correl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ultivari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which of many variables has strongest effect on 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gression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3" descr=""/>
          <p:cNvPicPr/>
          <p:nvPr/>
        </p:nvPicPr>
        <p:blipFill>
          <a:blip r:embed="rId1"/>
          <a:stretch/>
        </p:blipFill>
        <p:spPr>
          <a:xfrm>
            <a:off x="3851280" y="2781360"/>
            <a:ext cx="3384720" cy="1485720"/>
          </a:xfrm>
          <a:prstGeom prst="rect">
            <a:avLst/>
          </a:prstGeom>
          <a:ln w="0">
            <a:noFill/>
          </a:ln>
        </p:spPr>
      </p:pic>
      <p:sp>
        <p:nvSpPr>
          <p:cNvPr id="63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-468720" y="1052280"/>
            <a:ext cx="96123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readsheet package that allows you to run statistical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vie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able view where you set up th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view where you enter and analyse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3240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he story so far…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260360" y="328464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Ta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2556000" y="3500280"/>
            <a:ext cx="1152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3708360" y="3139920"/>
            <a:ext cx="3600360" cy="648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0" y="450864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Comic Sans MS"/>
              </a:rPr>
              <a:t>BCS in SPSS Variable View</a:t>
            </a: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2"/>
          <a:stretch/>
        </p:blipFill>
        <p:spPr>
          <a:xfrm>
            <a:off x="179280" y="4862520"/>
            <a:ext cx="80694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-468720" y="1268280"/>
            <a:ext cx="9612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mple of adults 16 year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just England and Wales (different version elsew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6983 cases in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911 variables in full dataset; 377 variables in slimmed down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3240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he story so far… British Crime Survey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116000" y="357336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Variable by case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4500720" y="3573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BCS in SP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1"/>
          <a:stretch/>
        </p:blipFill>
        <p:spPr>
          <a:xfrm>
            <a:off x="3851280" y="4005360"/>
            <a:ext cx="5113440" cy="2000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2"/>
          <a:stretch/>
        </p:blipFill>
        <p:spPr>
          <a:xfrm>
            <a:off x="395280" y="4076640"/>
            <a:ext cx="324000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-468720" y="1268280"/>
            <a:ext cx="9612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en-GB" sz="2400" spc="-1" strike="noStrike">
                <a:solidFill>
                  <a:srgbClr val="bfbfbf"/>
                </a:solidFill>
                <a:latin typeface="Arial"/>
              </a:rPr>
              <a:t> of adults 16 year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fbfbf"/>
                </a:solidFill>
                <a:latin typeface="Arial"/>
              </a:rPr>
              <a:t>Now just England and Wales (different version elsew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fbfbf"/>
                </a:solidFill>
                <a:latin typeface="Arial"/>
              </a:rPr>
              <a:t>46983 cases in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911 variables in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240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he story so far… British Crime Survey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187280" y="335772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Variable by case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4500720" y="335772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BCS in SP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3851280" y="3646440"/>
            <a:ext cx="5113440" cy="2000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2"/>
          <a:stretch/>
        </p:blipFill>
        <p:spPr>
          <a:xfrm>
            <a:off x="395280" y="3645000"/>
            <a:ext cx="3240000" cy="1946160"/>
          </a:xfrm>
          <a:prstGeom prst="rect">
            <a:avLst/>
          </a:prstGeom>
          <a:ln w="0">
            <a:noFill/>
          </a:ln>
        </p:spPr>
      </p:pic>
      <p:sp>
        <p:nvSpPr>
          <p:cNvPr id="85" name="Oval 8"/>
          <p:cNvSpPr/>
          <p:nvPr/>
        </p:nvSpPr>
        <p:spPr>
          <a:xfrm>
            <a:off x="684360" y="1197000"/>
            <a:ext cx="1655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900000" y="2349360"/>
            <a:ext cx="7775640" cy="3569760"/>
          </a:xfrm>
          <a:prstGeom prst="rect">
            <a:avLst/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is a ‘sample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1"/>
          <p:cNvSpPr/>
          <p:nvPr/>
        </p:nvSpPr>
        <p:spPr>
          <a:xfrm>
            <a:off x="1258920" y="1916280"/>
            <a:ext cx="144360" cy="288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12"/>
          <p:cNvSpPr/>
          <p:nvPr/>
        </p:nvSpPr>
        <p:spPr>
          <a:xfrm>
            <a:off x="2556000" y="1557360"/>
            <a:ext cx="3528720" cy="647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ampling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-468720" y="98064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ing’ is the selection of a smaller number of cases than the population which should b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presentati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at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many cases do we need to sel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Sampling this lecture thea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ampling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-468720" y="98064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ing’ is the selection of a smaller number of cases than the population which should b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presentati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at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many cases do we need to sel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Sampling this lecture thea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igher the proportion of cases I have, the higher the probability that the sample will be representative. If I have all the cases in the population, I don’t need statistic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statistical tests employ similar probability measures to assess statistical signific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5:26:14Z</dcterms:created>
  <dc:creator>Dr Neal Hazel</dc:creator>
  <dc:description/>
  <dc:language>en-US</dc:language>
  <cp:lastModifiedBy>ITS</cp:lastModifiedBy>
  <dcterms:modified xsi:type="dcterms:W3CDTF">2015-05-05T08:15:11Z</dcterms:modified>
  <cp:revision>156</cp:revision>
  <dc:subject/>
  <dc:title>Slide 1</dc:title>
</cp:coreProperties>
</file>