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E905-56B7-41FE-98BD-4A45CF973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2E67-73AD-4EE7-A892-5E11FF43D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4724-377B-4D09-9373-0595621B5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098D-A115-4730-B195-9BF49F933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F6C0-B68B-4A9A-A8B6-04573B286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444-3780-4A4F-A262-A24682C20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23F4-18AA-4713-9B5A-DEE46B46A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366-464B-41C4-A2C7-9937C7CA0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CA5D-D899-46EC-A878-7324694FB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2263-95CD-4B6F-B23A-E34B606FA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74D4-348C-4803-9C77-C4172EB7F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C784-2E25-4F4B-8F7E-8260FA8C6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8125-9894-4F69-BD44-88B8BA2BA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8257-482D-414C-95A0-7BDE17B89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B29-D8B1-45E9-A52B-A25A167D3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3CCC-DE02-4A04-8416-9ADB8CA05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9E35-3729-47BC-82E7-EA6CEC69C6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5407-3411-487B-8953-623816F4D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5016-DF28-4004-A568-4AA0B44F1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76B-F321-4C6D-B784-432451C4E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B2E3-FF1B-4B19-A8E0-5B564253A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D662-E23B-442C-8DB3-9A3D7895D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5BEB-F66C-4660-8FDB-5C4CCBCD4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176A-101C-4E24-9777-F5FBC0021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4758-ADDB-4A33-9C10-86A9900B9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2C07-CFCF-42B1-B2F4-7BED246D4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E406-3F73-4FB3-963C-9D7EF3605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EDF4-F327-47A3-A313-EB9FCAD62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A8F2-19A5-410F-B536-5E8CF8842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EBF7-0D20-4218-B709-FD0B72578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8945-AF29-44D6-B6D1-C87A3A508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8BB7-2B17-4EF0-B667-33FD31460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13BA-2AE6-40C0-B830-B9CC06D97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E9F6-C68B-4E4E-921A-B98DC8B09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2205-DC7A-4EAC-8D23-3B20D17BA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8E32-1CFD-4F00-AD6F-955995E48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FC8-7298-45E2-9D60-2F1C8773FC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Intro to datasets, variables, BCS and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pclipart.com/cartoon/more_cartoons/Mad_scientist_caricature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alysing Social Data session 1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duction to data, variables, BCS and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ype of data/values that the variable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erical – can be averaged, run statistical test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– words that need to be coded into numbers in order to analy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male/female as answers, open question about whether enjoyed last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different categories, but you can’t rank or order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eligion, country of birth, marit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s not higher than the other, simply differ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means just different “nam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categories that you can rank o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Degree classification, strength of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val Sc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ases have natural val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categories, always think of these variables in terms of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emperature, time, number of….crimes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alysis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inal is more precise than nominal, and interval/ratio is more precise than 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we change a variable from one type to another, to suit a particular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hange age range into groups of ages (1-10,11-20,21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changing what type of variable into what othe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468720" y="1601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being affected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variables whose values we consi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pe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on other variab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other variables have o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doing the affecting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anatory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they have on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2349360"/>
          <a:ext cx="8675640" cy="371016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355760"/>
                <a:gridCol w="1656000"/>
                <a:gridCol w="2193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w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rk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p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50920" y="2349360"/>
          <a:ext cx="8642160" cy="4146840"/>
        </p:xfrm>
        <a:graphic>
          <a:graphicData uri="http://schemas.openxmlformats.org/drawingml/2006/table">
            <a:tbl>
              <a:tblPr/>
              <a:tblGrid>
                <a:gridCol w="2376360"/>
                <a:gridCol w="1513080"/>
                <a:gridCol w="1511280"/>
                <a:gridCol w="1512720"/>
                <a:gridCol w="172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 or str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re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f 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mea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or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s and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1 variable alone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ercentages,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2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exploring the relationship between the an independent variable and a dependent variable using crosstabs and chi-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3 or more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omparing the relative effect of several independent variables on a 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running survey (started in 1982) – now an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ily a victimisation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onsored by the Hom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7/08 version conducted by BMRB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ed face-to-face using a laptop (CAPI) in private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 originally stood for Statistical Package for the Soci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since been adopted as the industry standard for quantitative analysis in across all the sciences (including Market Rese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essentially a software package that allows you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dataset file and entering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organise or manipulate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your data by running statistic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your data in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SPSS data fi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open up an SPSS file you will see a spreadsheet with two tabs (data view and variable view). Click on the tab to choose you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iew is the normal screen, and this is like a Variable x Case matrix (with BC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4067280" y="2349360"/>
            <a:ext cx="3384360" cy="1486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33200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1763640" y="4983120"/>
          <a:ext cx="2448000" cy="147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983120"/>
                    <a:ext cx="244800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0"/>
          <p:cNvSpPr/>
          <p:nvPr/>
        </p:nvSpPr>
        <p:spPr>
          <a:xfrm>
            <a:off x="1763640" y="4724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076720" y="4724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SPSS data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627280" y="306864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3780000" y="2708280"/>
            <a:ext cx="360036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4"/>
          <a:stretch/>
        </p:blipFill>
        <p:spPr>
          <a:xfrm>
            <a:off x="5219640" y="5013360"/>
            <a:ext cx="2790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aim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the end of the lecture, you will unde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statistics 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in a statistics package look lik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variables are (dependent AND independ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levels of measurement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ypes of analysis there are in statist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you will recogn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itish Crime Survey (B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762600" cy="5484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ata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Line 4"/>
          <p:cNvSpPr/>
          <p:nvPr/>
        </p:nvSpPr>
        <p:spPr>
          <a:xfrm flipH="1" flipV="1">
            <a:off x="1042560" y="4724280"/>
            <a:ext cx="289080" cy="9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324000" y="263700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5661000"/>
            <a:ext cx="244944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row is a differen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755640" y="1989000"/>
            <a:ext cx="838836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 flipV="1">
            <a:off x="7092720" y="2565000"/>
            <a:ext cx="501480" cy="1438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300720" y="3933720"/>
            <a:ext cx="262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olumn is a differen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H="1" flipV="1">
            <a:off x="3851280" y="4508280"/>
            <a:ext cx="649440" cy="64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059280" y="256536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24360" y="5157720"/>
            <a:ext cx="244944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ell contains the value of the variable for each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0" y="1052640"/>
            <a:ext cx="8629560" cy="5176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9" name="Line 6"/>
          <p:cNvSpPr/>
          <p:nvPr/>
        </p:nvSpPr>
        <p:spPr>
          <a:xfrm flipH="1" flipV="1">
            <a:off x="468360" y="4508280"/>
            <a:ext cx="216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0" y="1989000"/>
            <a:ext cx="790560" cy="251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6"/>
          <p:cNvSpPr/>
          <p:nvPr/>
        </p:nvSpPr>
        <p:spPr>
          <a:xfrm>
            <a:off x="755640" y="1700280"/>
            <a:ext cx="8388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6084720" y="2349360"/>
            <a:ext cx="21600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822920" y="4797360"/>
            <a:ext cx="4321080" cy="580680"/>
          </a:xfrm>
          <a:prstGeom prst="rect">
            <a:avLst/>
          </a:prstGeom>
          <a:solidFill>
            <a:srgbClr val="daede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These are the various definitions that need to be made for each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50920" y="5661000"/>
            <a:ext cx="3024000" cy="824040"/>
          </a:xfrm>
          <a:prstGeom prst="rect">
            <a:avLst/>
          </a:prstGeom>
          <a:solidFill>
            <a:srgbClr val="bbe0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Variable view, these numbers refer to the variables rather than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9528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Type column, is where you see the type of values – e.g. numeric or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1636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Values column is where you see the different possible values (responses) for each vari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33760" cy="395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4605480" y="1125360"/>
            <a:ext cx="40384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64000" y="4797360"/>
            <a:ext cx="331344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easure column is where you see level of measurement the variable produ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5640" y="4869000"/>
            <a:ext cx="3313080" cy="131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issing column is where you tell SPSS if there are any values you want left out of statistics tests (e.g. Don’t Know answ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073320" cy="37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384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of natural sciences to explain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er is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phrase = measurabl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ounts as knowle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ble facts that you c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se and effect relationships betwe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ematical formula able to predict in other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Pj04387530000[1]"/>
          <p:cNvPicPr/>
          <p:nvPr/>
        </p:nvPicPr>
        <p:blipFill>
          <a:blip r:embed="rId1"/>
          <a:stretch/>
        </p:blipFill>
        <p:spPr>
          <a:xfrm>
            <a:off x="6948360" y="2421000"/>
            <a:ext cx="1541520" cy="228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4338450000[1]"/>
          <p:cNvPicPr/>
          <p:nvPr/>
        </p:nvPicPr>
        <p:blipFill>
          <a:blip r:embed="rId2"/>
          <a:stretch/>
        </p:blipFill>
        <p:spPr>
          <a:xfrm>
            <a:off x="6659640" y="469908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lightenment period (reaction to superstition and chu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rch for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 of mathematical formula to expla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ll dominates our thinking today – policymakers wa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uctiv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as 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gt; Hypothesis &gt; Collect measurable data on variables &gt; Analyse data &gt; Confirm or reject hypothesis &gt;Revis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using quantitative data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d scientist caric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3573360"/>
            <a:ext cx="1368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rules to generalise to all [also one definition of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 predict [can be, but doesn’t have to be,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min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nd protective factors – predicting who will offend, or who is most at risk of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educational attainment affects attitudes to ‘oth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ypes of Data – Quantitative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s of things (spread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 numbers voting for Labour, income, 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collect it (methods of data collecti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 that you can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analyse it (methods of data analysi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 it into statistical tests, so you can see how asso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Pj04385450000[1]"/>
          <p:cNvPicPr/>
          <p:nvPr/>
        </p:nvPicPr>
        <p:blipFill>
          <a:blip r:embed="rId1"/>
          <a:stretch/>
        </p:blipFill>
        <p:spPr>
          <a:xfrm>
            <a:off x="7020000" y="981000"/>
            <a:ext cx="1728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elling a story from quantitative data -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1125360"/>
          <a:ext cx="5327640" cy="4954680"/>
        </p:xfrm>
        <a:graphic>
          <a:graphicData uri="http://schemas.openxmlformats.org/drawingml/2006/table">
            <a:tbl>
              <a:tblPr/>
              <a:tblGrid>
                <a:gridCol w="4174920"/>
                <a:gridCol w="115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s for contacting most recent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of total attend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 child mixes with others of same 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use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meet other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from child c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ind out about local family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ed to know about what they 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ed by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behavi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becoming 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talk about family 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76"/>
          <p:cNvSpPr/>
          <p:nvPr/>
        </p:nvSpPr>
        <p:spPr>
          <a:xfrm>
            <a:off x="0" y="647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9"/>
          <p:cNvSpPr/>
          <p:nvPr/>
        </p:nvSpPr>
        <p:spPr>
          <a:xfrm>
            <a:off x="6516720" y="1268280"/>
            <a:ext cx="2627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Ghate &amp; Hazel (2002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renting in Poor Environ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ndon: J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of 175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ing about their stresses and use of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hat do raw quantitative data look like?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by case matri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-684360" y="1773000"/>
            <a:ext cx="9360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964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339920"/>
                <a:gridCol w="1511280"/>
                <a:gridCol w="19447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efinition of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characteristic, attribute, or proper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easura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more than one possi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A ‘variable’ with only one value is called a consta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sex, age, occupation, voting preference, favourite book, what had for breakfast, what time arrived in thi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find variables described/distinguished in three main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4:35Z</dcterms:modified>
  <cp:revision>127</cp:revision>
  <dc:subject/>
  <dc:title>Slide 1</dc:title>
</cp:coreProperties>
</file>