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DDF-30F4-4E51-B4CE-D54D4D412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8CB8-5D29-4EAA-983D-7CD47E5E9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D9E9-7F87-4C7C-A44F-AF143EFD3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B7AD-9D46-4E6C-9FB7-99C1B9B89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0DBB-E317-40E5-879C-353FE99AB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2E5C-7542-4097-8D8F-1619B2A21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C4EE-A6B7-4D23-AF7E-4F070987A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6CA1-20D4-43D0-8677-649C373E0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B0A7-226E-4441-9DE3-B3C36D3FA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1101-C0C8-4F83-8A73-6EF1EF279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0743-2633-49A5-851D-594A7C5EE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2CED-CA06-42B2-A60C-F31FCDF7A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68C4-7AED-41E0-A9D0-7136C87A9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urvey Data Analysis Module 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F20D-7525-4D1C-8C07-B00B1A32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Univariate analysis: Confidenc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rveysystem.com/sscalc.htm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how accurate we think that our frequency percentag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fidence interval states a range either side of the sample’s frequency figure, in which we are confident the “real” figure would lie if tested out on the whole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sed a lot in political opinion polls during el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Labour’s polling is 44%, plus or minus 3%.  The 3% is the confidence interval.  We can be “sure” that the real answer is somewhere between 41% and 4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never 100% “sure” that the figure will lie inside this range, so statistically we usually test to ensure 95% conf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we calculate that 19/20 times we will be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for the confidence interval depends upon the size of the sample, size of the population, and where on the 1-100% your frequency percentage 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populations, the population size isn’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cise formula for calculating 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x the square root of:     (frequency x (100-frequenc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the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ily, there are websites that can calculate confidence intervals for us: e.g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urveysystem.com/sscal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49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84280"/>
            <a:ext cx="813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:  Work out the confidence intervals for the following statistics.  What range of values can we be “sure” they will be within for the general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recent survey of 1249 parents in a nationally representative sample, it was found that 60% of respondents considered it acceptable to smack a child on their bottom with an open ha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% of parents in the same study reported having used severe physical punishment (hitting with object, shaking, bit or pinched) on their child in the pas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ond representative study of 1034 adults found that 79% considered smacking with the open hand as “justifi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Neal Hazel</cp:lastModifiedBy>
  <dcterms:modified xsi:type="dcterms:W3CDTF">2006-11-13T08:51:37Z</dcterms:modified>
  <cp:revision>86</cp:revision>
  <dc:subject/>
  <dc:title>Slide 1</dc:title>
</cp:coreProperties>
</file>