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1A8A-6D7A-4CA0-90D8-8D06E4C95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227E-C358-4AAA-8027-AFCC46EB3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2385-56EE-406D-8EA7-468EDFDFF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E0A7B-AED4-4358-B38A-FB15D70C1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5C817-79A3-4126-878E-2A9DC0C0F3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01BC6-7A59-4E3F-8694-12A5770488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4E6EC-DE79-4197-B27E-CBE4E79849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CA459-18A1-4BCF-BC24-43D33BB26D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119B9-58B1-4215-8F69-7B524474E9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06FBD-577C-477A-B7F1-3ADA72C6E3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087F6-B3A2-47ED-A2F7-59A2DD2DD3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11ED3-4329-4790-B117-F431021D3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B54ED-6AD0-42C8-81DE-FDD1134477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5CE7E-C9F1-45B5-BDD0-FDDAD72709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DFED0-BA34-482B-B1CF-E4EF467915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1203F-E561-478A-8A2B-3A8A151185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E2FB6-CB32-439A-9B13-DF53250967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D082-33D2-4575-A9B1-3ED4E3E7B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F68C-1EDC-433C-8E54-E780F4F1F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EFBF-02D8-4403-BD9E-13CBE0A04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4E28-B12C-4207-9744-61E5EA069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51FF-104D-4346-97FC-0B72ECA51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235A-8551-43DD-9AF8-A51FFB9B9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81C3-9E9B-4532-A800-FB18ACEBA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A2CC07A-B0CF-4878-BEB9-9B808364B43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B1DFF32-AE4C-4290-BB86-F2B072A0E61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46C8D6C-CF94-42C8-B392-44989195BA3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8F4A00A-E51F-459E-9234-D20BB4FB25F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2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see CBU website for detai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the response, Y,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Next week (Thursday)…. 11am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Peter Watson 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Administrator</cp:lastModifiedBy>
  <dcterms:modified xsi:type="dcterms:W3CDTF">2009-09-04T11:26:14Z</dcterms:modified>
  <cp:revision>323</cp:revision>
  <dc:subject/>
  <dc:title>Exploratory Data Analysis</dc:title>
</cp:coreProperties>
</file>