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691A-60CD-4E44-B3E5-55D29F74F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6ACC-EAA6-440F-8A15-6F8D61F4C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644B-0D82-41C7-8D80-96CA84D99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DF43-BE39-46CF-B890-14E70BE38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D1C42-58D8-4184-955C-033ACEA249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2DDC6-265E-463C-9A16-8E220709D3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57136-FF01-4557-9055-F518D38CCF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A08A9-B701-4A1B-8DF5-3BE73C8D3D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E4286-6FC2-41DF-9711-F61D1E8F92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7BB60-178F-443F-8AF5-7E448B8048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AAFD0-795F-4BFB-BAA0-FFF727F281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438C-4460-4538-BA33-8FB1E462D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5D4E8-5B20-4309-A0BA-77E88C1819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55967-D0D8-48E2-8984-701D763437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5C387-642B-4AB1-903D-90A197FABB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B092D-7A88-43BF-94C2-0089FA7513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7A65C-7121-49D6-ABCD-BB32E8D2DA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E2A8-D9AD-4D11-8220-B6F34517C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05B1-1A1E-4612-8C5B-ADE8C72AD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1B983-7FDA-4174-929D-334556228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9D33-30AB-4DAA-A4FB-43DF9AFFC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42BD-B976-4EA4-BC03-DFA3505BE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4DC2-78F9-4B47-BD36-2BC1E06B9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2622-2E5D-4483-BA3C-161E7AC18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D0A58A0-5E79-49B1-BF11-4C5BEB411DB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78C9031-31DE-45BA-B2D5-40D6C818758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A6EF852-CBF1-4E78-B2CF-DBD0C11E383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A4BA917-1B24-496D-88AF-3B88DFE4291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2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see CBU website for detai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the response, Y,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Next week (Thursday)…. 11am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Peter Watson 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Administrator</cp:lastModifiedBy>
  <dcterms:modified xsi:type="dcterms:W3CDTF">2009-09-04T11:26:14Z</dcterms:modified>
  <cp:revision>323</cp:revision>
  <dc:subject/>
  <dc:title>Exploratory Data Analysis</dc:title>
</cp:coreProperties>
</file>