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4E5D-B65A-4854-91D6-E551F596B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604F-8B11-4EC6-B15F-FD32A0A6F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87CD5-0FC7-4B88-A2AA-9D21A31B5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5EBE-FB07-47BE-B718-91E937C46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BBBE0-C969-4D1B-9164-95B03DF102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2DB0A-7009-43BB-B675-F3358688E4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D7179-3BBE-414E-8525-98D1FEE976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9894F-E727-4099-A2C0-CFC5E575C0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B2D72-28DD-4409-8689-18415F7C36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FAA70-2DDE-4521-8213-80FF4B828D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DB2A6-68B4-4D9F-9F9F-9174421BA7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A337-A06E-4430-8EC6-41A638E37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01BED-E983-4D10-BEF4-3D7E288EA4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E427F-B02C-4E9D-844D-ED22C0C693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27BBB-06EF-4DA9-BF4B-C8707129A4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885EE-C9C4-4F3F-979B-4435B64FC5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9095A-02DF-4AB3-8AEE-798238A78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90BA3-2B5C-4BBF-BBDC-DC6780C09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2322-7C97-48AC-AD92-96DE3308B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4F51-BB62-4327-927F-900D4C1DF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5F6D-0C82-4084-9E3E-8F1C1D7A0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34224-A317-42BD-BE2E-A6B70BF81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0E20-F186-47CB-B69C-A44BCCBD2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CA6F1-99C1-4604-9B1D-0AE017822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44AEE7D-4BC8-472D-BFF8-798F73384CF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AED818D-00C5-454D-B848-C6078FAB74D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4C08DBE-60DE-4FB3-8F06-728D7FF033D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607F52D-AB4D-431F-82FE-1260DB43518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hyperlink" Target="http://www-class.unl.edu/psycrs/statpage/comp.html" TargetMode="External"/><Relationship Id="rId3" Type="http://schemas.openxmlformats.org/officeDocument/2006/relationships/hyperlink" Target="http://www-class.unl.edu/psycrs/statpage/comp.html" TargetMode="External"/><Relationship Id="rId4" Type="http://schemas.openxmlformats.org/officeDocument/2006/relationships/hyperlink" Target="http://www-class.unl.edu/psycrs/statpage/comp.html" TargetMode="External"/><Relationship Id="rId5" Type="http://schemas.openxmlformats.org/officeDocument/2006/relationships/hyperlink" Target="http://www-class.unl.edu/psycrs/statpage/comp.html" TargetMode="External"/><Relationship Id="rId6" Type="http://schemas.openxmlformats.org/officeDocument/2006/relationships/hyperlink" Target="http://www-class.unl.edu/psycrs/statpage/comp.html" TargetMode="External"/><Relationship Id="rId7" Type="http://schemas.openxmlformats.org/officeDocument/2006/relationships/hyperlink" Target="http://www-class.unl.edu/psycrs/statpage/comp.html" TargetMode="External"/><Relationship Id="rId8" Type="http://schemas.openxmlformats.org/officeDocument/2006/relationships/hyperlink" Target="http://www-class.unl.edu/psycrs/statpage/comp.html" TargetMode="External"/><Relationship Id="rId9" Type="http://schemas.openxmlformats.org/officeDocument/2006/relationships/hyperlink" Target="http://www-class.unl.edu/psycrs/statpage/comp.html" TargetMode="External"/><Relationship Id="rId10" Type="http://schemas.openxmlformats.org/officeDocument/2006/relationships/hyperlink" Target="http://www-class.unl.edu/psycrs/statpage/comp.html" TargetMode="External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hyperlink" Target="http://independent.academia.edu/JohnFHall/Talks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3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38080" y="160020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600200"/>
          <a:ext cx="77724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600200"/>
          <a:ext cx="7925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925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160020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27240" y="160020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160020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 flipV="1">
            <a:off x="2590920" y="159984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3886200"/>
            <a:ext cx="327672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Semi-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as abov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class.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unl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.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5"/>
              </a:rPr>
              <a:t>edu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6"/>
              </a:rPr>
              <a:t>/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7"/>
              </a:rPr>
              <a:t>psycrs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8"/>
              </a:rPr>
              <a:t>/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9"/>
              </a:rPr>
              <a:t>statpage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0"/>
              </a:rPr>
              <a:t>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CR x age) given group, CR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 contro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-31212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-31212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20720" y="1600200"/>
          <a:ext cx="590256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600200"/>
                    <a:ext cx="5902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 flipV="1">
            <a:off x="1371600" y="18284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297180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Academia.edu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independent.academia.edu/JohnFHall/Ta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 and complex designs including analysis of co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Administrator</cp:lastModifiedBy>
  <dcterms:modified xsi:type="dcterms:W3CDTF">2009-10-15T13:04:41Z</dcterms:modified>
  <cp:revision>280</cp:revision>
  <dc:subject/>
  <dc:title>REGRESSION ANALYSIS</dc:title>
</cp:coreProperties>
</file>