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400C-4C36-4270-8D67-029A5FF7B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4AB0-C7A3-45A9-832C-478278A23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D66A-361C-40D8-B797-3F83C3BD6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E540-9D59-4226-BC9C-AF6BDFFC8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62545-F643-4564-B95D-2B0465C40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E28DE-E568-4BE6-9E3C-4F6FA582B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2726C-7277-4540-BAE2-D7185371F2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F5625-124E-4350-B916-92F7A9071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6711-DDFD-4664-975E-0ACAFBDB75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E56F7-1A8A-450F-8559-319B7361F5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9C921-5564-4625-8694-EB712A32F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A8B6-B706-4C38-9A25-274AB85C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1EC62-2994-4DCB-B29D-1ADEBBDB25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2760E-71C4-4379-B279-B0C16037ED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B0820-8AD6-454D-9D62-54025FC106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92D2-04FE-4358-A8B6-2EA8F858E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6E159-2123-4B97-9D1A-85D9AF7D0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2EBE-4324-4DD8-82C2-06C334375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5AEE-4B0A-4376-9146-69731248B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0B13-C38E-45B1-923C-662782266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48AE-636C-489E-9AFD-B5D91F0E5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E346-6718-4833-ABBD-5B677B984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BDB1-8B89-4FBB-ABAB-3D9D9933C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B90C-7476-4289-BFEF-DF08257AB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406EDFB-0CD9-42E6-BED7-2EBB6C8CFE4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FF7195D-28E6-4EF6-8AD1-BB7D11F29BF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CA53425-3E2D-48D3-A390-671E242D3BF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CD58D8-0D5E-4AF6-8162-6489215EB91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6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80060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505320"/>
            <a:ext cx="44956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7780320" cy="472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160" y="2895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133720"/>
            <a:ext cx="586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owe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19720" y="1523880"/>
          <a:ext cx="4495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495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419720" y="4038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Administrator</cp:lastModifiedBy>
  <dcterms:modified xsi:type="dcterms:W3CDTF">2009-11-06T16:33:57Z</dcterms:modified>
  <cp:revision>353</cp:revision>
  <dc:subject/>
  <dc:title>No Slide Title</dc:title>
</cp:coreProperties>
</file>