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CAE3-A82B-408B-AC93-487826D43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2628-346D-48F5-8A1C-85727078B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A059-9135-4B96-84C9-55C4F4364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7415-974C-4B1B-848E-C9DC3FF67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93D48-71B2-4B09-A10E-1F6618A088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FA690-09B7-4F05-B188-17A8227C9C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948B1-0EFA-4F33-90A8-E94BF59839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FE31E-D613-4745-8532-AA483BBECF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14CB-CF19-4E19-8812-A24BD811F4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A97FF-FBAA-4901-81E9-C9FCC2987D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72CF0-32AB-4C38-8EF1-D9190EAC95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2C3B3-D82F-424D-A6B9-9A9B2B6CF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A6900-9949-4A9F-9B9C-D4558067EB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8277C-96CF-4025-B0BE-A1DA3AFF84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2D4AA-6E5B-4451-97CE-C6C52AB03F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6010A-AEB0-4CF8-9C70-C2EB9F65E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135DE-D01C-4677-8DDE-9001C5B4C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FCEA-6274-45BE-83F1-0CE2A8B77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7E8A-5AE5-4BF6-8EE7-177DEFA13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9B98-6352-436C-97CF-FAB58D393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945A6-9839-490D-9367-C3C50189E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5211F-CD0B-4777-90FE-6F1D2CD5C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B3AA-0D62-4F63-B58B-97712A637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A6BC-0C97-43E4-AF7C-6A4A6BC4F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A68D76E-B844-45A8-A664-947F19525F5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CF311EB-8123-415A-9033-60A141C2F02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A7E2912-0D0B-4A60-B242-17E91165AA8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F197801-312B-4A30-84B3-A1EA0AE156F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60020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09-07-15T15:56:23Z</dcterms:modified>
  <cp:revision>190</cp:revision>
  <dc:subject/>
  <dc:title>8: SAMPLE SIZE DETERMINATION</dc:title>
</cp:coreProperties>
</file>