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F2DFC-096C-45F4-BE58-88FBC037D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D1804-A781-4201-BD0E-755B64248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1F97C-1A75-409E-9829-B34398CDD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21D95-FED9-439F-9609-ED4166DA8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FE75F-65CD-4CC8-9B99-01D72D73F2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8A5F2-D1E2-448D-9B6D-1ADC78F590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1FEE9-14C8-43DB-9B12-7DBB4BC255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DD724-EB47-4376-93AF-C0EE93AB63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00A9D-9976-46F3-8697-009FA395D2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5EE79-A2C9-4F9F-BE7F-CD416C4EF0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45DE4-8985-4EB9-B6A9-3DFDE92F2B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5FF44-8598-45B7-A997-0A18C4A3F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B7BA6-F833-4680-8EA8-1513150D36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86327-BA04-4FF8-A48A-66C90D1781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CD9AB-E85C-491E-BB07-6B47EF5CC0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DB5E9-97FD-4CB3-A307-6B0584A2CC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FA215-3C92-4ED7-9D46-0BC964C438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22D06-D4E5-4759-A739-20F27770F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94D53-0103-46A5-A013-B900BE47F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24D4-DBB3-4CFD-BE0E-8BEC5A870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89D7A-1A01-49CC-A1C0-BE2491986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44608-7156-47E2-AD64-DC79EC828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C0779-2F7C-4BDE-B9A2-8FBCA7F3C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040C8-7FE0-41EF-BB76-344B4443F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3CC76C8-46C2-4D89-935A-69875370D55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D7A85D1-2883-4764-8C23-3ED06D25788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B366075-E0F3-4A3D-AB1D-BDCD91BDC72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17EB860-DDFE-4E52-B8D6-40F8D6FBA87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5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2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7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36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path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6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3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7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un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solely on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ee also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299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1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ategorical Data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0-10-19T11:29:44Z</dcterms:modified>
  <cp:revision>289</cp:revision>
  <dc:subject/>
  <dc:title>REGRESSION ANALYSIS</dc:title>
</cp:coreProperties>
</file>