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049-5653-4F17-9D70-4DE9ED2F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C24-3B07-4E99-B0E0-A50F740C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83C-4EA9-4E31-92E4-D40051FA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C1A-1643-47BF-B827-D00F7841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3CF-7FFF-46CB-838B-B0614753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246-9557-46EA-8E1B-7FA6D339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532-D3BF-40C0-841C-5A3A697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D62-FE3B-4D02-9B41-DF981DC4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044-94A6-4584-A6A3-99D0E86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8D5-D841-4E6B-91EE-BB4BB75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824-B168-4B6C-9AF0-788E7C9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166-B973-47D8-A801-6F66EDF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&lt;footer&gt;</a:t>
            </a: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667F-81C9-40BA-9F32-06E82DC7BC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0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0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B89-70B2-4F4F-8D5A-C7F2DFEBE2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E71-0161-4ADF-92F2-F131C8E11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005-A309-452E-BCB6-D67DF1F3F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282-9AA1-4573-8E94-E495C815AC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6B6-0AF2-40B6-93A6-AB8DABAA0F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263-B2B0-4E92-8A57-0B0A214B54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E5B-59ED-43E8-B08E-D4192E1F26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818-1C42-471E-8337-7CA01BC004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FFD-8078-42E7-9C90-92F6988693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5ED-DB9C-4FB6-B440-9820E68022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6F1-1930-487C-B21D-FFCAD5FA4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3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" name="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BBD-7CBB-45E0-B7B4-54F3C7833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57A-EE6C-4D08-BB70-22ED1088FE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829-9218-4C3E-8338-761B993369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8CF-7F78-4632-914F-BB869EFD40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A14-7DA3-4F79-A2C0-93ACE3D282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4B4-387C-4494-AD50-473AFE4E2A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060-D2F3-4E57-9D02-C0B68E831B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20" name="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21" name="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295280"/>
                  <a:gd name="textAreaBottom" fmla="*/ 1295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314" stAng="10800000" swAng="5400000"/>
                    <a:lnTo>
                      <a:pt x="18078" y="4846"/>
                    </a:lnTo>
                    <a:lnTo>
                      <a:pt x="18078" y="0"/>
                    </a:lnTo>
                    <a:lnTo>
                      <a:pt x="21600" y="6079"/>
                    </a:lnTo>
                    <a:lnTo>
                      <a:pt x="18078" y="12158"/>
                    </a:lnTo>
                    <a:lnTo>
                      <a:pt x="18078" y="7312"/>
                    </a:lnTo>
                    <a:lnTo>
                      <a:pt x="12427" y="7312"/>
                    </a:lnTo>
                    <a:arcTo wR="9961" hR="4848" stAng="16200000" swAng="-5400000"/>
                    <a:lnTo>
                      <a:pt x="246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27" name="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28" name="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DAF-7F21-43F8-9D31-FAEC7CFA33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41A-9DEA-4541-9967-737B765C7E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5B8-5851-4C7F-B67E-6234EA52C7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033-DB3C-498F-B1EF-C7EDC98D97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E5B-6247-4397-8B95-58A7B48B9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B36-FE32-4858-9670-C3DE534EEA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AD9-872D-4724-85EA-B34992A546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931-7E42-447F-B317-3E636FB554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D49-28DF-4DBB-B5E2-5DD9954095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054-90BA-4862-8F74-E9ED41F9F0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4C5-4FE4-4213-8F80-2BF99BC8F4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901-E878-46DD-9A06-D68A99D1E7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0" name=""/>
          <p:cNvSpPr/>
          <p:nvPr/>
        </p:nvSpPr>
        <p:spPr>
          <a:xfrm>
            <a:off x="907920" y="2438280"/>
            <a:ext cx="76914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9BD-C245-4535-B988-E2F2A5B2A0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055-713B-48F2-A556-32FB653119C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384-291A-4FF7-B56F-1EABEEEF227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8BB-3396-4075-984F-4937AD64A8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8DC-1162-41F5-8AE4-32EF39F74E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60C-8FF7-4D94-8B7F-A9B6439F75C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B8E-9FEA-4109-A593-39ADEB9D3F3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6A3-3886-4D73-98B7-0EC2A5B517C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4A0-6018-4AFA-AD68-5DFEF5D7A9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885-3304-4BC8-8DAB-D3C1D92558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477-2866-4F82-B5A6-2CED7B5E966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E45-9D63-40F3-B4E9-70BE69BEA6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9/40 to 11/40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637-1D41-4863-9796-CAD588C7E66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2920" y="198108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88F-C04A-46D3-BF27-3D1BBB63D86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E01-F5C2-4ACD-ABCD-36D0C78E62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292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F89-9C08-49A5-9605-15AB55AFD08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FC6-0BE9-42CF-AB20-A81788D611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E00-2802-49CE-83A7-39858CB75A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44B-0FA6-4597-9FBC-25F9E284081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14C-79F2-46E2-A4DE-E4BD6CAF892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2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E22-D499-49F2-B5D1-D75E95A012E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276-2A9D-4942-9413-9922D0D4DCE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2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255-23CB-4E15-9D2B-5A13017E128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2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(Thursday 4 November)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651-3F03-46D5-823E-8790D5B0C12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649-4ECE-4111-97FA-2D865B5EC0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DD9-DFA3-45BA-8FE0-D14A5BBEC5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76F-50BA-4B4F-8DAF-840165303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39D-7BA0-442B-9CD5-0821EADE01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7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Administrator</cp:lastModifiedBy>
  <cp:lastPrinted>2004-10-20T13:39:49Z</cp:lastPrinted>
  <dcterms:modified xsi:type="dcterms:W3CDTF">2010-08-27T11:05:23Z</dcterms:modified>
  <cp:revision>76</cp:revision>
  <dc:subject/>
  <dc:title>Aims and Objectives</dc:title>
</cp:coreProperties>
</file>