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7F733-431D-43A4-9A45-ADD1E4537C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D7964-08A1-4B9B-ADB5-565E3EB969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83AF3-E8F5-451E-AB43-546C0EB7AD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B7DF7-1D84-4F9D-A52A-C014F69477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47F3D1-833D-4DC1-883F-73FECC788A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E1535-238B-4760-BEA7-7D7079CAC5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C571B-BEF0-4689-B269-848FA30C2C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93406-9D6A-42EE-91DC-6EE906173F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2EC01-0C87-454B-AD3A-9852694DB9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B5835-E9E1-4111-967C-0984E175FA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60860-ABCA-4293-8E2F-810B8192E8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86D0B-AD0B-465B-8331-C855B66DBD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D4063-163A-455B-ABFC-9524D72CD6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44779-6443-4342-BC1F-675649C1A4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1D7DF-2ECF-4B3C-B421-706C61B9A8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635BE-6888-41EC-9007-A6CE26ACFB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6898B-1BEC-4FD9-8EE1-5733A2DF77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E793F-5411-4AAC-BF58-72F80DBA87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D1C9E-C9CF-4B0D-BB0E-31BDF34A08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17D46-4CAF-4E50-B878-1A2986286A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B3DA7-7C45-40B4-A379-8F4148D9C0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8E632-03E5-4BA1-AE90-C72BB39D1F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2A1FC-D6CC-4BA0-AC55-493A2AC0B7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76762-84B6-4B1C-ADF2-E69018BFA6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BC7888B-6BEE-4116-97EF-088E21DE835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9942E02-44F9-4719-90FB-C1ACA68C87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F961FCCE-BBF1-431E-A4E3-C49C099B63A9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77F2EF64-F7FF-4278-94FD-428D52B2126B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4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45" name="Oval 9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157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169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4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2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8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66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70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274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89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93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9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00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4" name="Picture 6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095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2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54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7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28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8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0-11-01T16:41:17Z</dcterms:modified>
  <cp:revision>359</cp:revision>
  <dc:subject/>
  <dc:title>No Slide Title</dc:title>
</cp:coreProperties>
</file>