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46E-6D33-496D-B1C3-6FDE1C16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E89-1C8C-4576-93BA-8AE06AB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252-D9B8-49A3-AB5E-4832BCD5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F2A-177E-4BDD-A1FB-5B9B989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CA8-999D-4BF4-8BAC-9CC28626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44A-FE47-4CFB-B660-FAED54F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5DC-F85B-414E-B4EE-4E00AA57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025-66B1-4391-A85E-619B7A6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CEF-072B-4D33-9900-2C33ABC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BF3-138C-47CC-A6D5-9C117ED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169-2F11-4E8C-B115-9AD86C9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1DE-4BA1-408B-990E-B8685B3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&lt;date/time&gt;</a:t>
            </a: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MRC Graduate Talks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315-F8EB-4AD9-A038-F2C6693B8B82}" type="slidenum"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 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" name="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5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2"/>
            <a:endCxn id="122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3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24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5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2"/>
            <a:endCxn id="120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54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2"/>
            <a:endCxn id="155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2"/>
            <a:endCxn id="156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5" idx="2"/>
            <a:endCxn id="157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210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4" idx="2"/>
            <a:endCxn id="211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2"/>
            <a:endCxn id="212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213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endCxn id="267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5" idx="3"/>
            <a:endCxn id="269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3"/>
            <a:endCxn id="271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5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2"/>
            <a:endCxn id="276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2"/>
            <a:endCxn id="278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7" idx="2"/>
            <a:endCxn id="284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85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7" idx="2"/>
            <a:endCxn id="286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7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8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8" idx="2"/>
            <a:endCxn id="289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308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2"/>
            <a:endCxn id="309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2"/>
            <a:endCxn id="310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9" idx="2"/>
            <a:endCxn id="311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08" idx="2"/>
            <a:endCxn id="320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08" idx="2"/>
            <a:endCxn id="319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1" idx="2"/>
            <a:endCxn id="317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1" idx="2"/>
            <a:endCxn id="318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 TWO week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5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Administrator</cp:lastModifiedBy>
  <cp:lastPrinted>2004-11-17T16:02:36Z</cp:lastPrinted>
  <dcterms:modified xsi:type="dcterms:W3CDTF">2010-08-25T12:15:31Z</dcterms:modified>
  <cp:revision>57</cp:revision>
  <dc:subject/>
  <dc:title>No Slide Title</dc:title>
</cp:coreProperties>
</file>