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02CE-7AA9-4475-8A63-54B75CD40A46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F0FF-78B3-40B6-9B73-0CD12919E35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EC3B-1270-46D1-8863-AACF3530844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06B2-A044-40BF-B1E9-016A975F91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2069-E699-44E8-A3F1-31D37DBE28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030A-6ECC-45C4-B990-EBAF0172E16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D3A6-DD3C-4A5D-887D-D71FC705714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A948-F105-4F52-8FB3-4966C7D28D8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C249-631F-480F-B1A0-129A3D4856C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40A4-F6B8-4D36-BB5D-AC01397F67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EAD4-4000-4E01-8F1C-1212A2F4F8F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70E5-E838-4DC1-A975-BEA35C6C6C5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35E5-8827-4656-AE5F-54EAAA18F8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8BD5-858B-44C0-8E07-CC794A0622A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8455-C964-4668-8892-31EF2F15678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FF65-7DBE-46B1-A02C-149DBC0E58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F3F7-C6BA-4A02-B11C-39F476AB18A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3C5D-D86E-4E72-AD5B-9D9808AFE81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CD4F-7DAE-4465-8D8B-D1A4B6D27A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DAA6-D783-411B-9393-4CE78CABB45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6395-3141-41C4-95E8-52324FC13D4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7271-2510-405A-993C-0EEBEDBE72C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C210-48D4-4E35-9CD3-060694BBA45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84AC-F410-47F5-B599-8C3BA8E8581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08A2-F0E9-41DC-A718-BD72047247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415B-6E16-4089-B1EB-1B325AE9A27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3CCE-351C-4F72-8CEE-E8D8516FA8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3AC7-6401-4821-8715-72972DE768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3070-941E-4B39-B97E-C3DFAE81095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8127-31A8-4FAE-93E3-5F550FE83A5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B6D1-9924-4BC5-8248-0DE1B7980ED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F5CD-292A-4604-B629-BAAD3672545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2B3A-136D-47D6-989D-7FA0007E92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195D-453A-49EB-BE66-86D6230C03A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8A47-D0C2-414A-81D7-26CBC3224FC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B2BD-5265-4AD8-A6F1-9EBA88A7A2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626E-F5A7-4C38-81EB-6FC9563DD12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7BC8-2EF6-498A-9344-B079C8E0D7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F2B2-0596-4B20-AEA5-3A09D0AD24B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B5EE-241D-4D31-AD63-0058C7A534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EB5B-2445-4E98-9ABF-7EF81BBE8B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A7EB-5E2B-45AA-BFC5-4B8831D64C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D763-E5A7-451D-B8EE-99111A1EE14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9B24-330F-49FF-BC70-D0F16648D36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876A-A6FA-4D55-9EE8-CD150F96057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AA0A-EED6-4651-BEF5-AA168BD610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75D4-9F61-472F-8F6F-2C8F4B3CA3F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30F4-B7BC-4D8A-ABA7-B740E137B1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31AC-3793-47DC-A447-EB6374FC1A7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5B90-026C-4BED-9313-8ED72C63FF0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E21E-CE4E-4036-9CCC-0643F1BF70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F670-6458-4940-A6C6-07AA22EFB00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51AC-A3C5-4E43-9CC7-8CEF3FFA2AB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C66-C4CD-4A0C-AC16-8D8B8AF7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39A-D716-4C4A-959D-1A2BA53E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C68-CFF2-45CF-B4DF-185FA62F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BC7-3856-4BA3-B20C-4232B9AB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98F-55D5-4AF5-B995-DE7A5893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9DF6-7A36-4523-9FC3-D4819225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557-043F-4BF5-811F-0152AFBF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95C-ED72-456B-B673-1A768CE2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FDD-8746-4101-9019-B472B238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67B-5EB5-4560-8658-16E3230A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43F-D7D4-42FE-8ACF-A49309CD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C72-90A9-4143-B968-8F37C16D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FACF-64A5-4B43-BF12-224474B3F7C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7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1F26-15CF-420D-8801-A0E3DAB207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A2AB-E130-4A84-9AB1-145A10BD6A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A30B-2A50-47FA-9996-13BA719AD8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8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7AC0-DAE8-47B3-94E1-0DB1C8F841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3931-631F-4A51-A61C-C9BE8F48C8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39FB-1409-47B6-B2D8-B3248885AF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92CF-48FD-415E-BF24-90925C7DBD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6970-AF0B-4896-8897-3041346A32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5B12-59A2-414E-9159-9132088756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20D7-73DC-49F1-ABC0-8D03C6AA94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7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BDD1-4106-4FC2-A78B-C0BCD171CD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227D-814E-4284-9959-D9EDE0D513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6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BC01-0955-4385-A1C9-A8676AD097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16A7-B4F4-47F8-A5AE-0E496CF013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BD0E-C381-4459-A79A-F2FECBAB0C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90C4-251E-431E-95F2-D460D4E6CB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23ED-0531-40CA-9821-AEE15E3B5A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6B2D-7782-4427-A49D-421C21FB1D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F564-B5A6-44D1-B29B-75CAAAB9C3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D907-D9CE-4318-B32D-772650CBA5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387E-5D0E-4258-978A-8F59179E1E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7ADC-5A86-4773-9193-C9147DD558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ED6C-4E04-43C0-9D87-955DC20325C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3545-652A-4A50-ADB3-851BD45FFE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5474-003C-4228-8EB4-89AF7E2492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E5D1-BD18-4552-9758-D67F1D3B91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00BE-E00F-42CA-B752-4DD7F16083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F1D3-2025-410A-8354-588329E197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E02C-311F-42FB-862A-197DB727E0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9752-AE2D-468A-823D-F8CC053262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84F9-56FA-4B22-A6A8-40F3756DBB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B29D-6674-4BDC-BCEA-B1144B409C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DA06-98A2-4264-903E-912D40582F6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643D-CB07-4691-B774-3C3B19F20C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03EE-E8B3-4594-A4D5-FEC28198B0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087A-8F50-4A80-8D9F-B2F510181D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3A4C-02FB-4EBA-A2C6-F0335B23492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9EBD-87F3-4AA7-A5C4-EA964CB1DC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CBED-0284-4C17-B236-74CD13B885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9DCD-2FED-4077-8F86-4E5549FDA0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4500-FACA-49C7-961B-826482FDF8F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1DBA-37B0-4373-811E-907961EC9E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6B69-F83F-4F98-8A42-AB140B3A257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0D99-471E-463E-B95F-57FF6ADED0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0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F14B-6AFF-4FE1-87DE-A34B8FB4B7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30BD-372F-40CE-B6BE-1B9281D805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0B73-4646-47A4-B11C-EEAD678E24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F08D-5B1D-422D-8D92-316488CD03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8CF3-60D6-4F90-AFFF-A91C042BE6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5053-F957-47D5-AC92-0247999F9E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3D22-7126-4BA9-B786-65403D1FE4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3EEC-B04C-4E42-A2CD-9FBD0142BC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8E52-36C0-451B-90E3-68B320A98B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BEB0-914E-42D3-97B7-C4176FA5F6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1077-F47E-42A2-B4B0-2BC6ED93B4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4D3B-A8F2-4524-AAE7-B037179483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F59D-0BC5-433A-BA69-C6EE4AC2E5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4802-72E9-4038-8645-A526B24930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AFB0-71A6-4836-9FF8-CCBDDA5844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5BF5-FE9E-490A-8CA4-92EE1B89041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F7C7-64D2-49D4-9945-00360E1C49F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CCF9-D4B5-4880-880F-CABFC2E29B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hursday 2nd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2" name="Picture 5" descr="coversmall"/>
          <p:cNvPicPr/>
          <p:nvPr/>
        </p:nvPicPr>
        <p:blipFill>
          <a:blip r:embed="rId1"/>
          <a:stretch/>
        </p:blipFill>
        <p:spPr>
          <a:xfrm>
            <a:off x="6248520" y="3657600"/>
            <a:ext cx="13716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6F1E-DA74-4E1A-A232-5D309A59D1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59EA-EB6C-43A2-A69F-86EA38F7BA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D0AB-C3EE-44F3-B034-630A518F5E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7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0-11-24T15:49:56Z</dcterms:modified>
  <cp:revision>68</cp:revision>
  <dc:subject/>
  <dc:title>Aims and Objectives</dc:title>
</cp:coreProperties>
</file>