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682A9-68CE-437D-9983-43F25F80A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7BD8-696A-48C7-8FB0-6DAC07F32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451E9-D10C-403E-A352-BB8F70225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E8F1-4F79-47A7-BDD2-816C39F6C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90F7C-F39C-4128-8E79-EAFA9300D5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C1221-F3FD-462A-87ED-A2F267E46C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18B4D-555B-4863-968B-98E469F44E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2A67F-5CF7-488E-8C85-66DE654C1E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53487-AF0A-4543-B5DB-E96FDED52E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99659-D8AA-41FC-AA6F-15BEC89730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AD1F3-BF5D-41AA-8F2F-BE986CC3D9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66BE-E4FA-48F0-8006-B2F06E3BB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98910-4D82-45E7-A27D-156FBFCBC8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5ED0C-9D36-4285-BA45-850F14AAC0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27B93-CB85-4CAA-8F2A-6D4796789C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2AF1E-70D9-4B05-9683-7EAFBEDD1C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D6CCE-E67C-4A0B-866A-9855B394F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171F-45B5-4049-B0A0-3BBB8EA11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33B2-EA57-4F5C-9957-5E427FF56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B0031-78A1-4BDF-908B-79C1341E6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179B-492A-4958-AA56-C9A83727E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C4C4-519E-4851-9A74-BD7BCF754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0E70A-995A-4400-8AA1-FAC7FE38C5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CF42-A5EC-4A3C-BEDB-E3CB38A01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FE249B1-E39F-4B09-AB6E-7DB8A8BEAFF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860C3135-7C26-4004-9A9C-B3BDDAB6BC4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B2F89D1-7D55-4BAE-A0F0-051E4749744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71606E4-84A1-4ADD-A06F-C1ECE21DC5C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soton.ac.uk/~cpd/anovas/datasets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rField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7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is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.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ar 1.0              &gt;3.0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cancer sibling study: 222 possible to sample but 80% response rate and gender matched siblings wil reduce sample past 120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rFiel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RC CBSU Graduate Statistics Lectu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Administrator</cp:lastModifiedBy>
  <dcterms:modified xsi:type="dcterms:W3CDTF">2010-08-04T12:47:30Z</dcterms:modified>
  <cp:revision>195</cp:revision>
  <dc:subject/>
  <dc:title>8: SAMPLE SIZE DETERMINATION</dc:title>
</cp:coreProperties>
</file>