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1EAB-2A1D-4344-8A7D-9C09022D3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D7F0-2451-4B99-887E-17D6BDD89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06BD-CC0A-485D-B8C1-CF98460E1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7FD1-5600-4F04-812D-7C7E71DA3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693B2-9BF0-4EFC-819B-BB3FBE5BA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F2D15-39E9-474E-98CB-1A30E9A164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2C3F1-C818-4877-A69E-F84B26482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20145-9840-4321-BBB1-A141AA0EF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296E3-98B7-49F3-B0B1-083965ECD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7F205-83E1-4073-9B2A-141CABAA72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4E80D-0DF5-4D22-9A7C-454A75CB3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F905-1AE1-4B7D-95E2-9756521E0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D9A6E-2520-4B0D-A8D0-79A4A34DD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951A3-4089-41E0-B738-D1C58B95A8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F229F-7795-4AAF-A1E5-6076D6FD5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1D3ED-4CB4-4540-AAA9-C62DC259F1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BBF39-1044-4A89-8CFE-A0E3C18AA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CD74-330C-4285-A629-3AA5B9BA5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5E8D-BF45-4154-81C7-2FC70DAB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6B33-995D-4AEB-9CFB-F121612D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413F-19B8-42B7-89A6-CA50BBD45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C22C-C154-499B-9489-7998AFAE0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AF32-0E57-4E23-8E61-16F9EC16D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835C-3BE5-4096-9EE8-15476219D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382E630-FE50-4113-9036-B06296A56CD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D9B4B1D-5418-4BC0-9D98-306B254D111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1C0F8F5-A992-48F2-85EB-13EB5B3EF23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D37FAE3-5067-496E-B117-F5351DC2D78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8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5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9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0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2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3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4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0" name="AutoShape 65"/>
          <p:cNvCxnSpPr>
            <a:stCxn id="338" idx="0"/>
            <a:endCxn id="337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AutoShape 66"/>
          <p:cNvCxnSpPr>
            <a:stCxn id="337" idx="7"/>
            <a:endCxn id="339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7"/>
          <p:cNvCxnSpPr>
            <a:stCxn id="338" idx="7"/>
            <a:endCxn id="339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3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5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6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6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FE89-0595-47B1-83FD-9882BCA9CF8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2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2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4" name="Straight Arrow Connector 96"/>
          <p:cNvCxnSpPr>
            <a:stCxn id="603" idx="1"/>
            <a:endCxn id="594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5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0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0-12-02T13:14:17Z</dcterms:modified>
  <cp:revision>312</cp:revision>
  <dc:subject/>
  <dc:title>No Slide Title</dc:title>
</cp:coreProperties>
</file>