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C28E-8C20-4706-AE8A-2C0ED62B3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82E8-A686-4403-8310-A6B079FA9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06050-3F27-4851-A785-057DEC618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2387-1B3A-4A05-A092-F6896F31E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2BBC3-BD63-4F32-BFF6-475F8B0E0E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3F1B6-BE86-4864-860D-E7E2D0C552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6EE1B-AA39-4CC7-BD80-8ECE800DD3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9A1D0-9A20-4661-83F5-12820C8D27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8DF21-50FC-412F-8B39-1EEF22FDC0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07FE6-8F4B-49DE-A750-F8A7F48C04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0E617-26B6-4BDC-9E6E-0F56974F9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415C-55BA-4F46-A78C-53346D540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9A382-E5ED-44C5-A596-C582036658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16A66-6A36-4CE1-B5DB-BFCA5A079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B1C96-AC21-41B7-86B6-9862D85342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7043D-2D5B-4FF4-9120-16C4187C43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10F16-AEAB-407F-B948-CA2110E16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BE8A-04A7-413F-B8BE-D2C41079C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8409-E46B-4690-B682-A1A8BB993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C2ED-4ECA-43D9-8A30-53C638203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9B57-C449-4C5E-B64B-9527E6D1F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80AB-326D-4304-A9B0-E44D7D639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CD6B-2540-43E7-B56E-24975460C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E540-3CCF-4842-B8FC-F1ADED1D7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10FA0B1-4E84-4BFC-B093-336B1EE4187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7966FEA-4B78-4BC6-A20D-2148053552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9ED49FCC-EFE2-4CFC-99C5-1FB6B84EC56E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5716193-3256-4D3E-B8AE-3EDD0CCEEE2E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1-09-15T12:48:28Z</dcterms:modified>
  <cp:revision>360</cp:revision>
  <dc:subject/>
  <dc:title>No Slide Title</dc:title>
</cp:coreProperties>
</file>