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A4F-D683-4E1E-9D31-83EA0E82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893-054C-4D01-99B9-C9E5DBD4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760-A65E-418B-A2CE-DABA60E7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DD7-E7D8-49B5-B156-F2079BC5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DB9-0898-4CDD-A618-DDD5D8C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4AF-D17C-4DCE-BCE7-85484839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F8D-5750-470F-9190-D907FB5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52B-4EA3-4736-A4CB-1473EE7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E98-8625-4E0D-9685-C0BAAA15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04F-9530-4C0E-9C00-BE40E25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78E-5D95-46BF-9CA2-818214C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CBA-472A-43E9-B011-74943D0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DF4C-7068-4E82-A753-1EEE8F13B2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8" descr="MRC-logo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9A0D-3CF6-482C-B697-DB951B6AC0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1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1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50FA-0F51-454C-B0AE-69F0D0FC6A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C36-BB13-491D-9A53-8037DF18D6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45D-B523-4356-837F-D0234ED7E2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FC0-9C6F-47BC-A293-EA7C01FDC6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61B6-4ABE-4506-A9EE-AB00E3D55E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A4D-F706-4D0B-B915-4510054EDE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992F-60EC-4939-9139-46D719F235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C7B0-A1A7-44B8-A34A-76C3C98A48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4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28D-3DF6-4AEF-B034-37375B2BE9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7D7-3699-4EB1-8F2D-682269AFD4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9CC5-5728-4A4C-9230-7A1570EE76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 November 201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758B-66DC-4DED-BEE2-C5CDCE2E87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4189-803E-45F7-B5FC-DD1B75C3D2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64E-DD41-45F1-9DE4-C804F44FB9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003C-0464-4607-BA75-46810C5B07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D33-614F-413E-AD48-1A92EE752B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AD5-6DC7-43D1-A1B7-446DD92BD3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1EE6-3748-4064-A950-A9428CDFA6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9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9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9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20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20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20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20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20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20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20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22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22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2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BBC0-DF0B-4606-A0E5-6EE9D9BA0F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0345-6173-4BF3-A4C4-1756DA73DD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9AF-C4FD-4879-B852-F7F2FC34BE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0EED-71B0-4EC2-B25C-4DCB93D909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6DFF-BB86-42CA-9143-48A73E97F4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6434-714C-4B78-B976-D5A9C9B527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1DF-04A8-4074-A485-BF3DBC321B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9C50-2326-4D0C-8096-A1CE6C464F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6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2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F9C0-A3AF-45F6-B0EA-1743FC78DE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4D52-9102-474E-BE57-93EC37538E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B2BF-73F4-4832-A819-1178CF6196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D3FA-BAA6-4480-9EA3-A3F5A1EBD7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F8FC-8E1E-445C-B9D3-8DEF69FBA8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D437-559A-4FAA-90E1-970B528ED1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23E1-2F99-42CD-A3FA-30B389F011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7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3E05-7C82-480A-BD6F-E38AD91D68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AC05-3881-4205-97B2-EBDC5DF95A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F9D2-5073-41A1-8E19-0351D7F041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91D2-384A-41BC-9AB4-ED95FDD01B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996-DFF5-4E02-ADF3-6FCA633986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7A6A-2079-4EC6-B498-8A5CBC1345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618-625B-4C28-8D73-3793D1526B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35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DDF9-81EA-40E9-B88E-636BA42985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6D52-6CCD-4E15-A72B-88501AC654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36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599A-9349-44E6-B423-7BF6F2431E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37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244E-77AC-453B-A946-7F60ABF33C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0DB3-A122-4AE2-8946-9EDD958FEA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833B-925F-4F64-A1C9-288DD8EBE2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EF49-FEF1-4F7F-B652-B2B9BECECD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A80E-D051-43FA-A6AE-52C009B944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9A3A-D818-425D-B2C1-B348E9344A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CF2-0005-4724-9A49-BCEDB3C7A5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D2F5-3E17-4190-915B-595F2598D9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8CB2-A203-408F-A00E-02DB12006C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4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B538-0421-4BCD-9805-A82466DE92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11am on Thursday 10 November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39EA-8140-4F56-9B2A-15205FE020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B75-BB1E-443C-8B40-9B25A46B5D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5436-54D8-404F-82C4-66A8E04D7B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49CD-845A-4970-8731-000134AFB6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1-10-20T13:25:47Z</dcterms:modified>
  <cp:revision>83</cp:revision>
  <dc:subject/>
  <dc:title>Aims and Objectives</dc:title>
</cp:coreProperties>
</file>