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A083-D09B-4E88-8EC6-41024B7A1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58DB-4E6D-4321-BF3F-B8C7E2338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E5E0-91C9-4C1C-B1D5-3596621E7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E7D9-AD89-48F7-85C4-781EE9C59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5346-3F61-497C-89EB-1C119A902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5E3E-C7E1-40A3-BCA5-F0EC0E84E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0B73-3FD7-42C1-ABE9-BBB3D2D78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9A32-598C-4E96-8F5D-DF28ABA45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A98B-CCDC-4FF0-AC84-3D61EACDE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7464-6A20-44E1-BF50-88E33DA2B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2E5C-0CB8-4A76-AEEB-D9CE47E72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93F7-1D3E-4E12-A42B-5F179D125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9CCCC-5E1C-4229-9AF5-E35A7C9AA43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11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09:04Z</dcterms:created>
  <dc:creator>Peter Watson</dc:creator>
  <dc:description/>
  <dc:language>en-US</dc:language>
  <cp:lastModifiedBy>Peter Watson</cp:lastModifiedBy>
  <dcterms:modified xsi:type="dcterms:W3CDTF">2010-10-04T14:09:05Z</dcterms:modified>
  <cp:revision>1</cp:revision>
  <dc:subject/>
  <dc:title>Slide 1</dc:title>
</cp:coreProperties>
</file>