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2B581-61E8-4D6D-BB94-90CFD57DA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219D2-EF3C-42B2-99D8-C98CEDD9B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CCD72-638A-4939-A127-6DD3B649D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EABFC-EF68-4AE3-B18F-3426CBC5A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A4B96-156D-4EA2-B9BC-903E360DD7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FDCB1-6AF3-40D5-A9C8-2774A167DA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48C0F-18E9-4FB2-8E55-E7EFB1DD05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187A8-741C-4F1F-88A8-5636D6B4AF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3D8F8-58EC-4F74-AB37-B9263DF729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CCE09-1B58-4F7E-9856-83C69B2B59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E2C99-3ED2-4401-8044-3834272732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4899-3194-4530-BD83-8D18B1ECE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CE1D7-76F5-4B5F-A83D-0C4FC33487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BAB31-C4CB-4520-9941-0402F251B6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863F6-781E-41FD-AB92-643A85FEB7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D5C2D-36C5-4FAB-B9E9-EDA9BB4384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23223-5024-46E4-9D4D-3CC09EE906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F1FBB-C883-4A83-AB23-ACFD401A8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68B01-B03E-4FE0-9492-0F895FFD9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23C34-0821-48B5-A35A-047F8772B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56D3C-6E33-4FE5-A631-8106102C3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26076-2D12-44DF-B661-5A55C2EFE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59CE-B33C-4F37-B168-59200809A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B4934-EDB2-4606-AA82-DC86AF09C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3E837A3-88AE-4319-ACC6-9DE04B09B48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2621708-A392-4872-8141-A548EAC08AB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3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32AEF0C-6225-484A-9D6F-BD99D35D2A8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F5DECD0-7A30-4232-BDD7-7A8EDA2807A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1-08-04T12:47:34Z</dcterms:modified>
  <cp:revision>341</cp:revision>
  <dc:subject/>
  <dc:title>Exploratory Data Analysis</dc:title>
</cp:coreProperties>
</file>