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10E5-12BA-4C32-9935-D743D2AC8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A72D-6EBB-45C1-BFBD-24AA4EAD2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FB0F-6876-4EBA-AC00-4891F3A79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C703-4150-4CC4-BC66-7DBEE2A52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295D-EB91-4713-9209-CF29B7C9CA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50C84-3159-4A41-881E-7BED67B77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C204-3361-474B-86B9-40809789A5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89E61-4F65-4584-A8C4-6D8F114051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5679F-7A7D-469E-A658-B7C203911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0426B-4917-4B63-96DE-42C30B548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2E756-153A-4685-B655-BB24A341B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86A3-1580-42D9-8295-4CEED47B8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D482-F107-4202-8E01-7DE77F8E83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F5830-999C-45F0-AF44-9569EEDF49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03BB-8AC0-42B0-9E34-9FB9DB83D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BC66C-FD28-4AA2-BBFE-CEF4B759FD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B4C1-A683-459B-8B57-A50D27F2D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B7A2-C048-47C6-B3D2-84226045B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48E5-586D-417B-A816-09B46D365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2605-F8D2-4E69-8AA5-B6002D1BD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A5A5-2BDA-49E1-B22B-EDCD5DFDF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DAAD-6026-4F99-B2FC-59D7EA175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3B34-DBD2-41B9-BA89-EF1D54083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C250-BE0C-4AA2-80C2-AF6F45FA8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9BFA101-CE50-416C-AAF9-C1363D79EE8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85F7ADC-F630-4D1F-B6CA-5D0A22F6381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02680F8-F96B-4A00-AF2F-577FCA71463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F873976-62FB-464C-86BD-958F905604A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7BB-1FD5-424C-9701-B60E9CF21830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1-10-05T11:15:40Z</dcterms:modified>
  <cp:revision>321</cp:revision>
  <dc:subject/>
  <dc:title>No Slide Title</dc:title>
</cp:coreProperties>
</file>