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A5B0-D396-48A0-AB75-3A769FB8C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2D52-0F26-45A9-8317-FA2F775B0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1DF7-26A5-4D8E-A860-98D55A66E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3298-F653-4783-83B0-B2116AAB2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B14CD-6A9C-402D-BB69-C947C9AB9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3F183-5A09-4000-9F54-4F62BFA662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93E3-BB16-42B0-B3A9-C1BE339B8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2F45D-3E63-467B-A8E8-88D033D3D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52821-B274-4459-889D-0DE476E06F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E7764-0788-4894-9BE6-94E2E0A02D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387B-AA09-46AF-9502-9C7FC2390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5BF2-9314-452C-83EB-4005A92C9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2FFC5-D2E4-4D7E-879E-5AAB802DB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F48A5-18D2-460A-85FF-9BEFBFA9C7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393F1-BC34-4644-8BE4-6A23A602DE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7995E-21DC-4EE3-BB6D-482FB756E2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5B1F4-A89C-4798-9A0F-A2371E6E4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E9EF-0317-4F18-9D80-D28B672FD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DA61-5B9A-4EF3-A22D-8B6F39240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8EE2-2327-4C14-8B5F-213573BBF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3C5E-C34D-45CE-A9D1-2E85F16E8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FA04-714C-4B63-87F7-694296048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F357-92AE-44A1-B652-C95568014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E05C-F4BB-4F2E-A91F-95041735C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34E51F3-6E13-4247-9B03-891FB01A238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A9E3E6E-D581-4D05-AF24-3E3DE10E69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4FA918-394A-4CDD-B001-55ACBB545E5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6771792-BF50-4883-95CF-D947229E3BC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1-12-01T14:57:15Z</dcterms:modified>
  <cp:revision>213</cp:revision>
  <dc:subject/>
  <dc:title>8: SAMPLE SIZE DETERMINATION</dc:title>
</cp:coreProperties>
</file>