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6C0-8F37-40BE-AB3A-D8931186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241-4C64-4478-A570-EDAB3145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544-93F0-461F-831A-165AEAED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B70-DF94-408A-AE9B-D3741706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470-836F-4C2F-9A64-046A4E00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9C4-69A7-4301-9CE2-30FA832C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617-02AD-44D1-8F74-32290772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91C-6730-4DA4-9362-00148709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C48-DFF4-4558-BB65-14D8BE62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C9E4-6D78-461A-B482-02A3E00C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C8D-8F5C-4708-9965-922E6D76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170-62B8-4026-A3A0-1FDA34E8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28F8-A873-4890-BDF3-53B13E8CB8B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22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335600" y="2436840"/>
            <a:ext cx="755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5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4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1-10-20T13:13:13Z</dcterms:modified>
  <cp:revision>62</cp:revision>
  <dc:subject/>
  <dc:title>No Slide Title</dc:title>
</cp:coreProperties>
</file>