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wmf" ContentType="image/x-wmf"/>
  <Override PartName="/ppt/media/image3.png" ContentType="image/png"/>
  <Override PartName="/ppt/media/image9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10.wmf" ContentType="image/x-wmf"/>
  <Override PartName="/ppt/media/image6.png" ContentType="image/png"/>
  <Override PartName="/ppt/media/image14.wmf" ContentType="image/x-wmf"/>
  <Override PartName="/ppt/media/image2.wmf" ContentType="image/x-wmf"/>
  <Override PartName="/ppt/media/image25.wmf" ContentType="image/x-wmf"/>
  <Override PartName="/ppt/media/image27.wmf" ContentType="image/x-wmf"/>
  <Override PartName="/ppt/media/image15.wmf" ContentType="image/x-wmf"/>
  <Override PartName="/ppt/media/image26.wmf" ContentType="image/x-wmf"/>
  <Override PartName="/ppt/media/image24.wmf" ContentType="image/x-wmf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BDF40D-563C-4D51-AA56-1121F6E773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739E75-0D1F-41B0-B728-C3A8B2AABF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4CD49A-D582-49FB-A22E-7083E20866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2CBE7A-8823-4FE7-9E05-5B37670323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D7586C-3B62-4506-B7EC-FDE103B2687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CEB681-C740-4CF0-AC86-C1468050E32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5144AD-ED7F-400B-9252-DDCCE5EF33A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95DC93-6CF2-419D-9BEB-C65607F01AB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FE5FF2-0F8C-4CAE-8648-A06BC5A5883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B44CDB-2CF4-4D1F-9E7F-DD77681ED08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EFAC6C-6985-4A2E-80ED-C4E497FB401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380150-E47D-4A90-B1A0-6DCED8B6A9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4E3DF2-E42E-4341-89D6-8FD593C5E10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5C05A4-8908-4CAB-B072-7F81BCAB8B3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DE5131-A042-41E9-957D-95BE189433F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A14279-B193-40E4-8F53-BB48122FA6F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794BA4-5AB3-461A-A1E1-AC5F533FE9B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C6DA1B-FFFB-42CF-89DF-8CA1041A28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343192-0903-4FFB-9403-69E9247A1C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5DC09B-F937-46CB-897B-0DA7696389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B47DA2-7739-4ECF-90A4-9B9EA410D2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201E5C-D030-4A3F-83FD-DCD1B35971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9064D4-937E-43AC-AF67-42C90A1B40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3AAE1A-E94D-46BA-B880-F48AE91E6B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914400" y="6476760"/>
            <a:ext cx="5105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471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4B954505-1D05-47D0-A027-5D1FB6B67164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28/26</a:t>
            </a:fld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5902F548-87BB-4137-8877-3021195D92B5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50" descr=""/>
          <p:cNvPicPr/>
          <p:nvPr/>
        </p:nvPicPr>
        <p:blipFill>
          <a:blip r:embed="rId2"/>
          <a:stretch/>
        </p:blipFill>
        <p:spPr>
          <a:xfrm>
            <a:off x="6095880" y="228600"/>
            <a:ext cx="2819520" cy="830160"/>
          </a:xfrm>
          <a:prstGeom prst="rect">
            <a:avLst/>
          </a:prstGeom>
          <a:ln w="0">
            <a:noFill/>
          </a:ln>
        </p:spPr>
      </p:pic>
      <p:grpSp>
        <p:nvGrpSpPr>
          <p:cNvPr id="5" name="Group 51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6" name="Rectangle 52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7" name="Rectangle 53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8" name="Rectangle 54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9" name="Rectangle 55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0" name="Rectangle 56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1" name="Rectangle 57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2" name="Rectangle 58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3" name="Rectangle 59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4" name="Rectangle 60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5" name="Rectangle 61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6" name="Rectangle 62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7" name="Rectangle 63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8" name="Rectangle 64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9" name="Rectangle 65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20" name="Rectangle 66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9" descr=""/>
          <p:cNvPicPr/>
          <p:nvPr/>
        </p:nvPicPr>
        <p:blipFill>
          <a:blip r:embed="rId2"/>
          <a:stretch/>
        </p:blipFill>
        <p:spPr>
          <a:xfrm>
            <a:off x="6095880" y="228600"/>
            <a:ext cx="2819520" cy="83016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3"/>
          </p:nvPr>
        </p:nvSpPr>
        <p:spPr>
          <a:xfrm>
            <a:off x="838080" y="6476760"/>
            <a:ext cx="5181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4"/>
          </p:nvPr>
        </p:nvSpPr>
        <p:spPr>
          <a:xfrm>
            <a:off x="6552720" y="6476760"/>
            <a:ext cx="2210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0739D0C4-E96B-4A9F-8904-70D09631F70D}" type="datetime">
              <a:rPr b="0" lang="en-US" sz="1000" spc="-1" strike="noStrike">
                <a:solidFill>
                  <a:srgbClr val="9a044b"/>
                </a:solidFill>
                <a:latin typeface="Verdana"/>
              </a:rPr>
              <a:t>07/28/26</a:t>
            </a:fld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0FD59402-ADAB-477D-8DFF-E3940FC82432}" type="slidenum">
              <a:rPr b="0" lang="en-US" sz="1000" spc="-1" strike="noStrike">
                <a:solidFill>
                  <a:srgbClr val="9a044b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www-class.unl.edu/psycrs/statpage/comp.html" TargetMode="External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hyperlink" Target="http://independent.academia.edu/JohnFHall/Talks" TargetMode="External"/><Relationship Id="rId2" Type="http://schemas.openxmlformats.org/officeDocument/2006/relationships/hyperlink" Target="http://independent.academia.edu/JohnFHall/Talks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45"/>
          <p:cNvSpPr/>
          <p:nvPr/>
        </p:nvSpPr>
        <p:spPr>
          <a:xfrm>
            <a:off x="838080" y="6477120"/>
            <a:ext cx="5181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00200" y="1904760"/>
            <a:ext cx="6192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bababa"/>
                </a:solidFill>
                <a:latin typeface="Verdana"/>
              </a:rPr>
              <a:t>2 REGRESSION ANALYSIS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600200" y="3048120"/>
            <a:ext cx="6197760" cy="31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9a044b"/>
                </a:solidFill>
                <a:latin typeface="Tahoma"/>
              </a:rPr>
              <a:t>OR Mixing the ingredient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a044b"/>
                </a:solidFill>
                <a:latin typeface="Tahoma"/>
              </a:rPr>
              <a:t>Peter Watson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ttp://imaging.mrc-cbu.cam.ac.uk/statswiki/FAQ/regFAQ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01" name="Object 4" descr=""/>
          <p:cNvPicPr/>
          <p:nvPr/>
        </p:nvPicPr>
        <p:blipFill>
          <a:blip r:embed="rId1"/>
          <a:stretch/>
        </p:blipFill>
        <p:spPr>
          <a:xfrm>
            <a:off x="1143000" y="380880"/>
            <a:ext cx="1677960" cy="18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FOUR DATA SETS (ANSCOMBE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ach has outcome, Y and a predictor, X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or all four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Y = 3.002  +   1.124*X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rrelation between X and Y=0.8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catter of points very important - don’t be fooled by a regression line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DATA SET ON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35" name="Object 4"/>
          <p:cNvGraphicFramePr/>
          <p:nvPr/>
        </p:nvGraphicFramePr>
        <p:xfrm>
          <a:off x="1187280" y="1844640"/>
          <a:ext cx="754380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844640"/>
                    <a:ext cx="754380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DATA SET TWO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39" name="Object 4"/>
          <p:cNvGraphicFramePr/>
          <p:nvPr/>
        </p:nvGraphicFramePr>
        <p:xfrm>
          <a:off x="1116000" y="1628640"/>
          <a:ext cx="7772400" cy="472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1628640"/>
                    <a:ext cx="7772400" cy="47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DATA SET THRE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43" name="Object 4"/>
          <p:cNvGraphicFramePr/>
          <p:nvPr/>
        </p:nvGraphicFramePr>
        <p:xfrm>
          <a:off x="1042920" y="1628640"/>
          <a:ext cx="7925040" cy="472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1628640"/>
                    <a:ext cx="7925040" cy="47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DATA SET FOU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47" name="Object 4"/>
          <p:cNvGraphicFramePr/>
          <p:nvPr/>
        </p:nvGraphicFramePr>
        <p:xfrm>
          <a:off x="1187280" y="1773360"/>
          <a:ext cx="769644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73360"/>
                    <a:ext cx="769644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CHECK FOR GROUP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ion = 0.8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Y=-0.05 + 0.96*X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catterplot shows existence of grou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52" name="Object 5"/>
          <p:cNvGraphicFramePr/>
          <p:nvPr/>
        </p:nvGraphicFramePr>
        <p:xfrm>
          <a:off x="4648320" y="1981080"/>
          <a:ext cx="4038480" cy="419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981080"/>
                    <a:ext cx="4038480" cy="41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Ignoring groups can ignore a correla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(Y,X1) = 0.01, p=0.98 (N=11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sing Groups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roup 1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(Y,X1) = 0.99, p&lt;0.01 (N=5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roup 2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(Y,X1) = 0.98, p&lt;0.001 (N=6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clude group as a “third party” in explaining Y, X1 correl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57" name="Object 1028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" name="Object 102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arcel strings (Joseph Petrucelli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Quality control (breaking strengths of strings) Manufacturers claim that breaking strengths of strings are 20lbs.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arcel string tested every five minutes consecutively on each of 3 day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62" name="Object 1029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Object 102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Taking sequence into account (Days 1 &amp; 2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68" name="Object 5"/>
          <p:cNvGraphicFramePr/>
          <p:nvPr/>
        </p:nvGraphicFramePr>
        <p:xfrm>
          <a:off x="0" y="2133720"/>
          <a:ext cx="4435560" cy="358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133720"/>
                    <a:ext cx="4435560" cy="358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0" name="Object 6"/>
          <p:cNvGraphicFramePr/>
          <p:nvPr/>
        </p:nvGraphicFramePr>
        <p:xfrm>
          <a:off x="4419720" y="2209680"/>
          <a:ext cx="4435200" cy="3640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1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19720" y="2209680"/>
                    <a:ext cx="4435200" cy="364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Day 3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clude - breaking strengths vary differently over time on each da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75" name="Object 0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6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bababa"/>
                </a:solidFill>
                <a:latin typeface="Tahoma"/>
              </a:rPr>
              <a:t>What is regression?</a:t>
            </a:r>
            <a:endParaRPr b="1" lang="en-US" sz="4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ahoma"/>
              </a:rPr>
              <a:t>Regression is a common technique in behavioural and social science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ahoma"/>
              </a:rPr>
              <a:t>Explores relationship between 2 or more variable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ahoma"/>
              </a:rPr>
              <a:t>Aim is to find best fitting model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Assumptions (1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ntinuous outcom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ethods available for categorical outcom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tegorical predictors need special coding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inearity of relationshi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Assumptions (2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andom error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all shaped centred around zero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Variance of outcome the same for all x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homoscedasticity)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precision of model for all x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Nonconstant variance (Funnel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85" name="Object 0"/>
          <p:cNvGraphicFramePr/>
          <p:nvPr/>
        </p:nvGraphicFramePr>
        <p:xfrm>
          <a:off x="1403280" y="1700280"/>
          <a:ext cx="6688080" cy="4724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6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700280"/>
                    <a:ext cx="668808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7" name="Line 5"/>
          <p:cNvSpPr/>
          <p:nvPr/>
        </p:nvSpPr>
        <p:spPr>
          <a:xfrm flipV="1">
            <a:off x="3059280" y="1557000"/>
            <a:ext cx="3124080" cy="1523880"/>
          </a:xfrm>
          <a:prstGeom prst="line">
            <a:avLst/>
          </a:prstGeom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8" name="Line 6"/>
          <p:cNvSpPr/>
          <p:nvPr/>
        </p:nvSpPr>
        <p:spPr>
          <a:xfrm>
            <a:off x="2771640" y="4076640"/>
            <a:ext cx="3276720" cy="1524240"/>
          </a:xfrm>
          <a:prstGeom prst="line">
            <a:avLst/>
          </a:prstGeom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Non-linear plo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uggests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ransform predictor or respons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 give a random plo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it a curv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92" name="Object 0"/>
          <p:cNvGraphicFramePr/>
          <p:nvPr/>
        </p:nvGraphicFramePr>
        <p:xfrm>
          <a:off x="4648320" y="2344680"/>
          <a:ext cx="4038480" cy="3235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3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44680"/>
                    <a:ext cx="4038480" cy="323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Unequal residual varianc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esidual is observed - expected valu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or difference between regression line and actual valu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ry a log transform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DEMO 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REGRESSION CRITERIA.S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97" name="Object 5"/>
          <p:cNvGraphicFramePr/>
          <p:nvPr/>
        </p:nvGraphicFramePr>
        <p:xfrm>
          <a:off x="4648320" y="2341440"/>
          <a:ext cx="4038480" cy="3240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41440"/>
                    <a:ext cx="4038480" cy="32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mparing a pair of correla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50752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1995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Zero-order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     Semi-Partial***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dependent sampl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sher’s test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*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teraction test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(e.g. SPSS REGRESSION)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-test / path analysi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ame sampl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Williams-Hotelling test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**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earson-Filon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t-test/ path analysi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*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Available using ‘equalcor’ UNIX program or a downloadable program, FZT.EXE, at </a:t>
            </a:r>
            <a:r>
              <a:rPr b="0" lang="en-GB" sz="1800" spc="-1" strike="noStrike" u="sng">
                <a:solidFill>
                  <a:srgbClr val="ff00ff"/>
                </a:solidFill>
                <a:uFillTx/>
                <a:latin typeface="Verdana"/>
                <a:hlinkClick r:id="rId1"/>
              </a:rPr>
              <a:t>http://www-class.unl.edu/psycrs/statpage/comp.html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which also does an alternative to Williams test due to Steiger(1980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**SPSS syntax for Williams-Hotelling test (rAX=rAY), Pearson-Filon (rAB=rXY) and Fisher’s test at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http://imaging.mrc- cbu.cam.ac.uk/statswiki/FAQ/WilliamsSPSS  </a:t>
            </a: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DEMO WILLIAMS.X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*** Partials may also be used (Dugard, Todman &amp; Staines, 2010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Comparing regression coefficients in the same sample using a single  regression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ing semi-partial correlations is equivalent to comparing regression coefficients (Cohen, 1983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.g…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te 1: Dep=Crime rate; Indep=age, education get B(Cr1,A|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te 2: Dep=Crime rate; Indep=age, education get B(Cr2,A|E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st of coefficients B(Cr1, A|E) = B(Cr2, A|E) is test of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Interaction (site x age) given site, age and educa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s the correlation of Crime rate and age adjusted for years in education in the two locatio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o age and education have similar effects on crime rate when adjusted for each other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(df) = (Difference in Bs) /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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[V(B1) + V(B2) – 2Cov(B1,B2))]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egression assump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rrelation does not imply causalit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andles linear relationshi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y not apply outside rang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t least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5 tim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as many subjects as variables (Hair et al,1998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ust make psychological sens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ultiple Regress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ore than one predictor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quared semi-partial correlations (R-squared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it criterion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0&lt;= R-squared &lt;= 1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e.g. R-sq(X2, Y | X1, X3) = A/area of Y circl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11" name="Object 4"/>
          <p:cNvGraphicFramePr/>
          <p:nvPr/>
        </p:nvGraphicFramePr>
        <p:xfrm>
          <a:off x="4572000" y="1916280"/>
          <a:ext cx="4038480" cy="365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1916280"/>
                    <a:ext cx="4038480" cy="36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3" name="Text Box 5"/>
          <p:cNvSpPr/>
          <p:nvPr/>
        </p:nvSpPr>
        <p:spPr>
          <a:xfrm>
            <a:off x="6516720" y="285264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Where to draw the lin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rediction of y at x =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intercept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+ </a:t>
            </a: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slop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* x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he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intercept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=value of y when x=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y=</a:t>
            </a: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dependent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variable (plotted on y axi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x=</a:t>
            </a: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independent</a:t>
            </a:r>
            <a:r>
              <a:rPr b="0" lang="en-GB" sz="1600" spc="-1" strike="noStrike">
                <a:solidFill>
                  <a:srgbClr val="ff9900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variable (plotted on  x axi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 general : slope = Pearson correlation * sd(y) / sd(x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Correlation of -1; 180 degre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07" name="Picture 5" descr="corrs_r=-1"/>
          <p:cNvPicPr/>
          <p:nvPr/>
        </p:nvPicPr>
        <p:blipFill>
          <a:blip r:embed="rId1"/>
          <a:stretch/>
        </p:blipFill>
        <p:spPr>
          <a:xfrm>
            <a:off x="1619280" y="1600200"/>
            <a:ext cx="590544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How we fit the lin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y estimated from x by Least Squar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inimizes sum of </a:t>
            </a:r>
            <a:r>
              <a:rPr b="0" i="1" lang="en-GB" sz="1600" spc="-1" strike="noStrike">
                <a:solidFill>
                  <a:srgbClr val="3299cc"/>
                </a:solidFill>
                <a:latin typeface="Verdana"/>
              </a:rPr>
              <a:t>squared</a:t>
            </a:r>
            <a:r>
              <a:rPr b="0" i="1" lang="en-GB" sz="1600" spc="-1" strike="noStrike">
                <a:solidFill>
                  <a:srgbClr val="ff9900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differences between observed y and predicted 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aximizes r(predicted y, observed y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eans are least squares estimat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4 Scores of Y with values 1,2,4,9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m of Squared distances (D) from the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mean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is always a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minimum</a:t>
            </a:r>
            <a:r>
              <a:rPr b="0" lang="en-GB" sz="1800" spc="-1" strike="noStrike">
                <a:solidFill>
                  <a:srgbClr val="ff99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an = 16/4=4; D=(4-1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+(4-2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+(4-9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38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dian = (2+4)/2=3; D=4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catterplotting the mea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X,Y means marked by cross minimize total length of red lines and total length of green lin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26" name="Picture 4" descr="means"/>
          <p:cNvPicPr/>
          <p:nvPr/>
        </p:nvPicPr>
        <p:blipFill>
          <a:blip r:embed="rId1"/>
          <a:stretch/>
        </p:blipFill>
        <p:spPr>
          <a:xfrm>
            <a:off x="4648320" y="2014560"/>
            <a:ext cx="4038480" cy="389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Beta=correlation (one predictor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Standardised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) outcome = beta x (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standardised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) predictor + residua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nd beta to minimize sum of squared residuals                                                                                                                                        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in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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i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(outcome i - Beta x predictor i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(observations i=1 to n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eta                                     ( for observations i = 1 to n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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i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outcome i x predictor i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redictor i x predictor i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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i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{ 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outcome i x predictor i }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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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i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{predictor i x predictor i} x {outcome i x outcome i} 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Pearson Correla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because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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i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(predictor i) 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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i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(outcome i) 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n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Venn Diagram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S Total =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S Reg(ression) + SS Res(idual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=SS Reg / SS Tota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From ANOVA tabl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% &lt;= 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&lt;= 100%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33" name="Object 5"/>
          <p:cNvGraphicFramePr/>
          <p:nvPr/>
        </p:nvGraphicFramePr>
        <p:xfrm>
          <a:off x="4648320" y="1676520"/>
          <a:ext cx="4267080" cy="464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76520"/>
                    <a:ext cx="4267080" cy="464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87280" y="119700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1" i="1" lang="en-GB" sz="2400" spc="-1" strike="noStrike">
                <a:solidFill>
                  <a:srgbClr val="bababa"/>
                </a:solidFill>
                <a:latin typeface="Verdana"/>
              </a:rPr>
              <a:t>SS(Reg)/SS(Total)=squared correlation </a:t>
            </a:r>
            <a:br>
              <a:rPr sz="2400"/>
            </a:br>
            <a:br>
              <a:rPr sz="2400"/>
            </a:br>
            <a:r>
              <a:rPr b="1" i="1" lang="en-GB" sz="2400" spc="-1" strike="noStrike">
                <a:solidFill>
                  <a:srgbClr val="bababa"/>
                </a:solidFill>
                <a:latin typeface="Verdana"/>
              </a:rPr>
              <a:t>(Simple regression)</a:t>
            </a:r>
            <a:endParaRPr b="1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37" name="Object 4"/>
          <p:cNvGraphicFramePr/>
          <p:nvPr/>
        </p:nvGraphicFramePr>
        <p:xfrm>
          <a:off x="457200" y="2617920"/>
          <a:ext cx="8229600" cy="2687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3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617920"/>
                    <a:ext cx="8229600" cy="268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9" name="Oval 5"/>
          <p:cNvSpPr/>
          <p:nvPr/>
        </p:nvSpPr>
        <p:spPr>
          <a:xfrm>
            <a:off x="2590920" y="3581280"/>
            <a:ext cx="1295280" cy="45720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0" name="Oval 6"/>
          <p:cNvSpPr/>
          <p:nvPr/>
        </p:nvSpPr>
        <p:spPr>
          <a:xfrm>
            <a:off x="2514600" y="4191120"/>
            <a:ext cx="1295280" cy="45720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1" name="Rectangle 7"/>
          <p:cNvSpPr/>
          <p:nvPr/>
        </p:nvSpPr>
        <p:spPr>
          <a:xfrm>
            <a:off x="4495320" y="5410080"/>
            <a:ext cx="282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299cc"/>
                </a:solidFill>
                <a:latin typeface="Times New Roman"/>
              </a:rPr>
              <a:t>t(14) =6.76, p&lt;0.001)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2" name="Oval 8"/>
          <p:cNvSpPr/>
          <p:nvPr/>
        </p:nvSpPr>
        <p:spPr>
          <a:xfrm>
            <a:off x="4495680" y="3886200"/>
            <a:ext cx="381240" cy="38088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3" name="Line 10"/>
          <p:cNvSpPr/>
          <p:nvPr/>
        </p:nvSpPr>
        <p:spPr>
          <a:xfrm>
            <a:off x="4648320" y="4114800"/>
            <a:ext cx="304560" cy="129528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Fit criteria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46" name="Object 4"/>
          <p:cNvGraphicFramePr/>
          <p:nvPr/>
        </p:nvGraphicFramePr>
        <p:xfrm>
          <a:off x="457200" y="2362320"/>
          <a:ext cx="8229600" cy="3006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4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362320"/>
                    <a:ext cx="8229600" cy="30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8" name="Oval 6"/>
          <p:cNvSpPr/>
          <p:nvPr/>
        </p:nvSpPr>
        <p:spPr>
          <a:xfrm>
            <a:off x="2057400" y="3352680"/>
            <a:ext cx="1600200" cy="144792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9" name="Line 7"/>
          <p:cNvSpPr/>
          <p:nvPr/>
        </p:nvSpPr>
        <p:spPr>
          <a:xfrm flipH="1" flipV="1">
            <a:off x="2895120" y="4419360"/>
            <a:ext cx="228600" cy="144756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0" name="Text Box 8"/>
          <p:cNvSpPr/>
          <p:nvPr/>
        </p:nvSpPr>
        <p:spPr>
          <a:xfrm>
            <a:off x="1905120" y="54864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299cc"/>
                </a:solidFill>
                <a:latin typeface="Times New Roman"/>
              </a:rPr>
              <a:t>= Correlation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1" name="Line 12"/>
          <p:cNvSpPr/>
          <p:nvPr/>
        </p:nvSpPr>
        <p:spPr>
          <a:xfrm flipV="1">
            <a:off x="4419720" y="4114800"/>
            <a:ext cx="0" cy="137160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2" name="Line 13"/>
          <p:cNvSpPr/>
          <p:nvPr/>
        </p:nvSpPr>
        <p:spPr>
          <a:xfrm flipV="1">
            <a:off x="6172200" y="4038480"/>
            <a:ext cx="0" cy="137160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3" name="Text Box 15"/>
          <p:cNvSpPr/>
          <p:nvPr/>
        </p:nvSpPr>
        <p:spPr>
          <a:xfrm>
            <a:off x="3809880" y="5334120"/>
            <a:ext cx="190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299cc"/>
                </a:solidFill>
                <a:latin typeface="Times New Roman"/>
              </a:rPr>
              <a:t>Squared correlation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4" name="Text Box 16"/>
          <p:cNvSpPr/>
          <p:nvPr/>
        </p:nvSpPr>
        <p:spPr>
          <a:xfrm>
            <a:off x="5562720" y="533412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299cc"/>
                </a:solidFill>
                <a:latin typeface="Times New Roman"/>
              </a:rPr>
              <a:t>Checks predictors are pulling their weight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tandardised residual plo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57" name="Object 0"/>
          <p:cNvGraphicFramePr/>
          <p:nvPr/>
        </p:nvGraphicFramePr>
        <p:xfrm>
          <a:off x="2484360" y="1628640"/>
          <a:ext cx="5902560" cy="4724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58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84360" y="1628640"/>
                    <a:ext cx="5902560" cy="47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9" name="Line 5"/>
          <p:cNvSpPr/>
          <p:nvPr/>
        </p:nvSpPr>
        <p:spPr>
          <a:xfrm flipV="1">
            <a:off x="2411280" y="1988640"/>
            <a:ext cx="914400" cy="2286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0" name="Text Box 6"/>
          <p:cNvSpPr/>
          <p:nvPr/>
        </p:nvSpPr>
        <p:spPr>
          <a:xfrm>
            <a:off x="0" y="2057400"/>
            <a:ext cx="198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Abs(SR) &gt; 2 - influential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1" name="Line 7"/>
          <p:cNvSpPr/>
          <p:nvPr/>
        </p:nvSpPr>
        <p:spPr>
          <a:xfrm>
            <a:off x="1547640" y="2852640"/>
            <a:ext cx="1371600" cy="25146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tepwise method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Parsimony</a:t>
            </a:r>
            <a:r>
              <a:rPr b="0" lang="en-GB" sz="1800" spc="-1" strike="noStrike">
                <a:solidFill>
                  <a:srgbClr val="ff9900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- obtain fewest number of important featur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ALL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variables in a model independently associated with outcom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8000"/>
                </a:solidFill>
                <a:latin typeface="Verdana"/>
              </a:rPr>
              <a:t>Shtatland ES et al(2003)</a:t>
            </a:r>
            <a:r>
              <a:rPr b="0" lang="en-GB" sz="1800" spc="-1" strike="noStrike">
                <a:solidFill>
                  <a:srgbClr val="008000"/>
                </a:solidFill>
                <a:latin typeface="Courier New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riticise the over-reliance of stepwise on p-values and suggest a best subsets approach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2 kinds of stepwise method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ff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00ff"/>
                </a:solidFill>
                <a:latin typeface="Verdana"/>
              </a:rPr>
              <a:t>Bottom Down (Backwar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art with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ALL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vari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emove least unimportant one-by-on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495680" y="1599840"/>
            <a:ext cx="41911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ff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00ff"/>
                </a:solidFill>
                <a:latin typeface="Verdana"/>
              </a:rPr>
              <a:t>Top up (Forwar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art with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NO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vari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dd most important one-by-on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Correlation +1; 0 degree ang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10" name="Picture 5" descr="corrs_r=1"/>
          <p:cNvPicPr/>
          <p:nvPr/>
        </p:nvPicPr>
        <p:blipFill>
          <a:blip r:embed="rId1"/>
          <a:stretch/>
        </p:blipFill>
        <p:spPr>
          <a:xfrm>
            <a:off x="1619280" y="1600200"/>
            <a:ext cx="590544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What makes a good model?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There are various methods which are used to identify good model fi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F ratio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tepwise regression option in SPSS: find best one-variable model (according to hypothesis test), then best two-variable model with that first variable included, etc., until no additional variables are significant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tepwise schemes do not necessarily find the best model among all the possible variable combinations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Akaike’s Information Criter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Mallows C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 good model if its Mallows Cp is close to p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 difference between Mallows Cp and AIC  is explained in Venables &amp; Ripley(1999) Chapter 6 for linear models, and is usually not great.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What are these fit criteria?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R Using lm() with Step():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= n ln(RSS/n) + 2 number of terms in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SPSS using all possible subsets approach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p  =  [RSS / MSE(full model)] + 2 number of terms in model – 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here RSS = unexplained variance (Residual Sum of Square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SE = RSS fitting all possible predictors / its df(error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oth of form: model lack of fit term + number of terms in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o want to minimize AIC and C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F tests vs model selection cri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and Cp choose between models balancing goodness of fit with simplicit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tepwise F tests do not directly compare all models and focus solely on goodness of fi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 WITH REGRESSION LINE.SPS, ALL POSSIBLE 13.SPS AND MODEL SELECTION.TXT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ee also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Kuiper, RM and Hoijtink (2010) Comparison of means using exploratory and confirmatory approaches. Psychological Methods 15(1) 69-86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bababa"/>
                </a:solidFill>
                <a:latin typeface="Tahoma"/>
              </a:rPr>
              <a:t>Facilitator Variables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         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Median) Income (in dollar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le                     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icide rates            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20-64 years)                               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Hand,1994)                              (Median Years in) Educa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-3290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fter removing effect of income a longer time in education has a lower rate; education has no effect on suicide rate on its ow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-3290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eed to take both income &amp; education into account when explaining suicide rat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-3290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xample of a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ynergistic relationshi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1" name="Line 4"/>
          <p:cNvSpPr/>
          <p:nvPr/>
        </p:nvSpPr>
        <p:spPr>
          <a:xfrm flipH="1">
            <a:off x="2361960" y="2057400"/>
            <a:ext cx="1904760" cy="6858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2" name="Line 5"/>
          <p:cNvSpPr/>
          <p:nvPr/>
        </p:nvSpPr>
        <p:spPr>
          <a:xfrm flipH="1" flipV="1">
            <a:off x="2438280" y="2895480"/>
            <a:ext cx="1905120" cy="53352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ynergy - verbal sco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-3258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otal verbal score = score left brain  + score right brain (deterministic); negative left,right brain correlation = -0.7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-3258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eft brain (score A)  right brain (score B)  total verbal score (A+B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                               4                                   6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5                               6                                   1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6                               5                                   1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8                               2                                   1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0                              1                                   1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-3258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core A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- 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53%, score B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- 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0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-3258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core A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AND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score B = 100%!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-3258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0.03*INCOME-2.17*EDUCATION correlates with suicide rat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-3258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COME, EDUCATION themselves do no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ountain racing…..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ip of footwear, temperature predicting time to race up and down a mountai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mp (deg C)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ip (roughness coeff)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ace time (minute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0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0.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0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0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0.4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8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5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8.4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5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8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16.8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2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9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16.0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9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14.0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90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etter gripping soles tended to be worn in lower temperatures…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(temp,grip) = -0.93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(badly designed study!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esul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mperature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ALON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: t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4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0.98, p=0.38, 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19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ip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ALON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: t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4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-2.04, p=0.11, 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51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mperature &amp; Grip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TOGETH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: 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95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mperature: t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3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-5.04, p=0.01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ip: t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3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-6.63, p=0.007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mperature and grip predict race time together but not separately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 synergistic relationship again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y not have occurred if greater range of grips used at each temperatu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emory - collinearity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Correlation in IQ: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(time1, time2)=0.98; both  correlate &gt; 0.5 with memory (y)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Collinearity (highly correlated predictors):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Tolerance &lt; 0.1, VIF &gt; 10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hould combine times or use one time to predict memory scor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5" name="Oval 4"/>
          <p:cNvSpPr/>
          <p:nvPr/>
        </p:nvSpPr>
        <p:spPr>
          <a:xfrm>
            <a:off x="4495680" y="1981080"/>
            <a:ext cx="3886200" cy="152424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6" name="Text Box 5"/>
          <p:cNvSpPr/>
          <p:nvPr/>
        </p:nvSpPr>
        <p:spPr>
          <a:xfrm>
            <a:off x="5410080" y="2438280"/>
            <a:ext cx="2362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Times New Roman"/>
              </a:rPr>
              <a:t>Can give inflated Std errors, wrongly signed regression estimates</a:t>
            </a:r>
            <a:endParaRPr b="0" lang="en-US" sz="18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7" name="Text Box 6"/>
          <p:cNvSpPr/>
          <p:nvPr/>
        </p:nvSpPr>
        <p:spPr>
          <a:xfrm>
            <a:off x="5468040" y="2022480"/>
            <a:ext cx="172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299cc"/>
                </a:solidFill>
                <a:latin typeface="Times New Roman"/>
              </a:rPr>
              <a:t>Collinearity: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1"/>
          <a:stretch/>
        </p:blipFill>
        <p:spPr>
          <a:xfrm>
            <a:off x="457200" y="4419720"/>
            <a:ext cx="8458200" cy="1904760"/>
          </a:xfrm>
          <a:prstGeom prst="rect">
            <a:avLst/>
          </a:prstGeom>
          <a:ln w="0">
            <a:noFill/>
          </a:ln>
        </p:spPr>
      </p:pic>
      <p:sp>
        <p:nvSpPr>
          <p:cNvPr id="299" name="Oval 8"/>
          <p:cNvSpPr/>
          <p:nvPr/>
        </p:nvSpPr>
        <p:spPr>
          <a:xfrm>
            <a:off x="6781680" y="4191120"/>
            <a:ext cx="1905120" cy="228600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0" name="Oval 9"/>
          <p:cNvSpPr/>
          <p:nvPr/>
        </p:nvSpPr>
        <p:spPr>
          <a:xfrm>
            <a:off x="2133720" y="5029200"/>
            <a:ext cx="1981080" cy="129528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1" name="Line 10"/>
          <p:cNvSpPr/>
          <p:nvPr/>
        </p:nvSpPr>
        <p:spPr>
          <a:xfrm>
            <a:off x="3657600" y="3200400"/>
            <a:ext cx="3352680" cy="167652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2" name="Line 11"/>
          <p:cNvSpPr/>
          <p:nvPr/>
        </p:nvSpPr>
        <p:spPr>
          <a:xfrm flipH="1">
            <a:off x="3733560" y="3352680"/>
            <a:ext cx="1600200" cy="213372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llinearity and synerg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mountains example tolerance = 0.12, VIF=8.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o, just outside range indicative of collinearity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general synergy may result from highly correlated predicto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ut the correlations will usually not be high enough to cause collinearity problems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ut check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 WITH COLLINEARITY.S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bababa"/>
                </a:solidFill>
                <a:latin typeface="Tahoma"/>
              </a:rPr>
              <a:t>Thanks</a:t>
            </a:r>
            <a:r>
              <a:rPr b="1" i="1" lang="en-GB" sz="3200" spc="-1" strike="noStrike">
                <a:solidFill>
                  <a:srgbClr val="bababa"/>
                </a:solidFill>
                <a:latin typeface="Tahoma"/>
              </a:rPr>
              <a:t> </a:t>
            </a:r>
            <a:r>
              <a:rPr b="0" i="1" lang="en-GB" sz="3200" spc="-1" strike="noStrike">
                <a:solidFill>
                  <a:srgbClr val="bababa"/>
                </a:solidFill>
                <a:latin typeface="Tahoma"/>
              </a:rPr>
              <a:t>to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an Nimmo-Smith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avid Boniface &amp; Michaela Cotte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John Hall/ Joseph Petrucelli</a:t>
            </a:r>
            <a:r>
              <a:rPr b="0" lang="en-GB" sz="12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a044b"/>
                </a:solidFill>
                <a:latin typeface="Verdana"/>
              </a:rPr>
              <a:t>Ref: Hair JF, Anderson RE, Tatham RL, Black WC (1998, 2006)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299cc"/>
                </a:solidFill>
                <a:latin typeface="Verdana"/>
              </a:rPr>
              <a:t>Multivariate Data Analysis Fifth, Sixth Editions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a044b"/>
                </a:solidFill>
                <a:latin typeface="Verdana"/>
              </a:rPr>
              <a:t>Both in CBU library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a044b"/>
                </a:solidFill>
                <a:latin typeface="Verdana"/>
              </a:rPr>
              <a:t>(Good “rules of thumb”)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ff00ff"/>
                </a:solidFill>
                <a:uFillTx/>
                <a:latin typeface="Verdana"/>
                <a:hlinkClick r:id="rId1"/>
              </a:rPr>
              <a:t>John F Hall | Independent Researcher | Talks - Academia.edu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ff00ff"/>
                </a:solidFill>
                <a:uFillTx/>
                <a:latin typeface="Verdana"/>
                <a:hlinkClick r:id="rId2"/>
              </a:rPr>
              <a:t>http://independent.academia.edu/JohnFHall/Talks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a044b"/>
                </a:solidFill>
                <a:latin typeface="Verdana"/>
              </a:rPr>
              <a:t>(“Crash Course in R”)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ttp://www.staff.ul.ie/mackenzieg/Assess/R_Integration_Tools/r_integration_tools.html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Zero correlation; 90 degree ang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13" name="Picture 3" descr="corrs_r=0"/>
          <p:cNvPicPr/>
          <p:nvPr/>
        </p:nvPicPr>
        <p:blipFill>
          <a:blip r:embed="rId1"/>
          <a:stretch/>
        </p:blipFill>
        <p:spPr>
          <a:xfrm>
            <a:off x="457200" y="1600200"/>
            <a:ext cx="807732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Next week…11am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Categorical Data Analysi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bababa"/>
                </a:solidFill>
                <a:latin typeface="Tahoma"/>
              </a:rPr>
              <a:t>Quadrants</a:t>
            </a:r>
            <a:endParaRPr b="1" lang="en-US" sz="28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16" name="Picture 3" descr="quadrant"/>
          <p:cNvPicPr/>
          <p:nvPr/>
        </p:nvPicPr>
        <p:blipFill>
          <a:blip r:embed="rId1"/>
          <a:stretch/>
        </p:blipFill>
        <p:spPr>
          <a:xfrm>
            <a:off x="395280" y="1989000"/>
            <a:ext cx="8229600" cy="4400640"/>
          </a:xfrm>
          <a:prstGeom prst="rect">
            <a:avLst/>
          </a:prstGeom>
          <a:ln w="0">
            <a:noFill/>
          </a:ln>
        </p:spPr>
      </p:pic>
      <p:sp>
        <p:nvSpPr>
          <p:cNvPr id="117" name="Line 6"/>
          <p:cNvSpPr/>
          <p:nvPr/>
        </p:nvSpPr>
        <p:spPr>
          <a:xfrm>
            <a:off x="3962520" y="2743200"/>
            <a:ext cx="0" cy="60948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8" name="Text Box 7"/>
          <p:cNvSpPr/>
          <p:nvPr/>
        </p:nvSpPr>
        <p:spPr>
          <a:xfrm>
            <a:off x="3962520" y="289548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RESIDUAL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rrelation - Need a range of values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 quantity of the correlation is inversely proportional to the density of the control (the fewer the facts, the smoother the curves).”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Anon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ually correlate pairs of continuous variables that can take a lot of values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issing variable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rowning &amp; ice cream consumption are positively correlated.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Why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ere’s another: Reading score &amp; shoe size are positively correlated. </a:t>
            </a:r>
            <a:r>
              <a:rPr b="0" lang="en-GB" sz="1800" spc="-1" strike="noStrike">
                <a:solidFill>
                  <a:srgbClr val="2c8ab9"/>
                </a:solidFill>
                <a:latin typeface="Verdana"/>
              </a:rPr>
              <a:t>Why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estriction of rang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n underestimate a correl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ull range of values :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 = 0.86, p&lt;0.001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mprehension values 34 or 3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in blu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 = 0.38, p=0.2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25" name="Object 4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bababa"/>
                </a:solidFill>
                <a:latin typeface="Tahoma"/>
              </a:rPr>
              <a:t>Scatterplots</a:t>
            </a:r>
            <a:endParaRPr b="1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heck the relationship between X and Y is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linea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heck for outlie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raw Scatterplots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befor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you do a regress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: ANSCOMBE.S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1T11:36:36Z</dcterms:created>
  <dc:creator>peter</dc:creator>
  <dc:description/>
  <dc:language>en-US</dc:language>
  <cp:lastModifiedBy>Peter Watson</cp:lastModifiedBy>
  <dcterms:modified xsi:type="dcterms:W3CDTF">2011-04-07T09:03:10Z</dcterms:modified>
  <cp:revision>292</cp:revision>
  <dc:subject/>
  <dc:title>REGRESSION ANALYSIS</dc:title>
</cp:coreProperties>
</file>