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DA1C3-5C06-4689-B989-F1CB86C8B2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13FB3-7EFB-481F-B410-9F685AB264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23C4F-4064-4652-99F8-7036F59A69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C8158-00F1-4EE9-997C-F15A1F0CD0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CE3DE-7AAA-4D09-8A45-7A1BF8AAA5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3AE85-881D-4500-AF39-2DEDF9397D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F9225-D777-4B37-A850-DA18864450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F29F6-A4C3-4A11-BD2E-F691C221EE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20E54-9200-4263-80F5-7F1DE36E27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4324E-BA0D-4430-956D-36E3AEFD83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9EAB1-9D92-486C-9564-EFDDF5576C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E4989-722A-4D50-AF68-A8145CE1B6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93F5E-9B73-4A97-9947-A7496665AE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97FE1-B86D-4328-8292-2527DC3FD0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B9A36-AED1-476A-A348-4D43900FC3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CAAD3-F702-4AD7-986A-78CAFA5C09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722B5-ACDE-4A29-9E67-20D7E8345D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3C09C-C2D2-4DD0-9389-A8C10E34E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BBA9B-D039-4F9D-8242-D8E100DBEB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2727D-E782-44D3-BBE2-89EC1C17C6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420E8-A51E-46DE-B2D0-AF0F2DFE82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B18B4-9260-4B6A-B10C-12138BB714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67B44-07E6-4763-B6EC-0E7BEB1A1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82F52-5B75-4E72-B0F1-DB980B3F6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30A023F-2546-4516-949F-77A41AD3634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CC3B394-821A-444F-B3C1-F0A64E8E04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A751D5AD-BB38-40A7-92EF-9D294059550E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8D025AB5-5BAD-4E8B-9E48-114D6BD0BADD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2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8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66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70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89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93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9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00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4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7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2-01-13T11:36:00Z</dcterms:modified>
  <cp:revision>362</cp:revision>
  <dc:subject/>
  <dc:title>No Slide Title</dc:title>
</cp:coreProperties>
</file>