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F4E0-A544-495F-A4CE-0E6C11232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B69A-AB45-4F69-BBB3-2DFAF2D8A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4F4C-19BE-4CC5-AAC7-04BCDD03E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36D0-BF2E-4E8E-B23E-7555709E6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B645-9CD2-47E0-9BA1-64518D888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4994-7008-4B51-BD1F-E091D6FB4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69C1-B346-4F3E-9F3A-0F37DC683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0E81-79F3-4056-8C45-2A6A9D9BD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1540-53CE-4CB4-A526-B59608F26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1290-7928-41BF-AA46-0E3B1F470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41C3-E4F5-4F08-8CB2-9F21E1BB6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3646-5C6E-4E4B-AA74-CD0B5C443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C21A3-4F76-4FC8-B6CD-87C74927807B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FROM R BITMA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2305080" y="1600200"/>
            <a:ext cx="45338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5T13:05:45Z</dcterms:created>
  <dc:creator>Peter Watson</dc:creator>
  <dc:description/>
  <dc:language>en-US</dc:language>
  <cp:lastModifiedBy>Peter Watson</cp:lastModifiedBy>
  <dcterms:modified xsi:type="dcterms:W3CDTF">2011-07-05T13:11:43Z</dcterms:modified>
  <cp:revision>1</cp:revision>
  <dc:subject/>
  <dc:title>SLIDE FROM R BITMAP</dc:title>
</cp:coreProperties>
</file>