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BF7F-8314-4BD9-8727-58C2E1201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244D-7A57-4F0F-81D1-B772A5FD0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8AA6-ABC2-4183-965C-A76211D3F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18DF-8D94-48D6-9D69-E6170CC20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0E6F-102B-42E5-98DF-3E43975E5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265A6-1A53-420E-A270-10F46F2139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1E2D9-25B9-440E-8530-69ACFD5C8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59F7E-975C-451C-AB39-729A833B84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DA935-DF4C-43D2-AE4E-3210ADC45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16803-8CE4-4CBD-A164-B7819BC45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8B381-7B11-4F8C-A442-4A9D584D7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58E6-1210-4C18-9BE4-BB5C0FDF0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F54B-05CB-498A-AAE5-31EC4CF7E0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C9BD3-E6C6-4354-83D8-02D4B4234B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EA66C-D979-45D4-AD1B-B2918D9B6D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86D95-E07C-4361-8766-CA25363D6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E22A-436F-4B39-8517-DCDEF2BA0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C51D-8E98-44F0-9EC7-3173AEBC6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0C62-4192-4F75-9B1E-36C88D358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14FF-66C2-498B-A638-5BC8E5AED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B052-A2D3-4A84-8B9E-39A0B13F2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BF42-8AEF-4411-B24A-BCFB74377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E5A0-8BBA-47EC-B8F3-291E219E4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E63D-5D75-4654-94B5-9A17CE119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16A0643-CA5E-413B-9132-A605A0C3117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84BEE06-0886-4B21-B8BE-28A8559B9F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874E0E-C17A-41D7-B131-75987954DF4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3E169B3-488C-4B64-ADAE-78C4617FA3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2-07-19T09:40:31Z</dcterms:modified>
  <cp:revision>344</cp:revision>
  <dc:subject/>
  <dc:title>Exploratory Data Analysis</dc:title>
</cp:coreProperties>
</file>