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3023-6140-450D-BA03-3905A8BBCBFE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072C-9606-4042-B694-736BBD7E5C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9BE4-38B2-4A40-B80E-2838086C7D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1B5B-1B31-4638-93CA-1F022A0FC5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0EEC-3108-4A23-8B6F-4BE4BB0E34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F240-BD3D-4614-9949-B1EDD036B43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C912-3F7E-4710-8601-D4D89712D6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03BD-36AF-4CC4-A01E-9323E20258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6FB9-CA4F-47E6-9781-3C18FB5887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069E-CCDC-427E-9F4D-172FD5F8A4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73C6-B1E3-4E46-8C4F-90BEFEDD65C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F971-BB33-4419-8CE2-1B60185D328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B21C-2FC5-4647-8245-B5EE81AE29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866E-772C-4F0F-96F7-901B6BCEC44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347E-9453-473C-B886-871B98B11E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0CDA-2DFE-4A9A-8B82-5751F60372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FFC6-640A-4001-83B7-5A6E26BB22C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1D45-2059-4671-86F7-8A76D27F9A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2868-3695-437B-94EA-4A2A49816F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A206-AB88-440B-AD94-F5EA5FF17F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827D-C36A-4AD7-BF03-474E605179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C47E-C0A9-4930-AAFD-DE0CA8B189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8F14-6061-4FC8-8EA5-89049B71C2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C21D-CDF0-4F34-B6C9-320CA4E281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FC01-B8F7-4712-81BA-B220B9DC05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2D5D-1B1C-43F5-A6B5-4D76C25226B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393B-CF78-4563-94CD-94869A0E01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2850E-2F72-457E-A773-633A08B705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F3F8-12B9-49ED-9539-AEBAB298C5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E78-8370-4558-88F2-83F76150141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FBBE-9CF3-43FF-9C30-A31FC2B41C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FE4E-962F-4CF8-BFBA-4EA447D472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7B3A-3244-46CE-A11A-FA12DEC66D5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FF70-D0F1-470A-AD3C-34B425F2E5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782E-C1DD-4B4A-A50E-9E7F93D5360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DFBF-FC44-4128-91D5-A2ADC29A95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3A4A-5CF4-44CF-B684-03DE51FF97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EBCF-2847-4C99-B80C-C8EA4B50DCE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3BF7-5B8A-4A8B-85FA-4BE8E3FD16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FC0B-4528-4386-A81A-D20A8BD5AB8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9A5F-2B23-474E-80EC-5D29C8C1464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D141-EA5E-4FC3-8BE2-3C1F6D3EF6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507F-2FE9-4C89-8957-E953ECDCFED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CA44-0B3C-414E-A3EE-D437A90DEC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ACD2-9F05-4DE8-A24B-86A6E2068E2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127F-8EB6-4301-BE83-254767E63DA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E15C-3E2E-42B5-83C3-8B5EB64454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0355-4BFD-44E7-8D12-8BB0F9F7AD8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3062-F597-4000-90F9-B39848E873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E134-C399-47EF-AB6E-6B73D76D54A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A9E3-7059-4B19-89FB-10E501C76B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234C-DBC1-4A21-BB92-6186159DB98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A865-255B-4F02-BA4C-A7C8FFACA44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BF80-4249-4390-8EA2-438463C6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B97-09C3-4B36-92A6-BC85158F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A25-E7A9-499E-8261-0BF06B779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BA67-CCBA-49D8-A0BB-19AED7E2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F770-1D72-41B3-AF7C-1E23793D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6C2-E33C-4229-B2A6-12B1E747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82A6-E359-4FA2-A814-BE3CE54C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5B02-243D-4221-8C55-5705A1DC8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A820-F407-4B60-B373-31A55AAC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047-AD48-486C-858D-3F0A6B8B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CE3-ADE4-47DD-B0F5-882B8A4B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2D26-07D8-4E31-B0A9-7FC3046D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AC70-C2DC-42D6-8BF9-A0024EB8F7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7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30DF-DC5D-42F3-80FE-DD74BBD0CC1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8116-96A5-4522-9CBC-AE665F7285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2E8C-F2CA-4A02-9B83-062718803ED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8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2615-5CF3-44F3-A369-329ABC9D802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7678-6201-4C94-9B43-DA5D80B1826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178A-DB73-47A2-8A90-1D6818DEFD2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50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F8F1-5C67-4934-BBA6-7723D80438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993A-8E47-4FC9-8548-F3AFB84D30F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08" dur="1" fill="hold"/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184B-0926-4934-833E-08999CDA96E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45EA-9F98-4CD7-992B-5891314F17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7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B877-8FE2-48E4-B960-796D32282C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DEB9-74C9-48D4-8092-1F2C80710F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77CEE-CC8B-4957-BCEB-5B55870686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4C98-13F4-4886-8315-F9BCC41887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5" dur="1" fill="hold"/>
                                  <p:tgtEl>
                                    <p:spTgt spid="1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5B84-7E36-4F55-8C05-CCB49F5EFE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587B-A8B7-4297-87B2-47803E663B3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8" dur="1" fill="hold"/>
                                  <p:tgtEl>
                                    <p:spTgt spid="1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CFB7-AC49-4E60-9417-B7DC829D58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2968-9494-41F4-A6C1-AC022C7B3E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EEA3-6D6A-46EE-8797-26C1089BAE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8F29-E467-4D9C-86D5-8DC627E5863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BE28-C0A4-4257-9E9A-2C93852625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2183-0425-468D-B4D5-3F6F2414F6C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676C-BDF0-4D54-BA09-B7FC5EC616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" dur="1" fill="hold"/>
                                  <p:tgtEl>
                                    <p:spTgt spid="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B341-1849-4E9B-ACCD-280E9AA06C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D063-C9B0-4D81-B491-43CB7D9821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8" dur="1" fill="hold"/>
                                  <p:tgtEl>
                                    <p:spTgt spid="24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8280-3441-490D-AA78-E5032F949D2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2" dur="1" fill="hold"/>
                                  <p:tgtEl>
                                    <p:spTgt spid="2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9053-CD6A-41F7-A930-118B9971F5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57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E95A-CF3B-4EB9-8556-F2623E78BC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60B1-C170-4200-ACCD-A3B0632362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8280-B536-4D46-84EB-9C0BAE5690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AF08-5773-45BB-A256-B3A79C4BEA3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775B-9745-459B-A368-7D0A007F65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538A-ED9B-49CC-855E-C12B06CF59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C607-2D81-409F-83CB-B5D3B15116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3F7C-558F-4351-B3F1-414AB18DFA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C9A7-EEA1-47FD-B15F-79AB5D022D6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C737-A665-46BF-A929-2A3A721A08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D08D-C966-459F-8ECA-F2777B8551E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6FF3-6EAC-4A4E-90B3-43668ACCEFF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E457-6C37-4600-927E-1B553A332C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F86C-B08A-4513-BDC5-70FCC98261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A48B-A661-420A-BDAA-4E1326C0F1A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AD1C-1354-4755-88DA-B098F178A92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6E3E-2B98-435A-B93C-2963990A7E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0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9625-33E4-410C-A670-549FA3E6900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807E-9C60-45B5-BE8C-BFCF7C0E6E0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9299-828F-499C-A388-26BE1BE1C28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1C66-41BE-4A66-9A12-3664A34992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C603-C0A5-47BF-925A-A47E7DCFA6B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9A5C-8653-4417-9D2D-26A0B76554E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C0E8-17CD-49B2-BDAC-ABEF872C627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100C-A9F0-4BBD-84EA-56C4490FE2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F0B3-070F-41ED-BB8B-DAB0F8FD52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ED8B-CCBF-43A2-A0B5-7167C512AC8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5F9F-7EFE-40A9-A1DF-00A71B3E1D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2CB8-7A41-441A-9A69-E1400884C68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D102-9B76-4416-99EE-E6E636F6D4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944A-7799-4AA1-8B48-60DF11E559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9565-31E5-47F2-AC29-18BC3A46E0E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305-68CB-4CB0-84B0-91613B1462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97C9-0723-4744-A78B-679144A9839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15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CA51-7D52-49F0-8E61-9B2DFC12EF7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6D9F-BC4E-4FCE-A6EB-DD45DCB553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29th Nov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5" descr="coversmall"/>
          <p:cNvPicPr/>
          <p:nvPr/>
        </p:nvPicPr>
        <p:blipFill>
          <a:blip r:embed="rId1"/>
          <a:stretch/>
        </p:blipFill>
        <p:spPr>
          <a:xfrm>
            <a:off x="6248520" y="3657600"/>
            <a:ext cx="13716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C7C5-2A90-4616-9D67-4750A8A8E0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0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7D88-9284-43E0-99D7-145FBB35E2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2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72388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04B6-9D1D-4041-BEE9-892A21BBA8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7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2-07-20T10:30:27Z</dcterms:modified>
  <cp:revision>90</cp:revision>
  <dc:subject/>
  <dc:title>Aims and Objectives</dc:title>
</cp:coreProperties>
</file>