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277C-B978-47AE-86D8-648903993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7114-E266-4DA9-808D-022A64CFA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F4E1-D80A-44EF-9209-524649556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127D-6D44-4E5D-8744-4FE72EB23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56D84-9C93-4B47-83E0-4FB1285707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803A7-71C3-49EF-B6FB-8CBB811391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4E6D3-7FE0-42C8-AA8B-C9B59F4E93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186E6-6B9C-4D91-BD28-D249E9B79E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0466B-BA7B-45C4-BCD5-8C99050915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66F30-4D74-4377-AE17-5EC982A2D2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B5609-425B-45DA-9627-FFF2E13744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ABC9-5806-4AC6-93D8-AEA98CF86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EB194-DFE1-44E8-8A75-A52A505349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BAC66-C13E-440E-8375-3C7651FDC8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E1700-A355-42CE-8B15-1ED878BCF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D3188-171E-48B2-A116-F0D4F2716D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5686C-848D-4168-BE0B-774315DFB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E373-E2B8-4D3F-BC56-B73679C78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BF53-F40E-4B84-B70A-5420367FB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0732-6B2A-4FF7-A051-9ED5767DC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0631-BA61-4415-9E80-8B2ED7307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2D0D-C9B7-422D-A30B-47FCDFF4E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2E3F-C1CD-4950-B56E-53FD3BA2C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8E07-E48F-4F67-8A4E-5666EE62C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2553E39-D57C-4407-A440-AF8BCA7405A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6430EE6-2970-4284-9AB9-069CEE0C87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98C1021-E876-451A-A8FF-65F587C843B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EFB01C7-4517-4D1F-ACBF-0DDA8E864BF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hyperlink" Target="http://imaging.mrc-cbu.cam.ac.uk/statswiki/FAQ/Doncaster" TargetMode="External"/><Relationship Id="rId3" Type="http://schemas.openxmlformats.org/officeDocument/2006/relationships/hyperlink" Target="http://www.albany.edu/faculty/rfh64/power/power.html" TargetMode="External"/><Relationship Id="rId4" Type="http://schemas.openxmlformats.org/officeDocument/2006/relationships/hyperlink" Target="http://www.aprendelo.com/rec/power-calculato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maging.mrc-cbu.cam.ac.uk/statswiki/FAQ/Doncast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www.albany.edu/faculty/rfh64/power/powe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2-06-28T14:17:07Z</dcterms:modified>
  <cp:revision>221</cp:revision>
  <dc:subject/>
  <dc:title>8: SAMPLE SIZE DETERMINATION</dc:title>
</cp:coreProperties>
</file>