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1C6E-BE55-4749-ADE7-AAD9A3CA1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C67D-2977-4FAC-B124-8B40BD7D8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8EC0-4EBE-4BF2-A660-A764DF2C9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95F3-8BFC-45BB-85AA-2B5383D3C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CC524-90C2-48C3-8519-FF4636AF4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6E5ED-78FE-42C4-8005-C4B026BC8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C6DA5-1BD9-4F89-88DE-38B053FBBD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EC28B-C32B-4EF6-A585-041BA9E9E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D1392-2594-45C4-B131-CA5023DBB4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FCC4D-AE36-47E9-83FC-B610FA2B4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5281C-836F-41E5-B30B-765E2D3C5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83B2-D1A3-4C15-80F7-4A282A940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40690-40D7-4DDC-822E-E979167639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E1177-5BD0-4062-BB74-1D01FAD4B9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F3F4F-2DE5-4060-9B9B-16CAA88F2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12C8-C979-4733-88C9-46641CFAA3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0FFA8-6964-46C7-A3EA-4C9331437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4D55-40E5-458D-BEE1-5EAAADCAE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9D18-5C59-4CCE-9161-4159390FC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1043-E4A8-4145-B506-BDC2B0B5C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EB75-5B26-44BC-88C0-63A839F72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464B-C2CE-4587-A718-D803E8C99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8C12-1F57-47DF-8CC9-714037844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F27D-23D5-4C4F-BF6A-B397BC982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927A096-FEC4-47BF-A1A0-E5B0306BBE9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F0285EF-51AC-4A9A-98E0-F4C8ABE4F7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E0FDA6F-6667-4A5E-850B-8F08248B913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BBEE9F7-33D7-47C7-9049-CAD840BD25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2-10-04T15:27:11Z</dcterms:modified>
  <cp:revision>294</cp:revision>
  <dc:subject/>
  <dc:title>REGRESSION ANALYSIS</dc:title>
</cp:coreProperties>
</file>