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D0B-4C61-48F9-A388-F5A33369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9A4-E3EC-422F-94E2-E8C07D07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C4F-7B68-46C1-B7BE-783BD40C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B17-3EB5-4754-B996-6EEE6F5F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B5C-9226-4E1E-9720-14A362F7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98C-83A1-438B-9CEB-72AE1AE5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7AA-A1B7-476F-A63C-E7C07884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366-3CF2-40FC-8E86-AD41BFE9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24B-556C-4E12-9808-FD2E94C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96F-6235-415E-A8D0-01BF2D69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AC6-A704-4531-AF3C-D2B8862C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359-0905-4E3F-A5D6-29D0CFCE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A51-75DC-448B-A143-8647D99C44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2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2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2-08-09T08:41:38Z</dcterms:modified>
  <cp:revision>67</cp:revision>
  <dc:subject/>
  <dc:title>No Slide Title</dc:title>
</cp:coreProperties>
</file>