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74AF-4FA8-4FF7-8F37-8325E6EA7CBD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BC11-C4AC-43C3-B699-24F9D0980EF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5EA5-937B-4FB8-9FCB-38750CAE716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05BF-C8AA-4ECC-B931-03A79C49D98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425E-3FFD-4518-A2FC-49B90D321D3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237E-2856-4576-9D3B-1171B41DA4F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8CE1-AD2E-4656-9AF6-DF658E9148A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91FB-3BAD-4E48-BD03-9E897463BC4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F5C2-7162-404C-8CD2-307AA746023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F08A-7E7A-4E6A-8B24-82227EA9F66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D24A-546B-4DEB-A0FF-127CFBCCE89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E3E5-6142-421B-A9EA-6A560FAE13D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8851-DCED-47B6-B7EC-C0FC878E723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E148-9706-4EA5-BBF4-CE3597F5A04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0477-8DAA-4DAC-A22F-DE9D9B5BE41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1AC0-3925-4633-AD76-D59F6049813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1F8A-D1F0-4C14-A162-C3E48B23977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3DC2-B870-4DDF-BDCB-5E7156C6E18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8D2B-67F7-4E81-AECE-0C46DAA870A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D354-320D-4760-8339-DB2220CC813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A84F-07E1-4FAB-A69D-70C160E9039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59C2-1A5F-48C5-80A5-129838AD839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FCAB-122E-45F7-B6E8-8FD40CD5435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A2D2-BCF3-4B7E-9AE1-A8561EC3998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F9BC-BF7B-4B4A-BFFD-0219F4BC2D7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5697-5878-4E97-82EC-224FDD7A5DE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C639-7ACC-4E0D-BE7F-3153447087D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6A01-6C68-498E-A4BC-899DE6D764E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27DD-0EB3-4C82-AAA7-2AC8538D70A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57A8-674B-4561-92F7-880943AA391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6121-CED6-4978-BD02-4C07A84B57A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661E-CE31-47E4-9E83-3EADF9FC6D6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6782-430C-484E-84DC-E11DD9CA664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73D9-5229-4862-B4A4-083C1EC53CE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3923-BF36-40EC-8D89-7FF8CB54ACD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324C-07D5-4065-8726-B70BE50660F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05B8-99C3-4331-ABD7-BAC02045FB3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64E4-04F5-45C2-BF14-8A7BC6DB435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1203-6B6F-4D49-8733-C19E35439FE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C235-3F9D-45E4-B609-23DBD91A03F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7CDA-E2F0-4327-A181-9B36EFC9D2F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7518-7930-4582-917A-1EB181462BE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173B-2A87-44D7-8F1C-39228555718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656F-6CC3-48BE-99A2-B7139672633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D007-EB89-415C-A017-D8E31A16012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9D91-A66A-4D3F-A0BC-D5EBD26B447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BAEB-A7DE-41AE-9429-0B4430520BD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5FDB-4543-4C31-8BA0-5AF607B196E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E9CA-58E4-4D20-ADF6-D2302223B86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9A35-AA0D-45BE-AC84-613F9426B0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4B42-0010-4A81-A3FB-747F01A075F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85B4-11CB-40DD-B672-DCC7E8D21A2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E8FB-BA81-466C-B197-9F6DDA41825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82E7-A8E4-4892-B0FA-0A2F6C0AB97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B35-BC50-4882-AE44-D69ADE6F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C85-4B16-441D-856F-A2B5FD80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AFDA-BB38-4DF7-946F-284BB4D3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5111-B9EE-4D50-83A2-C031A2B6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6A5A-8749-4923-AE8C-D2A9114D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2F4-4C71-42C9-B038-FDB53CE7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1C60-1DE8-4991-9F69-4A5619A8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394-1972-4119-A649-44D27015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917-E328-438E-903F-0520FFD0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B9C3-B298-45C8-A5FD-2257E355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4C3-8E24-469E-A3EF-F0D71A12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3C5E-095A-420B-89C9-64F8C677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4E32-AA26-4D36-B748-0FCFCE782D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18296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3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17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3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36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8" dur="1" fill="hold"/>
                                  <p:tgtEl>
                                    <p:spTgt spid="1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5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1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8" dur="1" fill="hold"/>
                                  <p:tgtEl>
                                    <p:spTgt spid="21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2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1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5th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9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8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3-08-05T08:39:43Z</dcterms:modified>
  <cp:revision>94</cp:revision>
  <dc:subject/>
  <dc:title>Aims and Objectives</dc:title>
</cp:coreProperties>
</file>