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C3A1B-A5BB-4550-8C3A-6DC220ED90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B8D36-0E40-4E21-8E05-A4273FB3C8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6D98D-CCAB-4F45-865A-FF6C56C39A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CB273-9A73-4B25-A143-C250741894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8BEFCC-77B8-447A-9DC8-8A5AA53262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D24C7E-12AD-4828-A8FA-E2FBC78A97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1B5100-E221-4206-AF70-86AA940B7B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51463-D33D-4488-9C5B-28FDF02C94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9DBA60-CDE5-4A01-A38B-01B0586AE4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47BC46-E6C2-45E4-B1F4-24E654DAF0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4A7C1-B48E-4A2D-96B9-F77FD70035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D3F74-CB6E-47BB-9C31-C867741111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8D3D0-9D51-40B5-925F-2CDECCBA80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97FBD4-B989-4486-80A8-23E96C990B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A1A650-73A1-4EE4-8129-EAC27B3224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93EF28-051B-4975-973A-CBAA3EBF4B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8F4059-E30F-416E-BC3B-130DF97A35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32B40-D04A-4B31-92FB-28FD2E7F01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54E6D-E268-40E2-9635-99EFAF872A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7E9B6-69CF-4735-BEE6-F74C8B261F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128E1-9D22-4D88-B3D9-0C07E4628E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DFED4-798F-44B1-B0FA-66A9632560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EA781-9C1B-4746-B94E-5ACEA71997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40FA8-2455-48B8-B49F-9256D5FB16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F37E96D2-C174-4D2E-B166-D99332A3CE9F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62F0ADA2-8115-45AE-9CD9-54C0F76E49E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F30D003E-C3AA-4FF7-AD7B-DC465A2B5850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2A50406D-AC3B-4EAD-9F30-CDE138A0C98C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soton.ac.uk/~cpd/anovas/datasets/" TargetMode="External"/><Relationship Id="rId2" Type="http://schemas.openxmlformats.org/officeDocument/2006/relationships/hyperlink" Target="http://imaging.mrc-cbu.cam.ac.uk/statswiki/FAQ/Doncaster" TargetMode="External"/><Relationship Id="rId3" Type="http://schemas.openxmlformats.org/officeDocument/2006/relationships/hyperlink" Target="http://www.albany.edu/faculty/rfh64/power/power.html" TargetMode="External"/><Relationship Id="rId4" Type="http://schemas.openxmlformats.org/officeDocument/2006/relationships/hyperlink" Target="http://www.aprendelo.com/rec/power-calculator.html" TargetMode="Externa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rField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comparing two group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= group difference (=sid) /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at is the smallest interesting difference in your expert opinion? (si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s.d. from previous work (can’t contro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cancer sibling study: 222 possible to sample but 80% response rate and gender matched siblings will reduce sample past 120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60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maging.mrc-cbu.cam.ac.uk/statswiki/FAQ/Doncast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60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60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3"/>
              </a:rPr>
              <a:t>http://www.albany.edu/faculty/rfh64/power/powe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4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rFiel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13-02-28T10:32:41Z</dcterms:modified>
  <cp:revision>222</cp:revision>
  <dc:subject/>
  <dc:title>8: SAMPLE SIZE DETERMINATION</dc:title>
</cp:coreProperties>
</file>