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9FDF-66C2-4511-928A-E72196342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8B64-36C2-4588-BB54-AE1A534A4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159DF-15AE-4162-BC48-4DD52E832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69DA8-0FE9-4889-8FD0-884A89041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3B82A-0D8F-44F3-BC8F-DE5C4804BD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7E331-6036-43E3-81E4-539C8DED64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973F5-505A-4198-BC63-EA8CAD263D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711DE-6CC9-470E-826F-C8185C3F24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2BB67-835E-4CCE-93CB-22BE64233C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CD783-D3DC-4471-AEE6-CF9C71494D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85BE5-792E-4DD0-B0BA-F78B775F74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7F430-6716-47CE-9306-EE5ACA7BF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3B27E-2DC7-48BB-8879-905C512826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53220-76E2-43CE-A95D-2631096B14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2A107-0C30-4FC5-BD86-CC36E668E2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9FB8F-C3F7-4BD6-B35D-A8F0864CCC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010D0-B09E-4526-8960-23139CD35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E5BA-96CA-48FF-A299-530030CA5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BF7B-49F0-48C3-9CA6-0966EDF3B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97BB-CC8A-44DF-A2C5-36C4DE0C1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D82E-B813-499C-93C0-4290F6F44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2AACB-3327-4F93-B274-018E318B7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ED424-086B-47EB-9DE2-4A3C287BC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81F44-606C-4C09-A450-0D9909166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5326F90-CCC1-462D-83DE-E4D286575EE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2150A2B-D5CA-4AB1-AE1C-95D5A3ABF2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023E951-F099-4993-B999-BDC440E27B7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12674A6-CADF-4FA2-9EB4-BC20034B1B3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path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3-08-05T08:32:50Z</dcterms:modified>
  <cp:revision>303</cp:revision>
  <dc:subject/>
  <dc:title>REGRESSION ANALYSIS</dc:title>
</cp:coreProperties>
</file>