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4908-A6ED-4116-A010-EFFB7EAB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E48-56C0-4BFE-8AEF-E6FDE6DF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9EAD-34FB-4685-AAC6-D69D4122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457-7DBE-49D1-8C1D-8595F714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9A6A-31D2-4292-A4DA-7BEF2F45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336-8416-48F0-B152-5930FB6B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731-72B1-4C52-AB8E-A4673B65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DB37-D2EC-4271-962B-7BB0A10F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C36-8446-424C-A145-8ED883F2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CB0-4B83-4B3F-AC53-EF3AB9DC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1A71-90F0-431B-96F7-76C2CF39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C2C-5E9F-42B6-B66A-D5D4BE98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CFFE-AE71-4174-B5B2-38010566AE6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212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4 November 201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8" dur="1" fill="hold"/>
                                  <p:tgtEl>
                                    <p:spTgt spid="5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8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3-08-05T08:40:52Z</dcterms:modified>
  <cp:revision>76</cp:revision>
  <dc:subject/>
  <dc:title>No Slide Title</dc:title>
</cp:coreProperties>
</file>