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161-B278-419F-B46B-7AB5265A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B96-34E2-4718-BBB8-CE16A513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421A7-2F01-4C5A-9D3A-4609C935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A127D-109C-4287-BBD0-531B57D3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421C8-C377-4B4E-89FD-D771FD3A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36311-54B8-45F7-B9B2-DBE154C8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AD87E-C6E4-4E71-A35D-B03EF14D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DCCCB-AE59-4C06-B849-8D074777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77CA2-B1AC-4E76-840C-5BD47B4D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02EAC-A980-4930-B856-2B5EE520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67916-D738-4D6D-BC21-94BA11DC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68997-F95C-44FF-9497-49AC315C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902-6646-43E6-90A3-176BA7B1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FC967-17A8-4064-99B8-A149CA92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5EBAB-D705-44F3-9F17-26C9AF54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38A6D-4A96-4965-B598-A5752098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12E10-B927-46BD-8A53-60296491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2BF19-08B9-41F3-850B-046B1289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E3D3B-F68D-4D1F-BFB1-6133C54A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C491B-C460-4E9B-9478-CFCCF98B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5DAE8-4CE8-485F-B2B7-3F06207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15E0E-5297-47DA-9490-2EC48FCA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9F2DA-C063-416D-B691-5EFDC0FE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D72-B6A3-4240-9126-C39E3AAF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8CCBC-62AF-4168-BED7-41765DE5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55311-A8DD-4384-9DD0-E3232C1C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94AEE-CD17-40C9-A6E8-89FE6901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0E56F-1290-41D7-A019-B1FD6B5B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EF24A-3A25-432B-B28F-F5C3E7D9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2EA5B-D5B2-4ABF-8968-A37CAFF2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72E67-E475-4F45-AB91-856D6CEE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1E26E-D5B5-479D-A93B-7D44959C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B640E-CFB9-4DB9-A4D4-1C191F8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F3FD1-A3D7-4FBD-AC6F-E7F23A4C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3F13-AB88-4AB3-BF89-7C5430C8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7A9FC-BA72-41A3-A625-763047B2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DEC3B-2BBE-4584-BD91-6EA990B1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BDEEE-BAAE-46BA-BFF2-2043D9DA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7789E-2B13-4969-8C1E-508613A4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87721-9C9B-44E7-827D-2FF11F4C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830B7-7411-4ECC-B89E-2851342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1671C-7C34-4D43-BE3C-AF57A53A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F45E3-A300-4E61-8C61-A9226AA8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AB4F1-1425-4336-A758-4E17548B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E7C86-6EF5-458A-9D4D-515B9263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29B6-EC43-4E7F-92F3-98A95A85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77004-BF4C-4D0F-A107-EE2696E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8FD21-FDD7-4B88-B1E3-1E73D9EB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45F70-4285-4E35-834A-C14A36D1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B55F0-4DD1-4DFC-A3CB-76FD74D6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AC871-DE70-4EFC-BD73-00EC3C14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83F64-4E87-49FE-B2FD-D72B9E1A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BC4A7-A132-439D-9C00-F0DBB609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75BB9-86DD-474D-8BF8-4261B2FF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971F2-4CF5-4D2B-B95D-0B4D4FB0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F3A8E-F0CE-4100-BFC6-38ADC0A7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F66C-223D-4719-872F-5A1EC9D2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5F54A-FB7E-43DC-B0B3-DB09CB57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6AC36-9827-4237-8B4F-B71B3936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6FB8E-7841-45B3-8948-50FBB8AA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7BE27-AC22-4EDF-878A-D2D0633F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2BA7D-560F-4E3D-9E14-3907D2C3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982AA-0C02-4069-BE72-3602C555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6F9A5-00FD-47BD-ADD3-E4A56D14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EA2BB-5A9E-4DD4-B0B0-4F0C8449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40E77-94ED-441A-99D7-E07CFBA5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F80A7-B521-483F-89F0-A2E013DE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6D59-43D3-4D67-B5FC-A4DFC948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5B8A7-499A-49D6-AB8B-35F20562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4D7E6-6428-4475-BBEF-C5227AAF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A0BB2-A978-47A9-8E02-F442CE7D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F4161-9582-4310-BC0D-26AF73E0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2C56D-9F0D-45D7-B96D-4BC3341A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FEFF6-20C6-4CED-9D5F-FCFD2434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EFFD6-85D2-478F-B305-681C48C6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F7207-B5A4-4E35-87D2-DC7B877A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5EF04-10E3-453E-91EF-01C4F07A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8F036-FFE2-4821-A0C2-32E08B9A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9FA1-7BDC-4D34-9104-FA8AD276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16018-08AA-4617-B610-01DBDD17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5A631-8600-4130-96EB-9CE575C3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80431-E627-4188-B1B1-C7AE6CB3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0503A-23B4-490C-B792-EBB46F64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3D8959-729D-44A4-9CA3-0D8C93D5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A544D-91DA-434D-A8B5-AA55FBA5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4FD9A-AC86-4F0C-9450-84F678AA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23847F-9FB8-40DB-B1E2-35230C2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4BA97-B8FD-4140-9E75-5C366CC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3A0DF-AEA9-48DD-ACC9-AB671AEF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FAC0-1265-4CD0-A055-C237C770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A5F0F-03C6-4949-BF34-33CF2A11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2F68A-65A4-47E2-A59A-7C770920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76AF1-3E80-4121-BEB2-40901EE5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1AB4C-C6D7-4558-A3E7-2EEF8F31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7465C-E658-4E29-98BA-8784994A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B6C013-40B7-4C4A-A9CA-FA328988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5F942-9514-450E-8014-CE655F2A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6417D-08A9-4084-A620-7186C7FC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B3C06-6AC3-4440-BA6E-9FD226EC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4741E-58CD-4B60-871B-A15634C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950D-DDAA-4DBA-822C-33DA924B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BE2558-D907-439B-BD69-AEE19D6D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67AD4-FDC4-406E-A6C3-299D5A96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830DD-8BAB-4D50-860B-4567AC1F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AECAB-1F4C-43D7-8F7F-03158E68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185DA2-412C-4879-80CC-6287C7BD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A3F15F-D3FB-466F-98C2-C5B5F35F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99D827-E1B2-4B53-B6FE-A062BA96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F9693-B7CD-4808-B531-D188BAEF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E0CF8-C07A-48D4-BFD5-147DF819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DA582-85D2-45DF-8F55-1AECDA40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0A4-E089-45DC-8617-82D525A8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506F-9344-4F73-B7DF-16294F24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3461C-C0CA-46B6-8ABE-0C8C5B2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75DD4-E803-435D-8E31-5C78C40A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7E7EC-3C9E-4E08-9B96-833640F1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CE7F2-C5BD-4292-BB90-D877700C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9A876-CCE3-4163-917A-64A23821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BB9CE8-3D2C-44E2-A0E4-6E43C7AA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107EC5-91F1-4858-89D7-6A9D0E64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E6F38-FA8A-4439-9B49-0BC0EF72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71D6E1-987B-42C4-8425-6F980D26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AD223-B713-4AF9-A2E9-5C465837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74C3-1D2A-4BC9-95D7-11DC15C9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0115E-BCE6-4E99-AAB8-C606DDE3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47E4C-F10A-474B-8EF1-BE90F505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819B7-81DB-4EDD-85F4-BA85B7D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C4CFF-4753-4518-9B1B-422CFBE9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75DA8-771C-4795-BF20-0B5E543D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ED4B3C-2936-45B3-B039-83D67330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3036C-79A5-49F7-9B07-5DFE2545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3A9A-FD6B-4306-A8C2-E98761F0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D2D3-53FB-4003-89C5-1F43B51F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B517-F572-4AC7-8694-7A822EEA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93DA-EFAE-40D7-90CB-2831CB65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B6B2-D556-47A0-A3EE-617D880A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4D41-33DD-411A-B83A-414D177A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4333-EEF4-4F69-B32F-11D7358F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FA71-236E-4C88-B3C5-D7FF7A64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023-3B92-4735-B834-F1683013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CD78-FAC5-4DF8-B1FE-60BF370B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C883-4987-4196-8BC2-6E6D29BF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D5AC-5B8F-4F65-8761-EF1B4850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97F8-41F3-4123-8829-C3A69C44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8836-E2A6-4B8C-8FAE-AE7A42EF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34BA-2BD5-47CE-B52D-F03F3BBC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82A6-7D64-44A3-98FC-E1E5C3D9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B01C-9500-4DFE-9999-5CDC1FF3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4B1B8-D613-4C41-9833-3DB9E4CD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593D9-269A-4DA7-8455-9584793D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C59-D64A-4844-B7E3-A28160B1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95E2-0B8D-4848-891D-D7620D3B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4992-E883-4A39-9CDF-4ECB76B8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831F-043F-4855-9272-0BC5EC58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5D577-3F5A-47C5-B204-E3F7E1C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1339-E912-4432-B2B0-F5C952BD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44DAC-A89B-48B1-A891-1754D8A2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45AC-1F1D-4046-8F13-4A5E7085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3CDC9-2FB1-4AD6-B4FD-9CF4AF00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79732-A753-479E-8D77-15F03FA1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142ED-9CD6-4B79-B758-4DE395A0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E5D-83C2-4CFD-8AA7-B11A6312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7C2E8-F3A6-4C19-84C6-659802D4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7D85F-C589-400C-9F6F-E785F22D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6E70D-6587-4CD7-BB4F-5719F1F3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A1542-91BD-44BF-9A9B-620C28F6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25214-801C-476D-8BD7-E74726FA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7F531-A798-41CE-8322-9E7D5AC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F47CE-238B-4C2E-8AD0-9A4A8C2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984AD-6676-4248-880A-5EABEDAA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43E6A-B211-4396-849C-514CA760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49D72-1082-40E1-9F25-C6A61BA7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A1B-270D-48A8-A007-80B1A4E7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FFEDE-480C-424F-90E4-FF2D0960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C59F3-8818-4A19-9178-538F0ED0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9AD71-9480-4A1F-B14E-E98B94FC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02DED-A3C4-473C-B22D-0B0F71F8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4A281-9CC9-4E21-AE2C-51E30F5D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BEB51-7EA1-4E88-A256-25483F66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7DEEA-5E9C-4113-9E47-179A3768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ADAD8-A777-4871-8FFE-FF8A2800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65D1C-C4BB-423C-AD20-BFAD6D9C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C9B5B-262D-4829-81EE-1D992167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97E-C5F9-4009-AABE-77BA10F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62991-D29A-4E5C-87EB-78FDC821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08A81-BBA9-4A67-A169-1ACA02A7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B3B59-650D-4632-A7A7-A41B47E8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9B537-14DB-4175-8193-EAFDE350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82C0-54B0-4868-8266-7ED3D2E5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71DBA-83F4-4AF7-BF2E-AB426986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C64F2-BA96-4C9E-B598-7D60984C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96AC4-D108-419F-9324-DB2227D9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5C8F1-9AF4-46C7-B120-DF0D3E95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94F14-62B2-42DD-97E1-52063C73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188-3DDB-466B-BF3B-0320F9B4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7448E-0AE3-4BF3-8186-A14998BE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53DEF-2029-4889-8058-AD02A543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685A0-7E2A-4FF2-946E-9632C867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4D500-BA8D-4647-80AE-5E6B5085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2079-ACAB-43C5-BC31-A7358F44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CBD56-46C2-4575-A6DE-4C6DF0A0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968E3-C2F9-4EA1-B180-44F0FD58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361BD-D35D-48F5-BABA-E81C5591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CAB5-083A-4956-876A-A8E9C7F8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DFAF1-02F8-46D6-A68D-F8656C2D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F51-3500-4F7E-AA7F-2AA58BC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DDEF6-4197-4ACC-B559-3F8ACA64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9FA5D-ED53-44FE-A9CF-24FEDA6F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7CAB8-DE92-45ED-8D85-55DF9FBD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2DEE9-C33F-4A18-9A64-1B64FB5E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89B15-0930-4A46-863D-B9510B6A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4CC03-8F5E-4743-AB81-2DADF5E2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796FA-6840-4955-82A4-37364BEC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53F35-5533-450B-8735-C0A59EB4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1278F-6803-49CE-AD54-B1D6E7C9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36533-6962-4ECE-BA5B-61E2C904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E831-A5E8-44BE-9F1F-17EC55698F8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59D2-B2BB-4202-9EA4-FAD38476745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5700-9ACC-461B-BFA9-77009E47A74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8E1B-4948-44E8-A6EA-8A057155F6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C145-DC55-4B76-B00C-76985D872DC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B132-6E6F-4313-9205-C01ADB415CC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C153-C36E-4FCA-B5C0-866BF9CDE45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B9F3-478D-4E86-8346-C598CAA2775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15DD-A5B2-45D9-8E3D-DEBB14DB4F09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DEC7-8490-4393-A46A-AC71244E2EF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E269-DC75-423B-92A9-663D9667EBF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3A69-38F2-4C68-95D1-C6E545F40A0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DCC4-4123-43B2-8490-281F165C13D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AA72-8CE8-45F4-B73E-F38559D37EC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6FD7-80A0-4BEA-94A5-554ABA9FF7B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3BF7-4920-41C9-938B-CD44203D985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209F-AF89-4ADD-B8BC-2FB7F00EC30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6969-4E65-431B-9729-B96FD91A7B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4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4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2EA9-0254-441C-8D66-5EB4BF3AAD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8623-BB69-45E5-BD41-F4AAA52E80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E25C-B63F-44A4-A0B9-BCB2CEE84A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D609-5C80-4805-851C-ADB70D3CFB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6E08-6E30-45D7-AF33-35965B7809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5BB5-ED19-45DA-8C37-4447AF8E4E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B7C3-CB3A-4036-9FF7-D03F2C8845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457F-D3D4-4D76-AB76-C906D66F88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AB6C-271F-48AB-B8F6-E1E26B743C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6E2B-0C0B-4C7B-8FF6-3036FC5BDA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8126-7E45-49A8-9067-A2C9E42A3F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AA9E-2563-4367-BB9B-AF4389345C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C2C6-F31F-4661-BFD7-42A1BA2C0C2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EC1F-BDB0-474C-84CC-74A7F13733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19DF-1C00-4370-A558-3325798BC5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CB54-D295-45AE-AC04-FD9C1EC527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632D-0E3A-4561-B1C0-5C207FEE68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7D9F-FC11-4AD9-AE0E-297BE20143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A978-F5BB-4938-80CF-9DCDAD5692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0DA3-496C-4650-90A9-3E66526E7C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A5E-DDE6-4003-B262-F71D80D955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0713-916A-4922-BAD5-3329306011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6345-305D-4AC7-9725-62AFAF8770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BE61-513C-4DF7-A537-E875C63324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0F67-81AD-4712-A122-BF56931EB2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E1F9-0267-4F60-9C9A-9D1739E2E9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93F6-1CAC-42D7-92B1-9586E32922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7486-101A-4A24-8DD0-88CAF45EBD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F0BE-1FE0-4DA4-A8F9-5B9FEE27F8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AF44-AE80-42DA-86AF-3D16E2A42F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A6C9-0084-45B3-AD3D-90F05A2E4B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C1C5-7D69-4604-A962-14D406F04C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F169-81C9-416E-89ED-BCCC87DC44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E601-1A0A-4AAF-BABE-805B2D5685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F5A5-C03C-412F-BD77-7FA79205B7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D9AC-A629-43A4-AF74-94EF47F324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CCAC-1EDA-44E6-9016-A6485224C6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A93D-ED7D-4924-9604-FC2ECEF747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A0D9-CFEF-4A8A-850B-B574C4418A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50D9-8443-4B9C-BE7B-253BD150D2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807A-BC6A-4994-89BE-6CD69EFEBD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770E-CFB9-4911-A56B-2FD8111B00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65F6-EA64-43B4-B4C5-295D17692D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3A7C-3B9B-478E-B8F7-E474477398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8848-F356-4A07-AD2E-6969E16874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398F-A324-4CEB-B5DA-F41FEBB67A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53D6-ED78-4253-B941-B614764D9B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3CFB-6B50-45C5-B7D4-9B01DCB1A3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2F77-3D94-4716-B62B-8CC17665EE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3ADB-B718-4425-AF2F-5B027E6EEE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B8DF-4DCF-46EF-8D9E-1F4F303914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7539-BA34-4942-93B8-5AC9879154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1F60-00C6-4866-A977-AAAD72834E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F0F2-384D-4014-9673-07D1EB6B8E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A425-1F02-4571-966B-3F8AEC877C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1DD5-2D43-4DD1-8B2F-2E96B5E2D1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6654-334C-468A-A076-7806D3F9C8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4-07-22T09:46:15Z</dcterms:modified>
  <cp:revision>101</cp:revision>
  <dc:subject/>
  <dc:title>Aims and Objectives</dc:title>
</cp:coreProperties>
</file>