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9A086-2186-4093-8DBA-2C1CD2F30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5B790-3125-4145-91FD-FAED660E4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2B15F-A312-4573-BB48-99CAAB6EA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FEE86-BBE5-4602-B606-4C836EE96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BEA63-321D-4B2F-80A1-1C0F9AAEA8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AA918-0022-4BFB-AB45-9454FDBC02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F15A1-1C90-4361-B9EE-6A590668E7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564A0-7133-443F-8C50-BFF1224B8C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3F1CA-9434-422B-B6D9-84EBA2DB35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50F37-8F94-4C3B-8EC1-C48D89C9BE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31004-B564-441F-AF2A-2836A188FF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6C24A-25FA-4342-924B-66AFC86F0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CD32D-2217-48DA-A347-FEAE9DBFA6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77218-2AB5-4651-9A6F-91048FE813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E12AC-068D-4A6D-A024-845FE3D066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731FA-8867-4423-8AE2-DBD7B47DC7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5716C-D67F-4BDF-B74B-67AD80A005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1F1F4-8FEC-42D1-955B-7359AACAC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32ACD-A8E2-4937-83D8-050DD85D6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FA301-81F0-4CA1-A689-84554B5AC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68974-12E7-44F1-B151-136599749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1A727-5EF9-443E-B526-EC4755C6D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8618B-3E05-499B-AAD8-F756DA32C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7F4F3-C93A-4F23-A4A5-4AA644616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085257E-0F78-4FA7-8CD8-FBA602F49EE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53FD4DB-7461-4A62-846F-F4ABF11864F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8A8F94C-72D1-4ACA-8F5F-329E22E92B4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402FDF6-C72C-4B07-BA12-AA4090472D9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3-10-08T13:27:17Z</dcterms:modified>
  <cp:revision>348</cp:revision>
  <dc:subject/>
  <dc:title>Exploratory Data Analysis</dc:title>
</cp:coreProperties>
</file>