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EA8D4-FAC0-4EBD-AB69-1780CC54ED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D1397-16F9-4A9C-801D-DD2BBB2696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1496B-0A59-444C-9142-FA61F96706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F9A23-3899-4E03-8979-6E1D4B75F2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3C594-1B1D-4F88-ADBF-0DE49B5044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39943-34EA-44FE-9EF3-B264E83DCB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DB962-94C8-415D-8AF8-8287AC74F5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03DCF-0458-42D1-913D-6DCD054B4F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5C3B7-B2CB-47F9-9D3F-6F39E0CB52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E2C82-D13D-41F3-8A23-E9A0C9BCBB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758FD-ED71-47A1-A8CB-05326E3E6A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6CAF8-3A4E-47A9-891B-983A8E3CB4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67530-5018-4160-9D66-534C1F8A6B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5D0A4-4963-421F-B4BC-1F512A44F7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CDEB5-E14F-4460-A844-E05795435A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05B38A-479D-4302-A005-E05B785D63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2366B6-5EA6-43D0-9AE3-92D00BA157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06DDA-A1A9-4414-A8EC-92C5B99BDD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0524A-6C46-4270-A661-C63D689710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C8199-7B52-4972-AF98-0CDAE628DE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FC5BA-D7A3-4DFE-8977-AB4E684F5C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B0E94-99DD-4C44-8C77-B882FB7C14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490FC-FA66-4EC8-B898-8034C5BCE0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33927-BE86-4A2D-BE4F-A81EA83E4D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ABC69AD-DD2E-4FFD-B399-B328CC29D626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6FC36969-29A1-4139-96CA-F4940E68085D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E60CE8D-74D8-42AB-B29F-D316AD3D7AA0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FA083A14-F509-4962-9874-BF678A11F718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add-on module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E442-0EC6-4AAD-BBAB-5A0773B8ADBE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3-12-06T13:01:21Z</dcterms:modified>
  <cp:revision>331</cp:revision>
  <dc:subject/>
  <dc:title>No Slide Title</dc:title>
</cp:coreProperties>
</file>