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B848151-6F7F-4A1D-A751-1A4D7675C0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9516AA3-0A73-42B7-B846-6760B207D3F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0EC4-ED88-4A65-90FC-0B9C2155C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1941-E756-4B52-AFA2-26639EBF9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19A8B-E701-4551-AEC5-99DEDEC73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A8640-8330-4723-943C-5B97AB5A0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8556D-DB28-4C92-BB2A-496D48796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0B040-962F-42D1-ABCB-E1DA2CE1A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F4F23-FE7A-4553-952B-CD6809685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6A248-ACFF-47A3-B1F3-82BF2BD14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938E7-F0A5-46F8-A709-5CDCB5FC1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934F4-2E60-4B06-A3A1-689DF23F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E627F-7AB1-4A1B-9CDB-75AD6CFB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AC4B8-83EB-47C3-A3F6-28461705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84D03-DC49-45ED-8574-730E22AB9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3B712-5FDE-4648-A9B0-7706D1A45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9F532-A2F0-4F04-BFE3-098CD3D19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F7FF1-96E9-45A7-AA6D-1EDDFECA1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9DFBE-2530-4C2E-9639-D96D58B3C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9C03-C0CC-4883-83C1-BF3961465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3A5F-0065-4D0C-9677-25DC619C5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79FA-9F61-4B12-A231-6CDE7A0C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E66C2-E1A5-46BD-931D-B50095E5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0DBE-77DC-4DDE-8DBF-7FF871DFE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216B-0AC2-42E2-8CC8-0EE73456F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AC4D-424E-414D-8344-2B1F1BF9C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 October 2014</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6D76-F8E4-4475-88B6-A6F6FA5F45F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3 October 2014</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D3D0-B500-4043-85F6-5DCA802A4096}"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EF05-A986-47AA-8258-53A002807D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7DE7-1555-4605-90B8-017D209645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9023-0082-46D3-BB86-DF132E61A1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5CE0-30E4-4DFE-B573-6607404EDD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6FE7-DD63-49C4-9E74-CEE4BBC204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AD84-4376-4ACD-92BB-E2DC11CF49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D3E1-C0C2-409F-BAF0-00F5C745C9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C891-1D40-4069-80D5-AB28583842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A663-37DF-4245-B545-BF5AF012AA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457E-09B7-437C-B79A-F8325A9876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8F78-ADD3-4E36-B56C-216225E58B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A08B-0B5D-483E-951C-1111DFBA66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194B-25E5-4841-81DB-BF7B3D6778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CCF9-25E8-4FD3-ACA2-B5A8D5558C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26BB-69D5-4A7F-88EE-5CBB347F87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5C03-A882-4907-817E-3E88BAF0E8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A2D8-9DF2-4E18-B6C7-44087EEE3B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4E68-D955-4409-8E33-7A8226F429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A804-7AAA-4110-8401-8D5C2119E5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EE80-E392-420F-9FFB-1B483894E5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8ECE-5C17-4314-B9EF-8B558450A8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E417-876C-43B7-B27B-96BCB48CEB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77AB-D60F-4BA6-A8CA-2F38C03661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0373-25A2-4069-A2DC-FBC7F30BAE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2B6F-0851-4480-91F1-7B0D1FB16B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C045-E2C5-4FD8-B507-F2E146E6FE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C4F9-B85C-482E-BB4C-3252833A12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802A-2122-472E-BE13-A2344AB653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EBAE-64A2-43DC-BEE5-92B4B2E915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A7B4-5385-4FEA-BA90-FAE4BB5014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6AF9-9096-4B30-8E71-B7A839683E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BDE7-FAC9-4614-9AF6-52EBFDCD27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E247-CD2B-4116-AC7A-FD53BDBF34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257D-A467-4AB9-9FC5-ECFDD1D480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5869-CF54-4F48-9894-78DA961143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DEF0-8C72-4E2E-BDBD-E446BC93AD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6</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9236-410B-4656-9A68-9EC4ADCCB6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FA72-3A3E-46C0-87D5-0C410D8E8E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F68B-972B-44E7-A60D-FE0779A767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7FF0-4183-4B97-AB0F-920884A2C4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3 October 2014</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60CF-416E-482B-83A5-20AA3BB395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4-10-16T13:39:45Z</dcterms:modified>
  <cp:revision>64</cp:revision>
  <dc:subject/>
  <dc:title>Aims and Objectives</dc:title>
</cp:coreProperties>
</file>