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5910-490C-4A90-8344-308E7F5820CD}" type="slidenum">
              <a:rPr b="0" lang="en-US" sz="1200" spc="-1" strike="noStrike">
                <a:solidFill>
                  <a:srgbClr val="000000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418F-B0FC-4D5E-B27A-08C811CA9B3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E332-BF67-4978-9E93-CFA1E35BC80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DF66-89E3-478E-A5FD-42810991C21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3ADD-441C-4B11-BFFA-5C7372E86DF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3F69-6971-4007-B428-0BEA1B80094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1638-3B2E-4BC7-AE72-A42976DE5DA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AA3E-18FE-4127-90EE-6BC41251298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635B-408E-45CF-B28D-67FBD9ADF2D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D0D6-71CB-4505-ABCC-E483E0E796C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13DE-EB34-46A7-98CD-8A7D0D360BE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A2B9-C51B-4506-B013-80858C5F2F5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3473-A467-476E-ADB1-88AF64047FD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13D1-3BA7-405D-9CAD-75621F2986E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C374-46FC-4A0B-A727-E69F0DC8CC7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5973-1347-48C5-93BB-434D5F1C086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2D41-8289-417C-858B-95AEEAFFE2F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CD25-D55D-4545-8ABD-FCD75499EE5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357F-E90C-4D2B-86F3-70EC3B5379F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A2B0-A49E-40AA-8007-080CF4DB4DF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7F43-126C-4D8E-BF84-16BAF48BE2A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568A-0EDD-4678-9599-06E42BE4B71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3C7D-8337-4EED-9923-DA9119A17EE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4BED-7CE8-4415-9FA3-39147DA120C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B3A0-B70B-41DD-A49F-2499E640A49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C15B-2E10-4240-87C8-E9C9E317D90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8BE9-1FB4-43F7-8FCE-49CA627DD63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26B7-CA99-4798-85F3-5E01598F854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76AB-FE24-453F-9F10-1E752E116AE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595A-4D63-42A9-9773-9C1F9F2F5BC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CE91-7C63-4770-A3C2-A50A32E031D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5D4F-99E2-4E1F-BF3C-72B7909A469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0A4C-906C-4FA0-84A8-234D313645F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1DC6-4279-49C6-9B94-44BABE7C258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AC45-B16D-4548-A6C2-9EF0ADDE7A6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92E7-5B6C-4C17-8033-D8BC1893FF8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EF10-06BC-4589-9415-9A957C4E057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CDA2-B048-4FC3-A8D8-E774CB2A9FB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2DE2-3083-4A79-B8B3-6A15E7F67BA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50B6-0B2A-4E97-9275-6230BFD1114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DBA7-9236-46F7-BC1D-7EC917320DB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4201-769A-425E-A58B-0C1F2006B9B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1562-1506-45BD-B31B-4898955F1CF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8616-4485-45BD-B7BC-D430D5AAF2A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0976-CE12-42DA-8E5D-D2F56BE2D38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5479-1A68-420D-BAD9-727A503B112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56F5-8776-4C96-BEC7-A41A0A56CD6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20B8-98A7-4C01-BA6C-7CF28B8737A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D08A-A8F4-4EB2-88EB-AAAF34A7359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59DE-D77A-4BEA-9D32-FCBBAD778E7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8EA8-C5D7-405D-BD39-FA5E14E04F7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50B9-7C67-41A0-B6B1-C6E87956027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38A3-778B-4169-9C8F-CBC7CA2777F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4D43-BDCE-49D2-A010-30B960F57AE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E1AF-6A12-4A1C-8D9F-CCDEF684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4BB4-1B85-4EAE-9BCE-33BA0B1F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AE37-2320-47E1-BA15-D050F48BC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62EE-4C19-445C-8744-CBE66D61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3A83-04D9-40E0-AA65-69D78CC2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6CF2-9654-4C99-B0B8-C0A0E6BF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714F-B4E4-494A-8FF2-E82248DF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59D9-7A3B-4131-89B4-CF0BD6DE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FA48-DFDA-4B7D-8DD9-BE000DE6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D480-43D6-4B26-8744-D49CC0BF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BB37-986C-4273-B4F1-3ABDB3EF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5490-58A5-46D1-8C10-E9A3727D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DA59-AA5F-451B-BCF7-9C66E742AD8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308720" y="6381720"/>
            <a:ext cx="118296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4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17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0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3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136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1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6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79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1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 Thursday 4th Dec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1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8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4-11-12T15:18:47Z</dcterms:modified>
  <cp:revision>99</cp:revision>
  <dc:subject/>
  <dc:title>Aims and Objectives</dc:title>
</cp:coreProperties>
</file>