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6CBA1-A56F-4B66-9CFD-B5771D60C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71C0D-0539-46A9-8383-CB3FE8C96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9D635-4D91-46D7-9CDE-1EB070584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32CC8-F735-4628-812C-72202C409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E5CFB-00C9-4AAC-8AF4-978EB85389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F5D5D-B5EB-4050-8A30-4720BCB9C0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8DD57-A73A-4016-947C-E1BDFE4C86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B41FD-BF64-4096-8B11-D4128FB59D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695C1-64A1-4E67-8950-DE3FD6A265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C5010-A386-4AEA-8D51-97C8B62D95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532F4-3224-4BEC-B344-95E449F555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77EAC-BC91-4EA9-A97E-4C5F23954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E2C1A-85FA-48A5-8CFD-8D25D80A38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BFB8A-EB77-4660-B490-F967C64B6B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6F3E4-54AA-4E30-AE24-768718F0FA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03199-5759-4864-928D-80D03F397A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76513-81B7-4812-A996-07DDAD41D5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AFCB6-EF14-4BC5-828B-35EF85840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4EAA1-7683-41B4-8EB6-872385BD1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53D92-DE68-4876-BA7C-2DCB23227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5A17-66D8-4D34-9294-8FD0E892F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AF691-31FA-4476-B258-91FC38D75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1435E-BB34-43EB-AADD-F4318D07D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F14DF-A1F0-4A95-B4C8-28A5CF594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E72C230-8BBD-4DFF-91FF-E1EC3E7BD20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83540B4-0A02-4BB6-AB46-9CB938F3107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83B4AAC-E97F-4B72-8E7B-6A9A19EF06A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3E16D5D-9EC3-42EF-A45E-A7B5BC16274B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possible to sample but 80% response rate and gender matched siblings wil reduce sample past 120 needed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-help.com/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4-10-13T11:30:44Z</dcterms:modified>
  <cp:revision>228</cp:revision>
  <dc:subject/>
  <dc:title>8: SAMPLE SIZE DETERMINATION</dc:title>
</cp:coreProperties>
</file>