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A6E-55EA-4AC1-9898-049161FF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644-78C8-4169-941C-CEF8F9AD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E14-A984-4D56-9219-001AF260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A14-1210-4885-9BF6-52D73A4F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8E8-D895-4A0C-BEC6-993120E6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AF3-7372-44F0-A193-9BC79F8D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C0C-AAF9-417B-A9E5-A6E225FD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826-B5E6-4226-BDDA-1CB1F17F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593-B744-47F2-9A14-3AF13860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7AD-B787-4E14-87AD-7E54A6A4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E25-ED8D-4C0D-BB27-7E67AC8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F87-DF6D-4571-BF5F-88EC26A5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AA95-7F09-4C87-82AC-63F64D573B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7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4-11-12T15:18:11Z</dcterms:modified>
  <cp:revision>81</cp:revision>
  <dc:subject/>
  <dc:title>No Slide Title</dc:title>
</cp:coreProperties>
</file>