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C8FD-69E6-4C54-866A-D6AE3295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321F-680E-4E66-91EF-B66BFE264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05CE-8FD7-4E4F-AD1D-75CD5B31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DD98-0AD3-4A52-A6C6-6614F9738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3337B-0CF6-47B0-ADB6-686008AFF7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9357-FA2A-45AE-B4BE-C902E9835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9ABCD-2381-4393-9957-9E82F5D0E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232B-5391-4160-814C-1FBBA8C7B6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86E01-CCA7-40AC-97CA-CFF992C31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0FD18-8550-4465-861C-55559041C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7B837-8484-482B-9455-BCFD4BE50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4F83-8F7E-4ED8-AB10-0B25003A7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70FF-F865-4859-9EDF-34817454A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70F85-BCAB-4AB3-9E55-9A0BEEF79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F1335-57FC-4003-A045-BE5DF158A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79D5D-4615-4082-A5C5-9F5FDD83DB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9617-38E4-4902-8EC1-706CA6F19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F98F-B40B-473C-BE20-0B3FD88CA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B277-04CA-4E79-8749-E23AE274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B81D-3F48-4F4D-8625-422EEDC6B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C791-A2B9-4866-A488-EC8C98FE9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0B9E-1F36-497C-ABC0-34D02F3E4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46BB-AB27-4398-979A-CB246048A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A00A-F286-4892-837E-E86A0D467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5C2B61B-2FFC-449F-A384-C84DB01F192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FE56A2-A748-4FD7-8348-1B3E1337CC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846D223-C1CA-4289-AD52-BEA4098E0AB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2FFF6AB-6DE9-4A1A-A340-B751AE95874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4-10-10T08:39:30Z</dcterms:modified>
  <cp:revision>308</cp:revision>
  <dc:subject/>
  <dc:title>REGRESSION ANALYSIS</dc:title>
</cp:coreProperties>
</file>