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BA57-ECC8-451A-A2B0-748FFC277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9F73-2B79-43FA-9547-4E63FF7C7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EEF6C-C5C7-4FC2-8AE8-DDD9E1A5B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14DF7-0620-4A83-82D9-A65C11FA9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9E077-E3B9-40FE-AC29-635A02ED6A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AE6C2-4BFD-432F-B029-F35E569B81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19ED8-02FE-41E6-A7E1-B45E46E172A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4CD05-31F0-40A9-9562-761CE0AF31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A61B0-D914-4F27-B8BC-98E1EE84A2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D98C46-FFF6-40C3-9031-4BCECB8682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E2753-8C1D-428A-8E2F-B25033CD8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DCA81-D4B4-443F-A660-BA2B9A00F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7DA4FB-0714-4238-B2C5-1688810140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D94CD-5DED-4410-B4D7-0C8D9DC602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85067-D0D1-48E5-B9FC-C5B07CF414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31A8E-9F4C-47C9-9662-BA2D4358D4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EA625-0624-4D28-B1D3-4800096B55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7A747-DA84-4005-B677-D035D2ABF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7CCAA-D8A9-48D0-B342-A86F28D3C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1D7A-6BAB-43A2-887C-6358935DE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394D-AEA1-40C5-95D3-D689056FF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D265-933A-4189-BFE9-E88DDB29F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8F5D-4F87-4F66-A332-31F679F9F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8DBA-56EC-48D3-BED7-D2CBC7ACB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9677023-F09D-40FE-8981-CF2061B2B87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D0FBB8A-F16A-413A-9776-F96ABC51EA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C232028E-8C4D-498C-8D84-7C49909064F0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64A12E7D-A471-4101-8D82-55405D99CC4C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3-07-18T12:34:18Z</dcterms:modified>
  <cp:revision>364</cp:revision>
  <dc:subject/>
  <dc:title>No Slide Title</dc:title>
</cp:coreProperties>
</file>