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8510-837F-4D65-B37E-ABC594E3A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2D60-9BD5-4AB9-9BE4-1304B269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D4680-9247-4FE1-A64D-6FEE0142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334F2-DDA7-46B7-BCA6-62B7528D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B3EBA-91FE-48BE-B38A-8941FF84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30FCA-CEFF-402C-A910-653F1161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EE042-2E90-4BD5-AAA8-E4DF742A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E5F5E-0802-4031-87B6-44502099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98944-3A9F-4571-82A8-99FCEFA1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285B1-A74C-4B6C-B1E9-159BCB94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23200-1A36-42C4-883A-D45D4FE5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F131D-10EA-4F4A-8EB8-0CE9D3C0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6E81-BB6A-4C1E-88C6-BA2289C67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8E8E99-9FEE-47CF-A56B-EEEDA2A9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85836-06C1-4EA1-AE2E-A117BCBE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08188-B3CC-45E7-A611-373984AD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D33F1-5159-4B64-8ABC-41FC47EF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7F208-5BEF-4043-8E8D-4A0FC478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801779-FFA4-4B67-B210-9B3C40DF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CC068-0CAC-4CFF-A5B4-CE46B971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337F9-0B92-477D-BCE6-2D5DD6C7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2A2590-A258-468F-8124-1ACA7EB1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0C65A-7BF0-4BA4-80A0-EFB35C62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9D4C-4C3C-438B-A859-0FD16E17B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293F9-474C-4151-9A6C-4D5A4D6D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1A84C-16C9-41C3-9DF8-D0382C580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CFAA8-F1CB-47AB-8DD4-4B66E054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E5637-F592-4F48-B32A-90952A56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3551D-8CF1-42A1-8208-1FF46E7D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E7DA6-A940-4985-A717-EFA2A7B2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BC552-4134-4E0D-81F5-C99A5A4A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6F84F-CB3E-432A-AA83-95C66D53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B0E42-A7E4-4F23-AFA8-6EBCADE9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C5493-E95B-4731-A158-D5BDE1A3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A3A3-8776-42F3-BCE6-86F2E4B3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472D8-C7E4-4F3E-9945-2B23DE15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DE7D9-BCDC-4206-A5F6-4369EDAE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64929-571F-4A90-9676-66C92DE7B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4792C-D826-4D61-9CC5-C38DE3E8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BD95F9-18E8-423C-9939-BDF1EDB8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8514D-AE3D-4263-87FE-1DE221ED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63BA3-5A82-4A13-8A44-94049505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186C5-D56E-491D-9227-CC7CB5ED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64D53D-9FB2-4255-9140-33ED963D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E86FE-D542-4A5B-A7CC-77BFF45D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E207-44DC-46FF-AE78-A14866C4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678FD0-5793-4B4C-A57E-554A9729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8C84C-1741-4614-B0A0-65ED28F7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162A4-4FA1-44E4-B539-99CE38F5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79BD6-B916-4666-A533-4DA3216F5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9DC64-DBF8-493D-8B1C-B745547D1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AE7BAF-672B-4605-8EDD-8E28F5E77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5FC686-BE19-471A-8ACE-22A73C23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691A4A-02D9-4799-A99B-87CB2D8D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88A376-C9D9-4AD9-BE93-CAD1E82E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01066A-9EED-4412-84BE-6E03DDD1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43C2-53FC-41AC-A959-1A6F71C2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31E33D-AC03-4096-99E0-0889C1AA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EB46CA-8096-4392-9BC7-E4065176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9CC128-3C00-4A67-B27F-D362068E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B903D2-0521-458F-A44C-4DC0CEB2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0F5A7F-7B2E-4FA7-A9AF-32ED9A8F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867771-7D46-4CA6-859F-7ADAF1FCE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D4E4A6-6FD7-43A5-BABE-FE87C3CC9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4E0514-3067-4B67-B955-334F306B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A2A6CD-8DB3-429B-82FE-0DD1A1C6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2E4B1F-D46F-40CD-9F55-C5C50CBD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BBC6-3A02-4761-8116-B2C43B99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8BCCB7-7265-432D-85FF-39BE39C6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A6087A-28B2-4224-B0F2-4B94FDAB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A3EE6A-559A-4CD8-8B7C-A8877F8E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5459D8-2999-4080-B075-A12F8402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696151-4D60-427C-B40C-8281EA3A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7DCF03-65B8-49A6-AC6A-294B51EA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48F169-4362-4D3E-8BC5-F04260D6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33FD61-FE23-4E29-A9E8-A3F1AB82A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F4A50F-2113-4882-AC05-7534D7E93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0E358D-ABD1-4DF8-BBB1-6BDEAB47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DFC0-AC71-4D21-B97D-A8462FEB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F117EE-2396-4CAE-8F5F-FB5EFA01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75479E-D0E5-41E4-B389-27E56031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76CEAF-16B7-4746-BAF9-E16A2544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C8AED8-CA4A-4155-890B-26FB2287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00135C-BCC4-49DC-AB45-25B3E194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43560B-1BFF-4592-941F-B14D0E95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6A4CD7-17B3-4232-B0AE-A5853858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4FC23A-7A6E-43AB-86A2-65990442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0628E9-47E0-476B-85C8-8804B660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74CDE1-965A-4C6A-955E-33832ABFF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9411-6EC5-4A10-A303-9C01831C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226C78-02A1-447B-8502-B7F47777D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97FFFA-E0C8-4EE9-A676-C95969DCD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9F836E-5FFC-4D30-8CC5-3C6F82A2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1D0349-C35D-420D-B1C7-E80AABC1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5773DE-C8AC-49E5-8C18-5742FA24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4F0763-EB06-4975-A9F2-5ED922C5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ECA5B0-2E5C-47BE-AC49-19166406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407089-DD40-4F42-86E8-DAD54ED7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6C8A60-F5F9-41F9-A4DA-4CE8A9A2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A693F7-FD03-4924-BA75-64DCBD6F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AD59-F335-4C00-9441-8B04C98D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A7BE8A-913D-4B69-946B-05BB560B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0DC9A4-5BC2-44B9-87AC-F74FB52D7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A633F8-5AF7-4D66-A64E-560A5E5C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30B569-B686-47D8-80D2-3BED0BE8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1FFD48-42C5-4385-831D-79D6C48A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1FBCC4-86F6-4460-92E5-6E795CAD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7C593D-63CA-47A9-8274-BC539651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C58129-71C4-4A30-ABDE-193C859B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2B159D-45BC-4E7C-B525-E1E3722F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B3E81E-7F13-4080-825F-8E104CE6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E7AD-6A08-4577-919A-F8F79244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F7E4-2804-46EE-8AB9-19CCBF6F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6CE6D1-4C89-40A9-BD37-A6AEFD47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A4B163-1CE0-462C-9497-3AE450C7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2E97B6-A034-4844-9911-0E3C0E41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8D5037-E1AB-4AB7-881F-A06A8C72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22562F-C06F-485F-9EE7-4DFE321C5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A2AC67-ECA0-4112-B68C-A9A521847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B44906-6D3C-4CF9-95A1-075E1CD2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412EB2-7988-4B16-9600-D652DDF0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FBD28D-CC8D-4B1E-A568-E2608ADC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87B155-7110-473E-9C34-D0F9F5F7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CAB0-DFCD-4D43-B706-5CF50870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79C347-47CA-4FA7-A542-12091890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593903-428C-4B95-BA3F-D34D31D2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287C34-CCF1-428C-BA37-28E39D94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0D9862-07AF-4C15-A8E4-DA03CEE5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8323B1-F6F5-46F4-AFF9-93833C02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82BE25-CEAE-4B51-97C6-C0EAE54D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EDE254-F76D-49DF-8C01-85220C47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CC83-20E8-454D-A2F4-73E314FC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DD4F-B1D9-4A6B-A6F2-46D82B7D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DE85-4517-4DDA-BF25-DD482DB49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404D1-888F-48BE-B561-A50B4A74E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ED91A-085C-468B-A192-24528C2B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8D6E3-AEFD-4C7F-9385-1568A898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F7F7C-EAC8-48FF-95A8-C5A338AE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0AFCF-908C-49EE-B67D-A619518F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7B9D-F795-4056-88E5-F64D75D1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7CBAF-8CB3-45E6-BBDD-E7DABEFA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0A76E-7F1C-40DE-BDC6-81E6E6EC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F344E-99E6-4C39-BA21-A06495BD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ED621-B3C0-4B06-A80E-FF490222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CCA5A-777B-4000-8EC8-C5661DA1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F4D52-E323-4C41-A5A9-D244190E4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24F91-A16E-4E86-86F9-06A5B4A9F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27EDF-072A-431E-BBAA-C8403331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47CB8-DAB9-4766-BDB4-8A76AE8E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8FEDA-19FF-483B-B00E-E3580034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B94F-A71D-48EA-BFC3-DCBC7275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A658E-AA80-4432-BFA1-BDC9D608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A45D1-2CF4-4CAD-9D5B-E9A7A0D3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0E6B5-1B43-423B-85BF-5C4847FC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97C00-1AEF-4185-99FD-F3B5230A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69587-F221-401D-ABBB-D975C997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97A83-CD6B-4833-B06B-0C1D4DCC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85016-7555-4F43-BCC3-BCF6A1E3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314A5-4C5F-46C0-ADCD-FCF4FCA67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6A5CD-BDD0-42D8-82A6-CBDD74F9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DBBB8-9B17-408A-84A5-DB6ABDE0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E075-6B1C-4C55-BAB5-B5247FE7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BEC9B-D0B3-4A6A-8521-ABD7B2AD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F3809-186E-4C41-91E3-24059116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E5371-7A80-43E4-98EA-50F325FD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1F1C4-722B-4690-B192-07753B34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9227A-A64D-454C-B4FB-1EA586B3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89216-3F6E-4C35-BAAE-E7C8220D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96D2A-AD38-42B4-B866-81C59B04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14608-1102-4760-9407-F992E248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44AE7-60C4-4B6F-9491-8797384D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C96D0-40C0-4B6B-B698-6947BE92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A990-91FA-43A0-9DC9-38D69202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0F7C1-37AC-4441-BD03-7529C9FAF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CF858-9451-44E3-9979-9AEE6763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C9079-2E4C-45F9-99DC-5F3ACF15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D4904-BE6A-4C90-A95E-60C8095B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D5068-FEF0-4AF9-8FC0-D8842E8A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C7A95-E482-487D-9243-60C97381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F07B2-06CC-43E7-AA05-41B572D7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1821E-55F6-46BF-941D-462744A9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83A93-241E-4E85-B2D0-E757DAC4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74326-C222-43F3-AFB8-2E8CAC0A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2557-0197-411E-A3B4-AA01FEC8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9680C-F885-4C66-AFD5-8A765678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8F319-6CE5-4A24-985D-4F3791481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6CAAD-9156-4D6B-BC16-EB999616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3369D-303D-4385-8417-724500A2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72F38-9CEF-4C5A-B603-928AD75F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946B9-534E-4FE3-BBE9-E31D6007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B446C-6D11-4BFE-8342-30429490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D544A-6EFE-4A62-A651-8C71A677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B3114-C597-4C95-BB27-F71AFB90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0F689-E63A-4218-A75D-0C77278A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1440-7ADE-41A3-8D4A-8C68110A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7021C-B5D8-4271-A261-46F139E3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BB6E7-0897-4C0B-A823-B93BB890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C00CA-782D-47DC-8A92-E250A24B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17224-723F-482C-84E6-0379A2958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5C123-2A6A-4DE7-B3FA-01DBC2196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74EF0-1AC1-4232-B063-E15522C1F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9BB1D-9376-44B8-B18E-7C992100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07FFE-7EDF-46B9-8D7A-F0199016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4CF98-9416-4344-881B-79279937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6C200-C7E7-400C-8F52-29094651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4779-F30D-4776-A65B-91CC02AD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33CC2-459B-4559-A850-AED6F36E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C0522-B945-4D9F-BC5B-702455B7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3A606-4B0F-4C6A-8109-C46B44EE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73DFD-2902-4991-B900-2F57017A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616CB-7451-459F-A4D5-2E254BA5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EF14E-57AE-45C9-8B0A-574E94A5F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60CBA-FD08-46A5-BD94-519FB64BB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0B4ED-9508-4424-BD8A-B74EE400C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5E872-E132-4922-996D-C7A7214B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7E706-3BB5-44DA-B4A9-8EB2BF38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6DDD-3601-465D-8B07-AB38030BBA8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683C-7E01-4F14-9EE5-C2868A00606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7926-FD59-480D-9248-75B7A526EF5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1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4F8B-E791-40FC-AE5E-7DABFADED64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7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D6DA-C935-425F-AEFE-7F360F17A24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D49B-7BDA-40FE-8DB9-F4E752A526A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7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A7E0-892B-45BB-9D15-4470BD44D17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FEB6-7036-4A5D-BADD-5BB661AEF3A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00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5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5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5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81C0-9079-40D8-97DC-EAA7DD0917C7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257A-082D-4406-92D2-9C19C40A6A5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47E3-4DAF-4584-B1A9-3B32C16A90C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9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056F-3907-4FCE-A8F6-B46E38D083D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8F4C-1869-43AA-A80E-EAE0925B2B6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9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4832-6C3C-458C-AC47-5F6C272FCA0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0E5A-4BA8-4B0B-8B57-797CC2D2BF5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2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4608-2C15-4BCF-9229-15E8ECB69AE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8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7425-3FCE-46C9-B3E6-8184F8DF769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0D69-57EC-4C65-8417-6765FD07E46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5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5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5298-B33C-4712-B7A4-66B5CF225E2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4E60-311D-4AEF-8FCF-83F3AFF2A28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8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D7C0-B49E-4787-88DD-C2CBF93D921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3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5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E014-E8B1-4668-8C9C-C8B9243F5E4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0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E685-0AFC-4A2A-9469-708448E266D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16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17B4-0155-4571-A676-BCA74175997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2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5FDC-02BA-472F-AEE6-B4F24985671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27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28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C1F6-6485-4C6C-A3B4-5E6328F0D5D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3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928C-9363-45AA-877D-0C84EEC8FAE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9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3341-416D-435F-8E42-934FA653488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46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327B-BE76-41C5-A74F-3EEEDF1AC19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2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05 November 201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25E4-90E9-47A5-B58D-E8A9EA5D844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1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A97B-4317-4AA4-83C3-7D0D02D8632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8229-61C6-4A36-9B94-5BEB3242C67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1A55-AD1B-41F8-9DCF-A0F6629E1D6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FEAC-8A45-4394-B088-A48CEA3A81F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2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EF87-EE19-40A3-99CB-587114826E8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7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1482-CE10-45C8-8BC9-292C8E0A113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3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4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5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6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7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8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89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0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1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2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3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4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5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6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7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8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9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08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09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0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474A-0FB3-4656-8F6D-41E822EE57F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16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7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BFF3-C38C-48A9-BFAD-DC35F1872C8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3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BF58-2139-48F7-AE3E-452FA384346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9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CB7B-899C-4ADF-873C-9C38A8B1415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DA5C-C316-4728-AB52-9A7CD211484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5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1370-3715-40B0-B85E-13DFD08B69A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1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2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FCC7-29FA-417B-B549-7DC64F3A2EB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7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8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DA4E-FFB4-4ED2-BF90-501096994A1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4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E39C-5499-493C-9803-C13FBFC7083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5270-752D-4AE7-9CCF-C8CA032ECD1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66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3C36-851E-40E7-826C-FD6682EDDB1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1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2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47CA-567A-4A03-B255-F6CAB0606DE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77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4870-0D42-4348-89D2-BBD8E0C4E32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3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6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7186-0AC2-48C2-9789-94295F2F0F7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88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89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0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6D93-0F13-4D4E-A6A4-D6574F1D577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2D55-2329-4DF3-B147-48F8CAD24AD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20FF-EFA5-4769-85BC-7ADC767019C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1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3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7875-C26A-40D6-8A1C-AB03DE96128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9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1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052B-3898-45FC-8576-B754EFCC006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7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9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28AC-FDDC-4742-86EB-4BD0751E952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4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6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4352-B8F5-47A1-8E98-1C8E752B6CC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9CB8-8134-4618-AF66-EB273414543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37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38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0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1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4FDD-0942-44ED-9E9C-26F41B79DA6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46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47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795F-D033-48F2-87AB-1D5CF71D3FD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4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5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6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3869-4F60-46BD-915A-68C4A5EF734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2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3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4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5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DA0B-EAB6-477E-A1E4-78BFE44531F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6716-E2E9-4493-87C0-A6EA9FE385B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1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2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5782-AA22-4849-8720-9637ED16003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44DE-BC5F-4F77-864F-8E509868E02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3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17B1-57CD-4BFA-AA37-91B261DB9B3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9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1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6ADA-B5AE-421A-987E-F1755D5F9BB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7FAC-5EC4-44E0-9A01-16964386141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1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2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3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FCD7-43CC-4C95-A07A-732F9A3C6BD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36B5-2A60-4941-AEFD-283A6FF027D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30D7-C2D8-435F-AD7A-49BFBFB74F1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3D58-0A9D-4103-AA3F-81865B99064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3487-A172-49F4-B5B5-7DDC554543D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771C-55CE-4CF5-9B65-172C9E961F4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AB74-264B-4B82-8ECD-88B842D18DD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5-06-25T09:38:07Z</dcterms:modified>
  <cp:revision>105</cp:revision>
  <dc:subject/>
  <dc:title>Aims and Objectives</dc:title>
</cp:coreProperties>
</file>