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C7A6-8220-4853-86EF-EECE0BE96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60B2-A641-4146-8DFD-0AC7EAD7F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B700-D4FF-4667-A8A4-25912251B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3748-0069-463E-9060-83DC4E043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E341-B1C4-4CF6-838E-34FBC0F68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B51C-11E8-4EF1-A886-D6A638B65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27DD-2DEA-43CC-875D-3D91DF91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98AB-0D34-4D40-955D-0FF810621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CA83-5558-4577-8691-792AA735E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4996-0836-42B1-A4F0-A6729249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113A-8334-48E9-BA8F-F476B1AB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84DD-1211-46FF-A352-99B2F7A6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2FDDF-B950-424E-AE4A-1DDA4F47197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FROM R BIT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2305080" y="1600200"/>
            <a:ext cx="4533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13:05:45Z</dcterms:created>
  <dc:creator>Peter Watson</dc:creator>
  <dc:description/>
  <dc:language>en-US</dc:language>
  <cp:lastModifiedBy>Peter Watson</cp:lastModifiedBy>
  <dcterms:modified xsi:type="dcterms:W3CDTF">2011-07-05T13:11:43Z</dcterms:modified>
  <cp:revision>1</cp:revision>
  <dc:subject/>
  <dc:title>SLIDE FROM R BITMAP</dc:title>
</cp:coreProperties>
</file>