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D0E3C-BA28-44D0-B0F2-5B734ADEDD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763EC-4111-4B5D-9FE4-716562537C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251FD-97D5-4281-A46A-29E9692AF9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4058C-72BB-4D02-8ACE-188829B98A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3047E-9973-4D69-BEEF-6A780F2348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C3BB6A-933C-4C6E-9069-A6B3C34739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B6506C-768F-4D6B-9B1B-9D44BC289A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DDAB4-BB4E-4CBC-B734-E020A6C1E1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B98BF-B4FA-45A2-9A4E-1D5948A915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2FB3E-DF70-4E3D-AB46-7D306AFC46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07810E-DDF5-46E2-9656-7B5242E84B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AA06D-0397-4E81-A21D-681EF85A07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A82A8-609C-4CFC-ABBC-FEDB55AC02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C4A91-61DD-4F5B-93A2-3A9D0E3DDD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6EB76-8F0B-4B9D-97E4-1F3E9DAC44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DCF88-3A7B-43AF-BE87-FE633112FC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D7A28-59E6-4765-9ABF-6207C4FC57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51BBE-3667-4188-BA45-FBF3AB932F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1ED0A-101B-45C6-8D1F-13237A95C3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4F63F-AEEE-407C-9964-8694A24B12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FE685-A5AA-424E-9B96-938026EDEC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515FC-63B6-43A1-BA4F-7B28535CA2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38178-2F33-46AC-BAD3-265EEACB4F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B9CBA-1003-479F-97BB-9CE39A5306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B92E78C-4FD5-4BA6-A019-4AD8F83A996D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8763F9C4-FDC8-4090-A64F-9D2A1836D56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F5B4CCB-D151-4576-B77F-739B4107BCA9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B5F415B-684E-4B8C-A364-885E0DADA661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7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2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x=63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2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4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9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94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 (primer)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pssusers.co.uk/Events/2012/confprog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9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0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8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0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4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1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76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4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0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9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0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1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0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8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5-09-24T15:45:43Z</dcterms:modified>
  <cp:revision>349</cp:revision>
  <dc:subject/>
  <dc:title>Exploratory Data Analysis</dc:title>
</cp:coreProperties>
</file>