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9B62-CEBB-4E67-BEB8-28A1D1CF2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E110-5578-49C1-9E54-3535BFEC2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D6649-5BEF-46DF-BFF3-BE1FC614D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0470E-A257-4773-AA9A-821E8A780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12D9E-7B2E-4395-B38F-4DC30C9D6D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5C770-F0EE-44E0-ACED-9E17C6FD6E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0B1F1-13C8-4BAF-9178-D685B646EF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1888F-6847-4FCC-92F7-0BFD16908F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E01A8-1939-490D-87CA-130826B741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A0395-8D86-421F-80FC-D91F2044A7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D9FDC-3BC0-4C0A-9A80-0C42392FA0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47590-2150-4DE3-93E4-65ABB9757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C5DAF-D000-42C9-B9FD-8FE7D73B19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EE3D6-8535-4F44-9EC4-9384B1814E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5AE18-9553-4FC3-9005-67E347839F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B366E-D5DE-47C5-A351-D0E6DA8EE4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4C528-9149-4001-B661-8C86200FB7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B4A8E-A2E5-4EED-BB36-33BE99DE6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08465-83F3-44A9-9253-91A88E1CA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DA005-C026-47DE-9761-B5E9B7596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DD89-1B92-45BA-882B-FB42E229E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84E0-B231-4ABB-98A1-159198343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EDD0-D7C3-4512-90F4-5DC1260C7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0E6FA-B8CC-4259-9EC2-7FC3CEE08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D3CDCD4-B8D1-4CDE-8359-3B7773F9BB0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FB7D9B0-C2F3-4D1D-8B59-453BFE7536B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631647B-5755-4B16-ADF2-9D985369D7E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85367A4-8233-46FE-AED0-C27BCBFD55F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B210-6B10-45DD-9072-04630EB21B55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5-10-28T10:14:06Z</dcterms:modified>
  <cp:revision>333</cp:revision>
  <dc:subject/>
  <dc:title>No Slide Title</dc:title>
</cp:coreProperties>
</file>