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A507191-CFDA-40FF-8E0C-7341CADACE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87CBF2F-98E6-4E5C-8EE0-D2B892F6BA4F}"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149F1-F374-4862-AF8A-57899DA47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9BB87-694E-4C85-AB3B-24AB9D219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B6B48-5419-4CED-9E5A-46117CDDF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2BD6F-8CD8-4BEB-A319-9FDC38057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6ABBB-5D86-4287-A512-366387A5A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2F5AA-AE1D-4FC2-A2EF-C3E2391D7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AA237-50FA-4CE9-886F-61E4990BA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350EF-EFC9-47A6-A1C3-E5F0DB182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CC329-AAC9-43BB-AB39-1B7825423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B811B-E409-4D7A-B334-A14B8CAC8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D8A40-0614-4E02-8920-DF0BFEA51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E00F8-07E2-4521-909B-C5BA16D8C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F60F9-94AA-4327-8713-FC36D050E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273D6-EA96-4C48-928E-727907E0C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5C23E-FF04-4C23-9FE5-D76843C2F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7DE60-07F8-4FED-A207-066F61C0F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12FB6-8AB8-48B5-B05A-59CD1AEDF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8924A-5392-4F54-B45D-351CB76D8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E42D1-CE01-4BAD-87FA-47A9BFBCA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E9227-D517-4ED5-A415-619B2484F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06B8B-81D6-494C-B8A4-936168BF9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277BA-A3A9-4EB8-9E6C-994B509BC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5532D-4C27-468F-B953-5414BBCE1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BD5D-85D2-46C4-A0F1-AF95E0233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2 October 2015</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0D74-622A-4148-9F28-F2CCA478BCB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2 October 2015</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F59D-A5B6-4A46-A68F-435BABB957C1}"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92E8-5796-4E66-B514-13E820B337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A1E9-155B-42C9-8F83-6E3F22048C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489B-64EF-404A-AE4B-817F6D12A1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D17B-924B-4F50-A008-989C99E0E9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D8E9-67AC-4EFE-A7C2-F32B59289A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7072-EF25-4328-B5BA-0393EF60ED1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2FC5-E7D1-4E05-9025-666EFDF81D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2B69-95EE-4E33-A75C-64D117C738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AB1E-1279-4DD2-A6C8-D2D844C6310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E409-9334-453D-91F9-51ED12D1C0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8492-070E-48DA-8DEA-9B6D7FCAA9B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F889-4FD1-4C2A-9866-606C991200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5DB6-8DA8-42A7-B5BF-532F59864F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6B06-0288-43A0-B4C2-C6C6716DCDE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B897-2E90-48A1-B252-C398340B72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9C82-3FAE-41D0-AFA0-0E470D928E4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D133-EC1F-4862-9B6E-44715FBFEF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4078-AF8E-433F-8A72-EC44D1E2A6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CC23-E15C-4564-8735-DDF8D0155A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5EA7-EC4A-47FB-AED6-9C4642662D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1585-BD0B-4B76-B7E1-2D327796F3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0DA9-3D02-449E-8569-BED049B1B6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E4D9-2389-47F1-9892-F3D7760939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E4EE-2C01-4CDF-B84B-12015068CA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47E6-EC2C-4740-9E35-16016867FC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F642-5C1E-4A31-8FE6-73213FABBA6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D0AB-6B59-4B1B-B5C8-520AE83932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B5F0-5373-4739-8EA6-EB49EBF3D4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4032-E921-49C8-A7A1-30AF6D193D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031A-7832-4C52-8267-27A56207A7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8807-BF04-4F8A-BAD2-8502779AFE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12E5-6FB6-4D3D-ABD7-DA6D99353C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1121-A170-4884-8618-99669D4B7B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610A-D610-4543-9E13-A091F8E2AC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12C2-BE59-4134-8315-3D1E70FEBC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C02C-16DA-4BBA-B200-DF45B3FC15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In TWO weeks 5</a:t>
            </a:r>
            <a:r>
              <a:rPr b="0" lang="en-GB" sz="3600" spc="-1" strike="noStrike" baseline="30000">
                <a:solidFill>
                  <a:srgbClr val="515f7b"/>
                </a:solidFill>
                <a:latin typeface="Albertus Medium"/>
              </a:rPr>
              <a:t>th</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508F-ED2E-467A-B708-63582466F8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3492-80A5-4781-9CC9-BEF8985CF3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4C66-E8F4-46A0-8EB5-82FFEAB433A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FEC0-8178-4C79-B52C-AE06C1DCC1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449A-3EAA-4C83-AC7C-A792AA13E5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5-06-25T09:39:11Z</dcterms:modified>
  <cp:revision>66</cp:revision>
  <dc:subject/>
  <dc:title>Aims and Objectives</dc:title>
</cp:coreProperties>
</file>