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31EF1FF-0495-4ADB-AD29-DF8C7D9F06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41CC12C-5EF5-4EFE-9388-6E87D3F467CC}"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11553-B3E5-4FDC-954F-CDB2143C8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4510B-C495-404D-B1DB-23B79F7A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74F73-95D4-4C39-BDCB-39C4589E5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988C5-F5ED-49BA-81C5-D5E8348A3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BF482-5A76-4D59-B639-A8EB2D5F3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20C20-B31F-4717-95E6-EBD78040E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31E3D-6740-44E9-B332-AD82CA9A9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C304C-F2DE-4EAF-8978-9D9048D21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9EAA6-240E-4DCE-A1AD-C89FB8075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34F70-57BF-45DE-8243-C3794935B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89E07-FBA5-4EEA-9823-A34AE80A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564E9-CC4C-4346-AE1E-F2D909F07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A2D87-AB30-4DF3-A760-8ACA9197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CF65-0B37-4E8B-9244-C70373BA1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946A8-07D3-4E63-8D90-8A640A233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6EF83-1E50-4577-86AA-052191AFA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A97B0-EB08-4BF3-80D7-DEC1F8DA7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B34F0-E55D-4F6B-85F7-D383BD5C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60EC-4CD9-48CA-A633-EFC783C3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FDA4-6BF6-4853-AAF1-BB9938A2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8549F-6262-4A55-95D4-9B0F79749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07C5-B25C-40DA-9CF5-5637703D8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9901-E91C-4C44-B2F5-C62A2FEC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FA757-C704-49FF-89D7-C56919746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 October 201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36C4-8BFA-4894-8418-F1737CBCB98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2 October 2015</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CA01-C7DC-4E04-988D-DBD482ADF237}"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B173-FEE5-4737-9BC0-663D1FF039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B174-C370-4700-960E-A1FCC48C7A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A71A-D0EC-4CB1-8045-4A4AB2BA07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1186-A118-4EA4-9346-A1E754BA8C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906B-8210-4932-A694-68B3A42E30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2BD2-1C26-41DC-87C8-94CC1EE9D6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AFB6-9997-4AB8-9379-39D0D778EE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A8C3-BE83-4825-B440-43FDC0E639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B51A-66E4-4597-BB4A-73BFC31FD1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1783-7E7A-45D9-9C98-29B95C1CBA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3C81-1BE7-4609-A59E-76F9F7BA04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37A0-F344-496A-A57B-0C31884A79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E22F-032C-493D-AD18-F31CCE7FCE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4200-62E9-40A1-BEAF-56427B666D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D3BF-E2D3-4A52-9684-6D9A17217C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E3A2-A2DC-418E-A4A1-A63C64CE26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0253-8DDE-44DF-87F1-C3C96635CC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2C25-50AE-4C86-9F39-A761ECF314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44D0-9785-4745-BE4D-A332F7076D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CAB3-50F1-40DB-9176-90A4F42D02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9E05-3FCC-4B1D-B561-DCCA95EFF3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71EA-19F4-4E53-8142-B54DB60F16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8866-473C-45DE-92D1-F6547D411D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03FE-5CD1-4EF1-9A2A-A371807800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F51C-81AB-4262-B6E4-C882715A5D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085C-4C16-42EB-BAC6-D2A93F8435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5F2E-B926-4401-BF85-A5C75FCFCC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1851-CE5A-4539-A8A7-075C7BF9A5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C4F3-E78A-4417-B5D0-92E83B2E4A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7778-FF26-44DE-BF89-137FFE3ED3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73F1-0098-45E0-A3F1-DD511F5045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E9AC-73C2-4FD5-B8E9-AFDD48A46D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48B6-CEC9-4C3C-ADC5-F4E4D756D8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2F97-2EC5-4F91-A1B8-4EAECCDEFF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49E9-6BA1-4125-9330-60F4D8B924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B35E-624B-4C0E-91D4-EABE316B96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5</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88B4-8E01-4E0A-ACC0-B2DDECEE91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90A9-770A-4207-BCFA-4903574252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542F-3C22-45B4-997E-6B846256C7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0304-5946-48B6-A197-31D92BE039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7EC6-7C50-4621-A460-51FA5F0C1C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5-06-25T09:39:11Z</dcterms:modified>
  <cp:revision>66</cp:revision>
  <dc:subject/>
  <dc:title>Aims and Objectives</dc:title>
</cp:coreProperties>
</file>