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8D74-5CEC-4773-B870-E42E355E87D5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660A-423A-4B3C-9344-C101A0BD476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2656-6154-4E52-8FE4-56D264A32D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C943-8210-438C-B075-B747C97404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BB2E-2F4A-4CD4-AC81-3562D23750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A0D1-6498-41D1-B4ED-228CE27974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0E40-CC4C-462C-9927-ACF36CFFD32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72BD-C7B9-4E7D-B1D6-CF1A335559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2C98-1256-40B5-A67F-A806BA4D58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B3F8-44E4-434D-8502-5FF2081C480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DB4B-B013-46AC-9764-DE1DD876E7E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F3AA-7F6B-4E0E-B193-DCABDC0957B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79F7-6C10-419C-8762-A696604A21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8006-2544-4CA1-B15C-0C4D6C642B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9552-DC89-46C5-903C-709A756BB42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AB7B-C344-4A31-BE61-366BDFFA82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D04D-C703-447C-B092-F0812D7E58C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376D-D0BA-4D31-A6E1-ACA2141BBFD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9619-468A-469F-A499-7B40311C4AB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1218-B6E6-4112-AEB1-1B6D4F51773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9713-B776-4C9A-8FED-1469225682B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6E38-8E54-4AE9-98E2-104795DA9E8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B328-FCAC-4E6B-88C1-FADDECA05E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AEC3-8101-4611-9E04-F9D557532A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3815-3D29-4C7A-A97E-783F811F6F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534C-D0EC-452B-B211-E207910C106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AB21-18C7-49FA-8EEA-FB1E93AC56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01D4-937F-4F35-8C31-FDC0CBB48E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2FE4-A041-469C-AB36-4A8FD9899B3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E0D0-8E5A-4AF7-9A0E-3C2E25FD777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F20C-2C0B-46C2-BDD3-19BACBE2374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B395-625B-4C89-A068-EB462F1DAA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486E-0D29-4B1E-8539-5FCC6F27531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0E3B-7037-46EA-83F1-E1B606B60B2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EAE0-FB42-49B6-A6F0-67DFEC07D93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945D-9369-42B6-88F4-28EF028444A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692D-D732-4AEF-B3FC-46333D2672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6F21-5C24-4601-AC96-D9B61189384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5454-EDFE-4CC4-9C8F-E0ADB80510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A877-C2DB-4583-AF37-545180E187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8D91-9DA1-4801-94C3-DF0D9EB18B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A70C-7CA5-4F19-8B0C-5B0AE1B8AD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CA97-DF15-4844-AA6D-12E98114DBB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3F52-FA6C-4A78-9626-DF8B9F2466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4750-15E5-45E3-B654-BAE8792EA1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7377-1A8E-43D4-A169-5D52260519D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20CD-F2AD-4242-B674-8FFA87F86A9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FC9A-C152-4B70-8FA4-4E8DCFCF580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F316-5635-48E6-AB5D-39AE464A34D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8D74-7E37-4B7F-AEB5-9E7505539DB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3A54-2FB6-4E43-A9A6-6D0CB5537E0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E6AE-A74A-4657-8ECC-4BEDD60AE04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2E8A-E130-48B8-AE22-2414ACA630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885D-7218-4E2F-861A-CC051066B7C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981-6999-498E-9FEC-11A7D44E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650-FD1E-4BA9-80CF-3F2FE10E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12D-EFE8-4CC9-BBE9-AD6ABB4C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55A-31D6-41DE-A857-626A555F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F75-F584-4762-99A1-2F67B282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A08-DB8D-4F5E-AB77-E0AA6A56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B73-3F9D-47C9-888A-6DDB0D77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80A-9142-4C1A-BE35-291C4181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86A-DE26-46C5-B3CE-9901718A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426-6577-4E67-9B7F-C0976B99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8FD-29ED-4DBF-B33D-EB809174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569-8125-4F2F-A88C-BAC09B8C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AC42-3F13-445A-AB2D-10EA2CA9A1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3rd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5-06-25T09:40:25Z</dcterms:modified>
  <cp:revision>103</cp:revision>
  <dc:subject/>
  <dc:title>Aims and Objectives</dc:title>
</cp:coreProperties>
</file>