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6782-EF25-4051-82DB-0CA9207DB1F9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F860-3BF5-492F-A1D1-C4FF2A512F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277A-B772-4A5A-B58F-D6C89B9466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6FD9-0EE2-4E39-8ED7-CF70A3CFD3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90AF-853A-49F4-8158-C7AADCEEB2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CF13-98C9-4B58-9339-F130A2E387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0D21-F450-46E7-BF5C-1418F51AD6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0760-C7D2-4D33-B956-A908882C21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FBA3-8D4D-4370-906D-05E9FB9570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3E4E-A5A2-4038-A50D-231C8856E1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2E1B-6414-455A-A027-F3A9768CBF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6E42-0E57-4989-99F7-CF6DA07742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3022-0FFE-4C77-B63A-2B00ACF505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19B3-2EEE-4988-B7CF-53648652B3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AD6B-BFA8-4071-A21A-7ADF05FD2A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A86E-A313-4660-857F-AFF6641E73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088E-485D-4197-ADA6-8D5746D119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B88F-C02B-4AF5-AB4D-90B39AB5FE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ADF5-14BA-4C4F-B610-BE51EBC53F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910C-4869-40AA-BD6F-4D5CE730E8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E9FA-6C9C-4759-9FAD-766CDD3F97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FD8E-6568-4FED-8E31-DCEADD3577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31C1-B67A-40C1-A9A2-5255EE124E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68B9-33F2-48DE-A191-F883B9887D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718E-D792-40E4-A6F8-8CA603B2B9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B338-F13E-479D-8E39-6165BBD541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7117-6FF3-470D-8169-7F589AD32A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4ABA-26C4-4DBD-8DC7-AA347132B8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2A68-CF46-4BCA-A43D-906F9A2A061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5875-0B05-4DC8-A281-574F1C3FF3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E9B5-C7FC-4177-A4B9-B6761676E8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D644-3D4F-49F9-AB82-53625FBAAA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310D-2EA5-49C9-8F88-408C463414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27C2-4960-41D2-82F2-5EFF3DE2AA3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5965-1A16-4BBB-8EBC-B2B01FAA74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3266-9EC4-449B-B234-44B0D18CF2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37D-8F6F-4C87-841A-6D8F141A38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DCCA-C106-4AB0-8939-54256E2EAD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4AC9-C0E1-4F15-BFA9-A3D4F19F3F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2BF8-F21A-4D56-BAB3-080A3276B8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6A70-E914-4009-B038-E4B63FAB5D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BAB6-1080-492F-939F-74EFAE1C41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D0D9-BFC8-421D-BAE7-7A0A24D856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71C4-2F8E-4621-9483-54D8D4B284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1753-ACF2-4315-9B3B-BAD0317CC4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4D15-834C-40DE-BD55-811F62FA27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1CAC-3320-4733-8C86-2892DABC9C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AD19-260A-4BE0-AB0F-652F51F46D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A894-C36F-4DD6-8E75-CD69274FB4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ED84-9F16-44B3-B19E-41B0211934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5828-1AAB-4FD7-AD07-791D327079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56C9-EA73-43C8-9AAD-5370AAA457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5E02-EC16-41D0-AF36-C085DD447D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9CF0-3283-496D-8B94-CC20CD5A96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623-2D51-43A9-81F7-18CE92AF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651-0E4C-4ACB-B767-2719F55C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147-C7A3-4C11-B089-39FC175E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247-76BC-4CF7-84A8-3B720D5D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628-1144-4DFA-9998-3E6B4B53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D40-2EBB-4F2C-855E-A50E0763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3BB-1718-4F6D-981B-A0631181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190-3571-4959-B843-ED42095C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C7F-BD54-402A-A9AD-38177689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592-C95C-48EA-814C-74C16448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C2E-8B3C-43B4-8326-CE2EBA01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902-EF40-4416-8595-0AD1861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F83-ADF1-45DB-BB2C-B85DB11880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r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5-06-25T09:40:25Z</dcterms:modified>
  <cp:revision>103</cp:revision>
  <dc:subject/>
  <dc:title>Aims and Objectives</dc:title>
</cp:coreProperties>
</file>