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66B237-2961-405F-AAB5-87EBF38C79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729049-2938-4ED5-BF4A-5705152880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1420B5-1F94-4A75-BCE7-3419187B16E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2FE853-9E9C-4396-A784-7A21DB97C5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6D1903-465D-4E59-A2AB-87BD1A7AE77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0FE7BBD-A2DF-4DF5-AA52-1CE5F6D43F4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536F82-7859-4ED0-8F08-2B4C1E7124D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5B3131-CED6-4F1C-AFE3-A6E4AAEADC5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F0CCBC-C3EB-4107-848D-48B823C7F61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F3DA79-2232-42F5-B554-D671FB158518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6B58E26-F3D2-4BFA-B23F-6F024B70224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8FD8B-FD86-4013-B201-966C32341FE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7F21170-CA27-4F2E-ACB7-7B176AFF416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438928-9735-491D-B9EF-132451BDA04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1397BA-CC3C-40BB-9280-E8C87E395ED9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40E41F1-72BE-4697-BAF2-832BA61EC26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4067640"/>
            <a:ext cx="264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C52D74-7407-46DC-932F-3622190F8E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AFBB83-F530-4761-937E-B9860FA3236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BE2ED9-6F2E-421D-854E-AE0834BCB15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0A2A69-4DDA-4839-B83E-F3B3A266C64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838080"/>
            <a:ext cx="5181840" cy="26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12F9F5-208C-4665-A529-B2BDA67DD69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D336E-5729-4AB1-8DF6-4048661B7B2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40676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A456E-96B3-4625-9B95-F8ACA436C8B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67640"/>
            <a:ext cx="8229600" cy="22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F0CB3-DD0B-4FB4-B132-20E0F3BB16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914400" y="6476760"/>
            <a:ext cx="5105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471720"/>
            <a:ext cx="21337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8E2D5632-560F-4352-AB9A-9473779BF915}" type="datetime">
              <a:rPr b="0" lang="en-US" sz="1000" spc="-1" strike="noStrike">
                <a:solidFill>
                  <a:srgbClr val="000000"/>
                </a:solidFill>
                <a:latin typeface="Verdana"/>
              </a:rPr>
              <a:t>07/28/26</a:t>
            </a:fld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 </a:t>
            </a:r>
            <a:fld id="{4D3DD4C0-5897-4810-9878-A3EFD286B180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" name="Group 51"/>
          <p:cNvGrpSpPr/>
          <p:nvPr/>
        </p:nvGrpSpPr>
        <p:grpSpPr>
          <a:xfrm>
            <a:off x="165240" y="1036800"/>
            <a:ext cx="9222840" cy="958680"/>
            <a:chOff x="165240" y="1036800"/>
            <a:chExt cx="9222840" cy="958680"/>
          </a:xfrm>
        </p:grpSpPr>
        <p:sp>
          <p:nvSpPr>
            <p:cNvPr id="5" name="Rectangle 52"/>
            <p:cNvSpPr/>
            <p:nvPr/>
          </p:nvSpPr>
          <p:spPr>
            <a:xfrm>
              <a:off x="330480" y="1219320"/>
              <a:ext cx="474120" cy="474480"/>
            </a:xfrm>
            <a:prstGeom prst="rect">
              <a:avLst/>
            </a:prstGeom>
            <a:solidFill>
              <a:srgbClr val="fc3c4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6" name="Rectangle 53"/>
            <p:cNvSpPr/>
            <p:nvPr/>
          </p:nvSpPr>
          <p:spPr>
            <a:xfrm>
              <a:off x="586440" y="1521000"/>
              <a:ext cx="457200" cy="474480"/>
            </a:xfrm>
            <a:prstGeom prst="rect">
              <a:avLst/>
            </a:prstGeom>
            <a:solidFill>
              <a:srgbClr val="b236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7" name="Rectangle 54"/>
            <p:cNvSpPr/>
            <p:nvPr/>
          </p:nvSpPr>
          <p:spPr>
            <a:xfrm>
              <a:off x="742680" y="1252440"/>
              <a:ext cx="19080" cy="5763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8" name="Rectangle 55"/>
            <p:cNvSpPr/>
            <p:nvPr/>
          </p:nvSpPr>
          <p:spPr>
            <a:xfrm>
              <a:off x="495360" y="1217520"/>
              <a:ext cx="19080" cy="611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9" name="Rectangle 56"/>
            <p:cNvSpPr/>
            <p:nvPr/>
          </p:nvSpPr>
          <p:spPr>
            <a:xfrm>
              <a:off x="577800" y="1109520"/>
              <a:ext cx="18360" cy="719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0" name="Rectangle 57"/>
            <p:cNvSpPr/>
            <p:nvPr/>
          </p:nvSpPr>
          <p:spPr>
            <a:xfrm>
              <a:off x="660240" y="1036800"/>
              <a:ext cx="19080" cy="792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1" name="Rectangle 58"/>
            <p:cNvSpPr/>
            <p:nvPr/>
          </p:nvSpPr>
          <p:spPr>
            <a:xfrm>
              <a:off x="825480" y="1289160"/>
              <a:ext cx="18360" cy="5396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2" name="Rectangle 59"/>
            <p:cNvSpPr/>
            <p:nvPr/>
          </p:nvSpPr>
          <p:spPr>
            <a:xfrm>
              <a:off x="907560" y="1325520"/>
              <a:ext cx="19080" cy="503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3" name="Rectangle 60"/>
            <p:cNvSpPr/>
            <p:nvPr/>
          </p:nvSpPr>
          <p:spPr>
            <a:xfrm>
              <a:off x="990360" y="1433520"/>
              <a:ext cx="19080" cy="395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4" name="Rectangle 61"/>
            <p:cNvSpPr/>
            <p:nvPr/>
          </p:nvSpPr>
          <p:spPr>
            <a:xfrm>
              <a:off x="412560" y="1569960"/>
              <a:ext cx="10440" cy="258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5" name="Rectangle 62"/>
            <p:cNvSpPr/>
            <p:nvPr/>
          </p:nvSpPr>
          <p:spPr>
            <a:xfrm>
              <a:off x="247680" y="1749600"/>
              <a:ext cx="19080" cy="79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6" name="Rectangle 63"/>
            <p:cNvSpPr/>
            <p:nvPr/>
          </p:nvSpPr>
          <p:spPr>
            <a:xfrm>
              <a:off x="330480" y="1676520"/>
              <a:ext cx="18360" cy="15084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7" name="Rectangle 64"/>
            <p:cNvSpPr/>
            <p:nvPr/>
          </p:nvSpPr>
          <p:spPr>
            <a:xfrm>
              <a:off x="1155240" y="1720800"/>
              <a:ext cx="19080" cy="108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8" name="Rectangle 65"/>
            <p:cNvSpPr/>
            <p:nvPr/>
          </p:nvSpPr>
          <p:spPr>
            <a:xfrm>
              <a:off x="1073160" y="1612800"/>
              <a:ext cx="18360" cy="2160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  <p:sp>
          <p:nvSpPr>
            <p:cNvPr id="19" name="Rectangle 66"/>
            <p:cNvSpPr/>
            <p:nvPr/>
          </p:nvSpPr>
          <p:spPr>
            <a:xfrm>
              <a:off x="165240" y="1789200"/>
              <a:ext cx="9222840" cy="39600"/>
            </a:xfrm>
            <a:prstGeom prst="rect">
              <a:avLst/>
            </a:prstGeom>
            <a:solidFill>
              <a:srgbClr val="99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7200" bIns="-72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9a044b"/>
                </a:solidFill>
                <a:latin typeface="Times New Roman"/>
              </a:endParaRPr>
            </a:p>
          </p:txBody>
        </p:sp>
      </p:grpSp>
      <p:pic>
        <p:nvPicPr>
          <p:cNvPr id="20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7" descr="Docs-Presentations-WG-CBSU"/>
          <p:cNvPicPr/>
          <p:nvPr/>
        </p:nvPicPr>
        <p:blipFill>
          <a:blip r:embed="rId2"/>
          <a:stretch/>
        </p:blipFill>
        <p:spPr>
          <a:xfrm>
            <a:off x="6012000" y="260280"/>
            <a:ext cx="2670120" cy="79236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a044b"/>
                </a:solidFill>
                <a:latin typeface="Verdana"/>
              </a:rPr>
              <a:t>Click to edit the title text forma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5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6" marL="2057400" indent="-22860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a044b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3"/>
          </p:nvPr>
        </p:nvSpPr>
        <p:spPr>
          <a:xfrm>
            <a:off x="838080" y="6476760"/>
            <a:ext cx="51818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4"/>
          </p:nvPr>
        </p:nvSpPr>
        <p:spPr>
          <a:xfrm>
            <a:off x="6552720" y="6476760"/>
            <a:ext cx="221004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9a044b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65C0F7F9-B2DD-4E7C-BDF3-A9993BBD1CB5}" type="datetime">
              <a:rPr b="0" lang="en-US" sz="1000" spc="-1" strike="noStrike">
                <a:solidFill>
                  <a:srgbClr val="9a044b"/>
                </a:solidFill>
                <a:latin typeface="Verdana"/>
              </a:rPr>
              <a:t>07/28/26</a:t>
            </a:fld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 </a:t>
            </a:r>
            <a:fld id="{5415B393-6357-45E6-94FB-47ABD400BD60}" type="slidenum">
              <a:rPr b="0" lang="en-US" sz="1000" spc="-1" strike="noStrike">
                <a:solidFill>
                  <a:srgbClr val="9a044b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5"/>
          <p:cNvSpPr/>
          <p:nvPr/>
        </p:nvSpPr>
        <p:spPr>
          <a:xfrm>
            <a:off x="838080" y="6477120"/>
            <a:ext cx="51818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600200" y="1904760"/>
            <a:ext cx="619272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600" spc="-1" strike="noStrike">
                <a:solidFill>
                  <a:srgbClr val="9a044b"/>
                </a:solidFill>
                <a:latin typeface="Verdana"/>
              </a:rPr>
              <a:t>8: SAMPLE SIZE DETERMINATION</a:t>
            </a:r>
            <a:endParaRPr b="1" lang="en-US" sz="2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600200" y="3048120"/>
            <a:ext cx="6197760" cy="31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ay the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be with you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ter Wats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ttp://imaging.mrc-cbu.cam.ac.uk/statswiki/FAQ/powerFAQ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bility to correctly detect real effec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1-P(wrongly concluding “no effect”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usually 80%; ideally 90%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Boosting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one-tail instead of two-tail tes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parametric instead of non-parametric equivalen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ample size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e smallest interesting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multivariate analyses (e.g. MANOVA) use fewer variabl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cide smallest clinically important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tells us how many needed to reliably detect this effect or a larger on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r effects more difficult to det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quested in APA guidelin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-values can be misleading : e.g. chi-square highly sensitive to sample size; Earth is round, p&lt;0.05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s of effect siz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-tests: Minimum Number of sds between 2 means to be clinically useful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 amount explained in outcome to be clinically useful (correlation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rosstab chi-squares: odds ratios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2 samples of size 10; Type I error = 0.0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140" name="Object 0"/>
          <p:cNvGraphicFramePr/>
          <p:nvPr/>
        </p:nvGraphicFramePr>
        <p:xfrm>
          <a:off x="457200" y="1703520"/>
          <a:ext cx="8228160" cy="451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1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703520"/>
                    <a:ext cx="8228160" cy="451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t-test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cale        Group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Sd         Diff/S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iffere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     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hes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10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5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m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25.4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12.7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atio of discriminability and precis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Use own judgemen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.g. comparing two group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= group difference (=sid) / s.d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hat is the smallest interesting difference in your expert opinion? (si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btain s.d. from previous work (can’t control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1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rnell Medical index (CMI) (Cohen, 1992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ffee drinkers &gt; Non-Coffee drinkers?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sid / CMI s.d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 = 3.5 (because CMI increases by 3.5 per person per decade)</a:t>
            </a:r>
            <a:r>
              <a:rPr b="0" lang="en-GB" sz="1600" spc="-1" strike="noStrike">
                <a:solidFill>
                  <a:srgbClr val="bababa"/>
                </a:solidFill>
                <a:latin typeface="Arial Black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 2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iper (1/1000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001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.002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= .001/.002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chool ruler (1/16ths 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id=.5 (inch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d=1 (prev. study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ffect = .5/1 = .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 rules of thumb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 (difference in sd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NOVA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13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SS(Groups)____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=</a:t>
            </a: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       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131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S(Groups)+SS(W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egression: f-sq =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/ (1 -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also called eta-square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Odds Ratio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Mantel-Haenszel pooled estimate available for 2xC tables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[Phi = Sqrt(chi-square/N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-329040">
              <a:spcBef>
                <a:spcPts val="400"/>
              </a:spcBef>
              <a:buClr>
                <a:srgbClr val="ff00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00ff"/>
                </a:solidFill>
                <a:latin typeface="Verdana"/>
              </a:rPr>
              <a:t>Chi-square increases with N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hen,1988) used in G*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  medium larg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20      0.50    0.8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25    0.4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02      0.15    0.3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equivalently R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0.02  0.13   0.26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See also Haddock et al (1998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50      3.50    9.00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1.39      2.28    3.74 </a:t>
            </a:r>
            <a:r>
              <a:rPr b="0" lang="en-GB" sz="1600" spc="-1" strike="noStrike">
                <a:solidFill>
                  <a:srgbClr val="3299cc"/>
                </a:solidFill>
                <a:latin typeface="Verdana"/>
              </a:rPr>
              <a:t>(Cox, 197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0.10      0.30    0.50]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0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Sample Siz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 </a:t>
            </a:r>
            <a:r>
              <a:rPr b="0" i="1" lang="en-GB" sz="1600" spc="-1" strike="noStrike">
                <a:solidFill>
                  <a:srgbClr val="9a044b"/>
                </a:solidFill>
                <a:latin typeface="Verdana"/>
              </a:rPr>
              <a:t>needed is independent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of population 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large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economic and ethical problems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354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o small a sample in a study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risk failing to find a large effect e.g. group difference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35480" indent="-28296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le drawer problem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35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ed just enough to enable accurate detection (or pow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-3394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Make sure you take account of response rates: e.g. cancer sibling study: 222 possible to sample but 80% response rate and gender matched siblings will reduce sample past 120 needed;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ew N = 1/(1-L) x old N: New N = 278. L = proportion lost (1-80%=20%    in our example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394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ffect Size: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-360" y="1599840"/>
            <a:ext cx="5003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por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1 v p2 (2x2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v 0.5 (2x1 </a:t>
            </a: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</a:t>
            </a:r>
            <a:r>
              <a:rPr b="0" lang="en-GB" sz="16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v r2 (Fish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onversion formulae can be used se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tat-help.com/ spreadsheets.html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cluding d, r, r^2, Odds Ratios which all measure correlation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932000" y="1599840"/>
            <a:ext cx="403236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Cohen, 1992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mall medium large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2  0.50   0.65    0.78 (p1=0.4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    0.55   0.65    0.7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1   0.10   0.29    0.46 (r2=0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Key Featur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hoice of tes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One-tailed or Two-taile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Desired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ype 1 error(chance of a false positiv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evaluation methods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mogram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eeware/software on www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PSS syntax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ables (Look up by hand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xampl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atient vs Control group: measure of spatial memory.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rom earlier work on memory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mallest interesting difference (sid)=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mon group standard deviation=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Deciding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wo independent groups; continuous Normally distributed outcome measur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uggests unpaired t-test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Nomogram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raphical display in Altman (199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Two-tailed test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Effect Size=sid/memory s.d.=3/4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=0.90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ad off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Tot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 using a ruler!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Nomogram :  N=38 (=75/2) per group; Type 1 =0.05;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81" name="Picture 4" descr="nomogram"/>
          <p:cNvPicPr/>
          <p:nvPr/>
        </p:nvPicPr>
        <p:blipFill>
          <a:blip r:embed="rId1"/>
          <a:stretch/>
        </p:blipFill>
        <p:spPr>
          <a:xfrm>
            <a:off x="1619280" y="1773360"/>
            <a:ext cx="72612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seful websites (see CBU website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39640" y="12682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NOVAs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83280" indent="-262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ath.yorku.ca/SCS/Online/power/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83280" indent="-262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oton.ac.uk/~cpd/anovas/datasets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83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downloadable program from CP 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83280" indent="-262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Input help on above CP Doncaster program: http://imaging.mrc-cbu.cam.ac.uk/statswiki/FAQ/Doncaster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83280" indent="-262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-tests at: http://www.statisticalsolutions.net/pss_calc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83280" indent="-262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psychometrica.de/effect_size.html computes Cohen’s 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REGRESSION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83280" indent="-262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danielsoper.com/statcalc/#c1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832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albany.edu/faculty/rfh64/power/power.html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153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MORE GENERAL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683280" indent="-262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http://www.aprendelo.com/rec/power-calculator.html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83280" indent="-262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stattools.net/StatToolsIndex.php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83280" indent="-262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calculators.stat.ucla.edu/powercalc/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683280" indent="-26280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This site is to not currently available - “check again later”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Power computations using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: Type 1 error, Effect Size +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eith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power </a:t>
            </a:r>
            <a:r>
              <a:rPr b="1" i="1" lang="en-GB" sz="1800" spc="-1" strike="noStrike">
                <a:solidFill>
                  <a:srgbClr val="9a044b"/>
                </a:solidFill>
                <a:latin typeface="Verdana"/>
              </a:rPr>
              <a:t>o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power: output = sample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put sample size: output =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     </a:t>
            </a: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G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PEPI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READSHEE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SPS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G*Power (versions 2 and 3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psycho.uni-duesseldorf.de/aap/projects/gpower/index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Also has an </a:t>
            </a:r>
            <a:r>
              <a:rPr b="0" lang="en-GB" sz="1800" spc="-1" strike="noStrike">
                <a:solidFill>
                  <a:srgbClr val="3299cc"/>
                </a:solidFill>
                <a:latin typeface="Verdana"/>
              </a:rPr>
              <a:t>on-line manual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with applications to AN(C)OVAs and chi-square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orrelations and group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http://www.sagebrushpress.com/PEPI.html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Specify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: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ull Hypothesis - no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Alternative Hypothesis - an effec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do a statistical test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robability of a false positive result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G*POWER 3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193" name="Picture 2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3916440" cy="4724640"/>
          </a:xfrm>
          <a:prstGeom prst="rect">
            <a:avLst/>
          </a:prstGeom>
          <a:ln w="0">
            <a:noFill/>
          </a:ln>
        </p:spPr>
      </p:pic>
      <p:sp>
        <p:nvSpPr>
          <p:cNvPr id="194" name="Oval 5"/>
          <p:cNvSpPr/>
          <p:nvPr/>
        </p:nvSpPr>
        <p:spPr>
          <a:xfrm>
            <a:off x="5796000" y="5732640"/>
            <a:ext cx="863640" cy="86508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195" name="Straight Arrow Connector 7"/>
          <p:cNvCxnSpPr/>
          <p:nvPr/>
        </p:nvCxnSpPr>
        <p:spPr>
          <a:xfrm>
            <a:off x="3850920" y="5589360"/>
            <a:ext cx="2089800" cy="43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  <p:sp>
        <p:nvSpPr>
          <p:cNvPr id="196" name="Oval 8"/>
          <p:cNvSpPr/>
          <p:nvPr/>
        </p:nvSpPr>
        <p:spPr>
          <a:xfrm>
            <a:off x="5867280" y="4581360"/>
            <a:ext cx="865440" cy="86364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7" name="TextBox 9"/>
          <p:cNvSpPr/>
          <p:nvPr/>
        </p:nvSpPr>
        <p:spPr>
          <a:xfrm>
            <a:off x="6732720" y="4149720"/>
            <a:ext cx="1726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Sample size required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8" name="TextBox 10"/>
          <p:cNvSpPr/>
          <p:nvPr/>
        </p:nvSpPr>
        <p:spPr>
          <a:xfrm>
            <a:off x="6588000" y="5805360"/>
            <a:ext cx="230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Click calculate butto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99" name="TextBox 11"/>
          <p:cNvSpPr/>
          <p:nvPr/>
        </p:nvSpPr>
        <p:spPr>
          <a:xfrm>
            <a:off x="324000" y="3429000"/>
            <a:ext cx="201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Enter ingredient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00" name="Oval 12"/>
          <p:cNvSpPr/>
          <p:nvPr/>
        </p:nvSpPr>
        <p:spPr>
          <a:xfrm>
            <a:off x="3780000" y="4221000"/>
            <a:ext cx="936360" cy="1152720"/>
          </a:xfrm>
          <a:prstGeom prst="ellipse">
            <a:avLst/>
          </a:prstGeom>
          <a:noFill/>
          <a:ln w="381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1" name="Straight Arrow Connector 14"/>
          <p:cNvCxnSpPr>
            <a:stCxn id="199" idx="2"/>
          </p:cNvCxnSpPr>
          <p:nvPr/>
        </p:nvCxnSpPr>
        <p:spPr>
          <a:xfrm>
            <a:off x="1332000" y="4258800"/>
            <a:ext cx="2232720" cy="322920"/>
          </a:xfrm>
          <a:prstGeom prst="straightConnector1">
            <a:avLst/>
          </a:prstGeom>
          <a:ln w="38160">
            <a:solidFill>
              <a:srgbClr val="9a0049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an also obtain Cohen’s effect size rules of thumb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4" name="Picture 2" descr=""/>
          <p:cNvPicPr/>
          <p:nvPr/>
        </p:nvPicPr>
        <p:blipFill>
          <a:blip r:embed="rId1"/>
          <a:stretch/>
        </p:blipFill>
        <p:spPr>
          <a:xfrm>
            <a:off x="2614680" y="1600200"/>
            <a:ext cx="3914640" cy="4724280"/>
          </a:xfrm>
          <a:prstGeom prst="rect">
            <a:avLst/>
          </a:prstGeom>
          <a:ln w="0">
            <a:noFill/>
          </a:ln>
        </p:spPr>
      </p:pic>
      <p:sp>
        <p:nvSpPr>
          <p:cNvPr id="205" name="TextBox 5"/>
          <p:cNvSpPr/>
          <p:nvPr/>
        </p:nvSpPr>
        <p:spPr>
          <a:xfrm>
            <a:off x="250920" y="3068640"/>
            <a:ext cx="2305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Just hover cursor over effect size box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cxnSp>
        <p:nvCxnSpPr>
          <p:cNvPr id="206" name="Straight Arrow Connector 7"/>
          <p:cNvCxnSpPr/>
          <p:nvPr/>
        </p:nvCxnSpPr>
        <p:spPr>
          <a:xfrm flipV="1">
            <a:off x="826920" y="4580640"/>
            <a:ext cx="3314160" cy="72360"/>
          </a:xfrm>
          <a:prstGeom prst="straightConnector1">
            <a:avLst/>
          </a:prstGeom>
          <a:ln w="38160">
            <a:solidFill>
              <a:srgbClr val="9a044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Regression : uses 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/(1-R</a:t>
            </a:r>
            <a:r>
              <a:rPr b="1" lang="en-GB" sz="2000" spc="-1" strike="noStrike" baseline="30000">
                <a:solidFill>
                  <a:srgbClr val="9a044b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0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pic>
        <p:nvPicPr>
          <p:cNvPr id="209" name="Picture 2" descr=""/>
          <p:cNvPicPr/>
          <p:nvPr/>
        </p:nvPicPr>
        <p:blipFill>
          <a:blip r:embed="rId1"/>
          <a:stretch/>
        </p:blipFill>
        <p:spPr>
          <a:xfrm>
            <a:off x="2484360" y="1700280"/>
            <a:ext cx="391500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More free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ompute power for regression, chi-squares, t-tests; report summar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mc.vanderbilt.edu/prevmed/p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(Power and Sample Size (PS) download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http://www.epibiostat.ucsf.edu/biostat/sampsize.html#PCSiz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00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n also input data for nonparametric  tests and other procedures to compute effect sizes  at http://www.ai-therapy.com/psychology-statistics/effect-size-calculat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Incorporating into a report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457200" y="1784520"/>
            <a:ext cx="8229600" cy="43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Tables (Kraemer and Thiemann, 1987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 3, group St. Dev = 4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sqrt((3/4*3/4)+4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0.35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= 0.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= 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 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terpolating from tabl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42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by 3; Group sds of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22" name="Object 0"/>
          <p:cNvGraphicFramePr/>
          <p:nvPr/>
        </p:nvGraphicFramePr>
        <p:xfrm>
          <a:off x="457200" y="1960560"/>
          <a:ext cx="8229600" cy="4003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Object 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960560"/>
                    <a:ext cx="822960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4" name="Line 5"/>
          <p:cNvSpPr/>
          <p:nvPr/>
        </p:nvSpPr>
        <p:spPr>
          <a:xfrm>
            <a:off x="1371600" y="3505320"/>
            <a:ext cx="4876920" cy="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5" name="Line 6"/>
          <p:cNvSpPr/>
          <p:nvPr/>
        </p:nvSpPr>
        <p:spPr>
          <a:xfrm>
            <a:off x="358128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6" name="Line 7"/>
          <p:cNvSpPr/>
          <p:nvPr/>
        </p:nvSpPr>
        <p:spPr>
          <a:xfrm>
            <a:off x="6248520" y="3505320"/>
            <a:ext cx="0" cy="190476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Quick formula (Boniface, 1995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difference=3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variance=4*4=16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=0.0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wo-tailed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&gt;=7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if &gt;=5 per group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 u="sng">
                <a:solidFill>
                  <a:srgbClr val="9a044b"/>
                </a:solidFill>
                <a:uFillTx/>
                <a:latin typeface="Verdana"/>
              </a:rPr>
              <a:t>15.3664*16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= 27.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3*3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28 per group; 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9a044b"/>
                </a:solidFill>
                <a:latin typeface="Verdana"/>
              </a:rPr>
              <a:t>Power=79%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 sizes (Nomogram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TOTAL number used for equal sample sizes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e a formula to obtain new TOTAL for unequal groups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Nomogram: unequal group sizes, 90% Powe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Input: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=75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Ratio sizes: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group 2 / group 1=2 in our exampl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otal Number =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 u="sng">
                <a:solidFill>
                  <a:srgbClr val="9a044b"/>
                </a:solidFill>
                <a:uFillTx/>
                <a:latin typeface="Verdana"/>
              </a:rPr>
              <a:t>75x(1+2)x(1+2)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= 85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4 x 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ample sizes 29 and 58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Hypothesis Testing (2)</a:t>
            </a: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                         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True situation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Decision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No Effect          Effect  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o Effect         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Type 2 (False ‘-’)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1-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            (p=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Effect     Type 1 (False ‘+’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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=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p=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)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            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(p=1- </a:t>
            </a:r>
            <a:r>
              <a:rPr b="0" lang="en-GB" sz="1800" spc="-1" strike="noStrike">
                <a:solidFill>
                  <a:srgbClr val="ff9900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ff9900"/>
                </a:solidFill>
                <a:latin typeface="Verdana"/>
              </a:rPr>
              <a:t>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group sizes:Web Softwar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lculator: input any group size and obtain a power valu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EPI: specify ratio of 2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:Kraemer &amp; Thiemann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equal group sizes : new effect siz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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_____(3/4)_____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= 0.33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qrt((3/4*3/4)+4.5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ook up in tables as before</a:t>
            </a:r>
            <a:r>
              <a:rPr b="0" lang="en-GB" sz="1800" spc="-1" strike="noStrike">
                <a:solidFill>
                  <a:srgbClr val="bababa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bababa"/>
                </a:solidFill>
                <a:latin typeface="Verdana"/>
              </a:rPr>
              <a:t>Unequal samples (Boniface method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w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</a:t>
            </a:r>
            <a:r>
              <a:rPr b="0" lang="en-GB" sz="1800" spc="-1" strike="noStrike" u="sng">
                <a:solidFill>
                  <a:srgbClr val="9a044b"/>
                </a:solidFill>
                <a:uFillTx/>
                <a:latin typeface="Verdana"/>
              </a:rPr>
              <a:t>11.195*varianc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            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d*sid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 twice N</a:t>
            </a:r>
            <a:r>
              <a:rPr b="0" lang="en-GB" sz="18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Another formula (90% power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npaired t-test for 2 groups of possibly unequal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SD * SD * (1 + N2/N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_______________________ = sample size in group 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2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DIFFERENCE IN MEAN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 our examp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11 * 4 * 4 * (1 + 1) / (3*3) = 39 per grou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 Curves: group means differ  by 3; group sds = 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graphicFrame>
        <p:nvGraphicFramePr>
          <p:cNvPr id="252" name="Object 4"/>
          <p:cNvGraphicFramePr/>
          <p:nvPr/>
        </p:nvGraphicFramePr>
        <p:xfrm>
          <a:off x="461880" y="1965240"/>
          <a:ext cx="8218440" cy="3994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5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1880" y="1965240"/>
                    <a:ext cx="8218440" cy="399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4" name="Line 5"/>
          <p:cNvSpPr/>
          <p:nvPr/>
        </p:nvSpPr>
        <p:spPr>
          <a:xfrm flipV="1">
            <a:off x="1600200" y="2971800"/>
            <a:ext cx="4952880" cy="76320"/>
          </a:xfrm>
          <a:prstGeom prst="line">
            <a:avLst/>
          </a:prstGeom>
          <a:ln cap="sq"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5" name="Line 6"/>
          <p:cNvSpPr/>
          <p:nvPr/>
        </p:nvSpPr>
        <p:spPr>
          <a:xfrm>
            <a:off x="5867280" y="2971800"/>
            <a:ext cx="0" cy="198108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6" name="Line 7"/>
          <p:cNvSpPr/>
          <p:nvPr/>
        </p:nvSpPr>
        <p:spPr>
          <a:xfrm>
            <a:off x="6553080" y="2971800"/>
            <a:ext cx="0" cy="2057400"/>
          </a:xfrm>
          <a:prstGeom prst="line">
            <a:avLst/>
          </a:prstGeom>
          <a:ln cap="sq" w="38160">
            <a:solidFill>
              <a:srgbClr val="0000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Power=0.90, 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=2N</a:t>
            </a:r>
            <a:r>
              <a:rPr b="1" i="1" lang="en-GB" sz="20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1" i="1" lang="en-GB" sz="2000" spc="-1" strike="noStrike">
                <a:solidFill>
                  <a:srgbClr val="9a044b"/>
                </a:solidFill>
                <a:latin typeface="Verdana"/>
              </a:rPr>
              <a:t>, 2-tailed Type 1 =0.05, sid=3, sd=4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omogram &amp; PEPI &amp;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alculator &amp;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urves: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	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38  38   76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9  58   87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For equal samples of size n to get unequal sample sizes , N1/N2=k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2 = 0.5n(1+(1/k))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N1 = 0.5n(1+k) – see Lehana Thabane pdf in the demo fold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ables: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Sum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   42  42    84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   30  60    90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Bon’e: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1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N</a:t>
            </a:r>
            <a:r>
              <a:rPr b="0" lang="en-GB" sz="1600" spc="-1" strike="noStrike" baseline="-25000">
                <a:solidFill>
                  <a:srgbClr val="9a044b"/>
                </a:solidFill>
                <a:latin typeface="Verdana"/>
              </a:rPr>
              <a:t>2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Sum Powe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---------------------   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Equal 28 28  56   79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Uneq 20 40  60   80%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Confidence Interval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an obtain 95% Confidence intervals for effect size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2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Asymptotic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Bootstrap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DEMO: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T VALUES.SAV, POWER DATA.SAV AND NONC SAMPLE T.SAV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3299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3299cc"/>
                </a:solidFill>
                <a:latin typeface="Verdana"/>
              </a:rPr>
              <a:t>BOOT_COHENSD_CI.TX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Obtaining power for ANOVA data using menus in SPS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need entire (perhaps, simulated) group data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or between subjects anovas power can be obtained by asking for </a:t>
            </a:r>
            <a:r>
              <a:rPr b="1" lang="en-GB" sz="1800" spc="-1" strike="noStrike">
                <a:solidFill>
                  <a:srgbClr val="9a044b"/>
                </a:solidFill>
                <a:latin typeface="Verdana"/>
              </a:rPr>
              <a:t>observed power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 in analyze:general linear model:univariate:options or analyze:general linear model:repeated measures:options menus when doing between and repeated measures anovas respectively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this is then added as a column in the ANOVA table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Field (2005) suggests only using single df tests to compute power for ANOVAS http://imaging.mrc-cbu.cam.ac.uk/statswiki/FAQ/rField.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Conclusion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mportant consideration in study feasibility (e.g. in grant proposals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afeguards in the case of null result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Close agreement between methods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lnSpc>
                <a:spcPct val="110000"/>
              </a:lnSpc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Power can be boosted using equal sized groups, higher Type 1 error (e.g. 1 tailed tests), larger effect sizes and univariate analyses,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graphicFrame>
        <p:nvGraphicFramePr>
          <p:cNvPr id="271" name="Object 3"/>
          <p:cNvGraphicFramePr/>
          <p:nvPr/>
        </p:nvGraphicFramePr>
        <p:xfrm>
          <a:off x="457200" y="1447920"/>
          <a:ext cx="8228160" cy="472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2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8160" cy="472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Rectangle 4"/>
          <p:cNvSpPr/>
          <p:nvPr/>
        </p:nvSpPr>
        <p:spPr>
          <a:xfrm>
            <a:off x="457200" y="2133720"/>
            <a:ext cx="2743200" cy="7617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4" name="AutoShape 5"/>
          <p:cNvSpPr/>
          <p:nvPr/>
        </p:nvSpPr>
        <p:spPr>
          <a:xfrm>
            <a:off x="3352680" y="2057400"/>
            <a:ext cx="914400" cy="99072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5" name="Rectangle 6"/>
          <p:cNvSpPr/>
          <p:nvPr/>
        </p:nvSpPr>
        <p:spPr>
          <a:xfrm>
            <a:off x="4419720" y="1828800"/>
            <a:ext cx="4419360" cy="106668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one or two-tailed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(significance level)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6" name="AutoShape 7"/>
          <p:cNvSpPr/>
          <p:nvPr/>
        </p:nvSpPr>
        <p:spPr>
          <a:xfrm>
            <a:off x="6553080" y="289548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7" name="Text Box 8"/>
          <p:cNvSpPr/>
          <p:nvPr/>
        </p:nvSpPr>
        <p:spPr>
          <a:xfrm>
            <a:off x="228600" y="380988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8" name="Rectangle 10"/>
          <p:cNvSpPr/>
          <p:nvPr/>
        </p:nvSpPr>
        <p:spPr>
          <a:xfrm>
            <a:off x="0" y="3429000"/>
            <a:ext cx="1752480" cy="914400"/>
          </a:xfrm>
          <a:prstGeom prst="rect">
            <a:avLst/>
          </a:prstGeom>
          <a:solidFill>
            <a:srgbClr val="ff9900"/>
          </a:solidFill>
          <a:ln w="936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79" name="Rectangle 11"/>
          <p:cNvSpPr/>
          <p:nvPr/>
        </p:nvSpPr>
        <p:spPr>
          <a:xfrm>
            <a:off x="2286000" y="358128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0" name="AutoShape 12"/>
          <p:cNvSpPr/>
          <p:nvPr/>
        </p:nvSpPr>
        <p:spPr>
          <a:xfrm>
            <a:off x="1752480" y="3581280"/>
            <a:ext cx="533520" cy="533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1" name="Rectangle 13"/>
          <p:cNvSpPr/>
          <p:nvPr/>
        </p:nvSpPr>
        <p:spPr>
          <a:xfrm>
            <a:off x="5715000" y="3581280"/>
            <a:ext cx="2362320" cy="53352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2" name="Rectangle 14"/>
          <p:cNvSpPr/>
          <p:nvPr/>
        </p:nvSpPr>
        <p:spPr>
          <a:xfrm>
            <a:off x="2438280" y="4876920"/>
            <a:ext cx="2514600" cy="53316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Sample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3" name="Rectangle 15"/>
          <p:cNvSpPr/>
          <p:nvPr/>
        </p:nvSpPr>
        <p:spPr>
          <a:xfrm>
            <a:off x="5715000" y="4876920"/>
            <a:ext cx="2666880" cy="457200"/>
          </a:xfrm>
          <a:prstGeom prst="rect">
            <a:avLst/>
          </a:prstGeom>
          <a:solidFill>
            <a:srgbClr val="ff9900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4" name="AutoShape 16"/>
          <p:cNvSpPr/>
          <p:nvPr/>
        </p:nvSpPr>
        <p:spPr>
          <a:xfrm>
            <a:off x="5029200" y="48769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5" name="AutoShape 17"/>
          <p:cNvSpPr/>
          <p:nvPr/>
        </p:nvSpPr>
        <p:spPr>
          <a:xfrm>
            <a:off x="5029200" y="3505320"/>
            <a:ext cx="609480" cy="533160"/>
          </a:xfrm>
          <a:prstGeom prst="leftArrow">
            <a:avLst>
              <a:gd name="adj1" fmla="val 50000"/>
              <a:gd name="adj2" fmla="val 28579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bababa"/>
                </a:solidFill>
                <a:latin typeface="Verdana"/>
              </a:rPr>
              <a:t>Decide analysi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87" name="Rectangle 20"/>
          <p:cNvSpPr/>
          <p:nvPr/>
        </p:nvSpPr>
        <p:spPr>
          <a:xfrm>
            <a:off x="0" y="3733920"/>
            <a:ext cx="1630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Find Power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8" name="Rectangle 21"/>
          <p:cNvSpPr/>
          <p:nvPr/>
        </p:nvSpPr>
        <p:spPr>
          <a:xfrm>
            <a:off x="913680" y="2286000"/>
            <a:ext cx="2122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</a:t>
            </a:r>
            <a:r>
              <a:rPr b="0" i="1" lang="en-GB" sz="2400" spc="-1" strike="noStrike">
                <a:solidFill>
                  <a:srgbClr val="bababa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analysis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89" name="Rectangle 22"/>
          <p:cNvSpPr/>
          <p:nvPr/>
        </p:nvSpPr>
        <p:spPr>
          <a:xfrm>
            <a:off x="5712120" y="3657600"/>
            <a:ext cx="231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9a044b"/>
                </a:solidFill>
                <a:latin typeface="Times New Roman"/>
              </a:rPr>
              <a:t>Decide effect size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0" name="AutoShape 23"/>
          <p:cNvSpPr/>
          <p:nvPr/>
        </p:nvSpPr>
        <p:spPr>
          <a:xfrm>
            <a:off x="6588000" y="4149720"/>
            <a:ext cx="486000" cy="685800"/>
          </a:xfrm>
          <a:prstGeom prst="downArrow">
            <a:avLst>
              <a:gd name="adj1" fmla="val 50000"/>
              <a:gd name="adj2" fmla="val 35278"/>
            </a:avLst>
          </a:prstGeom>
          <a:solidFill>
            <a:srgbClr val="ffffff"/>
          </a:solidFill>
          <a:ln cap="sq" w="12600">
            <a:solidFill>
              <a:srgbClr val="9a04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1" name="TextBox 1"/>
          <p:cNvSpPr/>
          <p:nvPr/>
        </p:nvSpPr>
        <p:spPr>
          <a:xfrm>
            <a:off x="914400" y="5410080"/>
            <a:ext cx="689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Times New Roman"/>
              </a:rPr>
              <a:t>Baker and Mudge (2012(9), Significance magazine) however suggest combining Type I and II errors to determine N</a:t>
            </a:r>
            <a:endParaRPr b="0" lang="en-US" sz="2400" spc="-1" strike="noStrike">
              <a:solidFill>
                <a:srgbClr val="9a044b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Everitt BS, 1995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 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Power is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“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The probability of rejecting the</a:t>
            </a:r>
            <a:r>
              <a:rPr b="0" i="1" lang="en-GB" sz="2400" spc="-1" strike="noStrike">
                <a:solidFill>
                  <a:srgbClr val="9a044b"/>
                </a:solidFill>
                <a:latin typeface="Verdana"/>
              </a:rPr>
              <a:t> null hypothesis </a:t>
            </a:r>
            <a:r>
              <a:rPr b="0" lang="en-GB" sz="2400" spc="-1" strike="noStrike">
                <a:solidFill>
                  <a:srgbClr val="9a044b"/>
                </a:solidFill>
                <a:latin typeface="Verdana"/>
              </a:rPr>
              <a:t>when it is false. Power gives a method of discriminating between competing tests of the same hypotheses, the test with the higher power being preferred.”</a:t>
            </a: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References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berson CL (2010) Applied power analysis for the behavioral sciences. Routledge:London. </a:t>
            </a:r>
            <a:r>
              <a:rPr b="0" lang="en-GB" sz="1400" spc="-1" strike="noStrike">
                <a:solidFill>
                  <a:srgbClr val="3299cc"/>
                </a:solidFill>
                <a:latin typeface="Verdana"/>
              </a:rPr>
              <a:t>Contains SPSS syntax for a variety of power analyses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ltman DG (1991) Practical Statistics for Medical Research.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Boniface DR (1995) “Experiment Design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d Statistical Methods for Behavioural and Social Research.” Chapman &amp; Hall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Field A. (2005) Discovering Statistics using SPSS.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(section on power in ANOVAs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34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Kraemer HC and Thiemann S (1987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“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How Many Subjects? Statistical Power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    </a:t>
            </a: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Analysis in Research.” Sage.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a044b"/>
                </a:solidFill>
                <a:latin typeface="Verdana"/>
              </a:rPr>
              <a:t>Other formulae for sample sizes: See Lehana Thabane’s class notes (pdf file in demo folder)</a:t>
            </a:r>
            <a:endParaRPr b="0" lang="en-US" sz="14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9a044b"/>
                </a:solidFill>
                <a:latin typeface="Verdana"/>
              </a:rPr>
              <a:t>Next week… 11am 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Latent variable models: factor analysis and all tha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Footer Placeholder 4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ower = 1 - 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Type 1 Error is area in yellow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 blue lines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Criterion Value is black line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00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9a044b"/>
                </a:solidFill>
                <a:latin typeface="Verdana"/>
              </a:rPr>
              <a:t>Power increases with Type 1 error</a:t>
            </a:r>
            <a:endParaRPr b="0" lang="en-US" sz="1600" spc="-1" strike="noStrike">
              <a:solidFill>
                <a:srgbClr val="9a044b"/>
              </a:solidFill>
              <a:latin typeface="Verdana"/>
            </a:endParaRPr>
          </a:p>
        </p:txBody>
      </p:sp>
      <p:pic>
        <p:nvPicPr>
          <p:cNvPr id="116" name="Picture 5" descr="norms"/>
          <p:cNvPicPr/>
          <p:nvPr/>
        </p:nvPicPr>
        <p:blipFill>
          <a:blip r:embed="rId1"/>
          <a:stretch/>
        </p:blipFill>
        <p:spPr>
          <a:xfrm>
            <a:off x="4648320" y="2077920"/>
            <a:ext cx="4038480" cy="376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 error (</a:t>
            </a:r>
            <a:r>
              <a:rPr b="1" lang="en-GB" sz="2000" spc="-1" strike="noStrike">
                <a:solidFill>
                  <a:srgbClr val="bababa"/>
                </a:solidFill>
                <a:latin typeface="Symbol"/>
                <a:ea typeface="Symbol"/>
              </a:rPr>
              <a:t></a:t>
            </a: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)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reject the “no effect” hypothesis, ie P(false posi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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05 or 0.01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Size of Type 1 error specified before data collection 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Prediction of difference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Specified before the data is collected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Two-tail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 is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non-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 = 0 vs Mean </a:t>
            </a:r>
            <a:r>
              <a:rPr b="0" lang="en-GB" sz="2000" spc="-1" strike="noStrike">
                <a:solidFill>
                  <a:srgbClr val="9a044b"/>
                </a:solidFill>
                <a:latin typeface="Symbol"/>
                <a:ea typeface="Symbol"/>
              </a:rPr>
              <a:t>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One-tail </a:t>
            </a: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is</a:t>
            </a:r>
            <a:r>
              <a:rPr b="0" i="1" lang="en-GB" sz="2000" spc="-1" strike="noStrike">
                <a:solidFill>
                  <a:srgbClr val="9a044b"/>
                </a:solidFill>
                <a:latin typeface="Verdana"/>
              </a:rPr>
              <a:t> </a:t>
            </a:r>
            <a:r>
              <a:rPr b="1" i="1" lang="en-GB" sz="2000" spc="-1" strike="noStrike">
                <a:solidFill>
                  <a:srgbClr val="3299cc"/>
                </a:solidFill>
                <a:latin typeface="Verdana"/>
              </a:rPr>
              <a:t>directional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9a044b"/>
                </a:solidFill>
                <a:latin typeface="Verdana"/>
              </a:rPr>
              <a:t>(e.g. Mean=0 vs Mean &gt; 0)</a:t>
            </a: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Footer Placeholder 3"/>
          <p:cNvSpPr/>
          <p:nvPr/>
        </p:nvSpPr>
        <p:spPr>
          <a:xfrm>
            <a:off x="914400" y="6477120"/>
            <a:ext cx="5105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9a044b"/>
                </a:solidFill>
                <a:latin typeface="Verdana"/>
              </a:rPr>
              <a:t>MRC CBSU Graduate Statistics Lectures</a:t>
            </a:r>
            <a:endParaRPr b="0" lang="en-US" sz="1000" spc="-1" strike="noStrike">
              <a:solidFill>
                <a:srgbClr val="9a044b"/>
              </a:solidFill>
              <a:latin typeface="Times New Roman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838080" y="838080"/>
            <a:ext cx="518184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bababa"/>
                </a:solidFill>
                <a:latin typeface="Verdana"/>
              </a:rPr>
              <a:t>Type II error</a:t>
            </a:r>
            <a:endParaRPr b="1" lang="en-US" sz="2000" spc="-1" strike="noStrike">
              <a:solidFill>
                <a:srgbClr val="9a044b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Wrongly conclude there is no effect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(chance of a false negative result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Usually </a:t>
            </a:r>
            <a:r>
              <a:rPr b="0" lang="en-GB" sz="1800" spc="-1" strike="noStrike">
                <a:solidFill>
                  <a:srgbClr val="9a044b"/>
                </a:solidFill>
                <a:latin typeface="Symbol"/>
                <a:ea typeface="Symbol"/>
              </a:rPr>
              <a:t></a:t>
            </a: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=0.2 (or even 0.1)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-343080">
              <a:spcBef>
                <a:spcPts val="451"/>
              </a:spcBef>
              <a:buClr>
                <a:srgbClr val="9a04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9a044b"/>
                </a:solidFill>
                <a:latin typeface="Verdana"/>
              </a:rPr>
              <a:t>Increasing Type 1 error decreases Type 2 error and increases power</a:t>
            </a: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9a044b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5T10:19:37Z</dcterms:created>
  <dc:creator>peter</dc:creator>
  <dc:description/>
  <dc:language>en-US</dc:language>
  <cp:lastModifiedBy>Peter Watson</cp:lastModifiedBy>
  <dcterms:modified xsi:type="dcterms:W3CDTF">2015-03-27T10:22:25Z</dcterms:modified>
  <cp:revision>232</cp:revision>
  <dc:subject/>
  <dc:title>8: SAMPLE SIZE DETERMINATION</dc:title>
</cp:coreProperties>
</file>