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52DC-2485-4555-993E-7A835D55E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6175-5DB4-4F06-83B5-00B799223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EAF9-AE36-48ED-AF02-47ED3968B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3136-8C4C-47F9-814D-E4FE2CCAE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1610-5750-4BA7-A699-5F092FE4B0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A6E3-F946-47E2-B30B-B0AE826BC1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6BE4-242B-4C30-9C61-75EF04BE5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5DF3D-B5E8-45A9-98BB-94DFEA53A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6CEB-23E3-41DA-AE34-6CE476F91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D72FA-CA6B-4B3B-9C1F-EEC98B3111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BFEDB-9FCC-4848-8357-C47FDB921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7185-DB7C-4BCA-9B90-39EA447BF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F19AB-7447-435F-926C-9EB67B4223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D18E-8425-4F6A-B9C2-73D21B9D17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CA3E7-3280-45CD-9AFC-920D219D4C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6DD9-286D-4E62-BF14-3A22234B8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4A13B-6604-4A88-B21A-8F7C5DCFC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54D7-D60B-40C3-963D-668D80C26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154C-E436-4139-A36B-ED8644A72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21A2-DBBC-4DA1-BBBC-A5D580032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2B54-0A9F-4BEF-B66B-E4419278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EB76-BEEE-4F8B-A1C1-DA9CB5E9E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49CA-55AF-47CA-9980-AFC4D5DD1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3143-CC59-49F5-9CBB-DE2CA1E2E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5D7F9E2-C36C-45E9-99A1-127F8FBD995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0506046-3E38-4B2C-999E-5EB7E6185C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2C98CB-E1C4-461D-9E30-941522AC5F5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D65BDB8-E9AE-4DDA-A89B-89F9651AED5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5-03-27T10:22:25Z</dcterms:modified>
  <cp:revision>232</cp:revision>
  <dc:subject/>
  <dc:title>8: SAMPLE SIZE DETERMINATION</dc:title>
</cp:coreProperties>
</file>