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3331-051C-4A5B-861C-313B02C1E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446E-BAEC-455A-9032-56DB746D0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F214-4549-4273-8DFC-0091CAB8D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CBCA-BDAB-40A5-A599-CC77DC2DC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C9D93-AA8B-4202-A3A9-50D2146611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23E6F-46C7-4EBD-85AD-A9228C2DCA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6766A-DCF1-4588-BCDD-C3E9117971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18B76-6579-4B84-B118-D4C0A31621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B1047-8E3B-4EC0-BA30-7A4F72D809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5B6AD-FF6F-4EE2-A28B-3BC1D96F8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40742-3018-4A3B-ADEB-2F400FD3E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21208-65BA-4DFE-9CBF-254FEF0ED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C33C4-C6DD-42BE-AAF0-3CE79254E1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855DD-8767-4D4B-9FE8-E91B0C59A9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3A85D-9EE6-4209-8149-5069862C4B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3256E-D877-44F8-8031-9838343B4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E0837-8691-4E2E-A963-BAB6DA7C5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C31D-58AC-4AAC-AFB1-05DF1A042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FC3B-A519-43DB-BFDD-8C2ADCAED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69CB-44CA-40D6-9CE5-D4F8B69E4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B202-87B2-47B3-B606-3EE73A9D1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078D-AF64-42C5-9C21-48BBF0249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7F0C-392D-4002-BEF7-7DA65B393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160C-96B9-4C5A-96CA-6A8B13E8F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2F89295-48D0-419D-8973-1559B6E5390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7B31AA9-304B-449E-80A8-0D13797F83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954545C-1D1C-4665-8233-9E3F575E8D2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F0399EE-052E-47D3-BE94-9B9E5A3F252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5-10-12T10:39:13Z</dcterms:modified>
  <cp:revision>309</cp:revision>
  <dc:subject/>
  <dc:title>REGRESSION ANALYSIS</dc:title>
</cp:coreProperties>
</file>