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D2E8-AFB8-4712-9EF4-57E49843F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D1AC-77A7-456F-9D89-24E5AF128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7CB1-1A44-41E7-98A1-C48AD394A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282B-F0D3-4B97-822C-FE4BC8E0B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B014C-E820-46F3-AF3B-90563D718A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B35D8-59F3-4BE6-9D5A-A3EF0818DC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0B53D-D10E-473E-BEA4-CC0288F0D4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B5E37-7E1B-432A-88A1-08FA9C04AA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4B7AE-9C42-488B-901A-45B27CD83D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845AB-7E7D-49CB-A33F-29132C300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8C4BB-E774-4B4F-A66A-8A352286DB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1FBA-C07F-4786-85A8-431676E60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8B7E3-BCFD-48D2-8A3A-7E4823A9CA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B22FB-97DA-4972-819E-55900A8326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1B3C9-5C25-42EC-B57F-38C60D83B4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4C5AD-C676-4E1C-810D-63E4E519AB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CED19-7D89-4976-9AF5-62E15D4C02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676B-33EE-4AF7-AF90-48D629DC4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C3ED-2E2A-4210-A5FC-14626A6AA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605C-A313-44C3-8693-F06579E29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EE19-621B-4062-BFC1-F797C9891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2259-0A0F-4390-B097-484B5350B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FC13-FB15-4B51-AF34-3E89218D0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1EAF-2680-4677-ABEE-52C1BDE48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F63668D-8177-46BD-817D-04460E7BDDC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4250482-C4A3-4ED6-AE41-B5445DBEF7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DA645A0-43ED-4593-BF3D-EF905C7B85A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69D042D-4AEC-465B-8740-6CC013E8B04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5-10-12T10:39:13Z</dcterms:modified>
  <cp:revision>309</cp:revision>
  <dc:subject/>
  <dc:title>REGRESSION ANALYSIS</dc:title>
</cp:coreProperties>
</file>