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36C-70CF-499E-A966-90F3DEB8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460-8C0C-4196-ADC6-80D01560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FA5B-B594-4928-8C13-B5935059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9454-5D28-4F38-A19B-9180009D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E81-84FA-4AE7-978C-16314E71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7806-A566-4E6A-ADFC-2BC2C08F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526-D34C-4308-9BE3-3A639EC7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3E53-BF7D-48B2-9136-3C19CA45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B512-4C94-4F30-B335-7D6CA214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E30-BC3A-483C-A480-B85FD6B5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43C-4009-44BD-A7EB-E9A82D6D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5D63-3869-4170-B3E8-587E273C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AE96-3A7B-4995-B90E-E610E3B5330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2128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20 November 201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6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9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5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5-06-25T09:41:44Z</dcterms:modified>
  <cp:revision>82</cp:revision>
  <dc:subject/>
  <dc:title>No Slide Title</dc:title>
</cp:coreProperties>
</file>