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5E3D-2ADF-4A41-87A2-A5D3D89AA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C9AF-4733-4C37-8FBC-056A5399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B1EC-10A7-4222-ABF5-9187B4FEB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7EC7-35D7-4FC7-A9DD-9CD62629B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62C7-36CA-426E-9E0F-9602D009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858E-9224-4132-B862-F48EDC8D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5B46-A352-40D0-A7E2-265FBE9F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5EBA-850A-4850-B69E-5808AE5B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1C0E-BD53-4128-84E5-6DF72461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E405-8901-46D2-9A76-F087A014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1F68-0A3F-4FE6-A0D0-98F4FBB7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0FA6-DA25-4319-8822-A91FFC7C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F2F7-B96F-40E2-85C0-AA07FE5B428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5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308720" y="6381720"/>
            <a:ext cx="121284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60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105" name="Line 6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110" name="Line 4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Oval 5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6" name="Object 3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6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3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170" name="AutoShape 16"/>
          <p:cNvCxnSpPr>
            <a:stCxn id="165" idx="2"/>
            <a:endCxn id="166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1" name="AutoShape 17"/>
          <p:cNvCxnSpPr>
            <a:stCxn id="165" idx="2"/>
            <a:endCxn id="167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2" name="AutoShape 18"/>
          <p:cNvCxnSpPr>
            <a:stCxn id="165" idx="2"/>
            <a:endCxn id="168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3" name="AutoShape 19"/>
          <p:cNvCxnSpPr>
            <a:stCxn id="165" idx="2"/>
            <a:endCxn id="169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4" name="AutoShape 20"/>
          <p:cNvCxnSpPr>
            <a:stCxn id="163" idx="2"/>
            <a:endCxn id="164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5" name="AutoShape 21"/>
          <p:cNvCxnSpPr>
            <a:stCxn id="163" idx="2"/>
            <a:endCxn id="165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176" name="AutoShape 22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Rectangle 24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AutoShape 25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9" name="AutoShape 26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3" name="Object 1026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Text Box 1027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6" name="Text Box 1028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7" name="Picture 1029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031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4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Line 5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AutoShape 2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13" name="AutoShape 9"/>
          <p:cNvCxnSpPr>
            <a:stCxn id="212" idx="2"/>
            <a:endCxn id="208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4" name="AutoShape 10"/>
          <p:cNvCxnSpPr>
            <a:stCxn id="212" idx="2"/>
            <a:endCxn id="209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5" name="AutoShape 11"/>
          <p:cNvCxnSpPr>
            <a:stCxn id="209" idx="2"/>
            <a:endCxn id="210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6" name="AutoShape 12"/>
          <p:cNvCxnSpPr>
            <a:stCxn id="209" idx="2"/>
            <a:endCxn id="211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17" name="Text Box 13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4" name="Object 2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Line 4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231" name="Line 6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Line 7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239" name="Line 5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246" name="Line 3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252" name="Line 3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259" name="Line 3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Line 5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7" name="Picture 8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68" name="Line 9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Text Box 12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Text Box 13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5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79" name="Picture 7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281" name="Line 9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Line 10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AutoShape 2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AutoShape 3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AutoShape 5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AutoShape 6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91" name="AutoShape 7"/>
          <p:cNvCxnSpPr>
            <a:stCxn id="290" idx="2"/>
            <a:endCxn id="286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2" name="AutoShape 8"/>
          <p:cNvCxnSpPr>
            <a:stCxn id="290" idx="2"/>
            <a:endCxn id="287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3" name="AutoShape 9"/>
          <p:cNvCxnSpPr>
            <a:stCxn id="287" idx="2"/>
            <a:endCxn id="288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4" name="AutoShape 10"/>
          <p:cNvCxnSpPr>
            <a:stCxn id="287" idx="2"/>
            <a:endCxn id="289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95" name="Rectangle 25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4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1" name="Picture 2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14" name="AutoShape 5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AutoShape 8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Text Box 2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3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AutoShape 5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AutoShape 6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1429560" y="2436840"/>
            <a:ext cx="771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12) however notes the Mauchly test has low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ower for small 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Text Box 2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5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7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348" name="Line 6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Line 7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Line 8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Line 3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358" name="Line 3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Line 5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3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371" name="AutoShape 3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72" name="AutoShape 4"/>
          <p:cNvCxnSpPr>
            <a:endCxn id="373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74" name="AutoShape 5"/>
          <p:cNvCxnSpPr>
            <a:stCxn id="371" idx="3"/>
            <a:endCxn id="375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76" name="AutoShape 6"/>
          <p:cNvCxnSpPr>
            <a:stCxn id="371" idx="3"/>
            <a:endCxn id="377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73" name="AutoShape 7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5" name="AutoShape 8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AutoShape 9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Rectangle 10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Rectangle 11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Rectangle 12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AutoShape 2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AutoShape 3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AutoShape 4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AutoShape 6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88" name="AutoShape 7"/>
          <p:cNvCxnSpPr>
            <a:stCxn id="387" idx="2"/>
            <a:endCxn id="383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89" name="AutoShape 8"/>
          <p:cNvCxnSpPr>
            <a:stCxn id="387" idx="2"/>
            <a:endCxn id="384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0" name="AutoShape 9"/>
          <p:cNvCxnSpPr>
            <a:stCxn id="384" idx="2"/>
            <a:endCxn id="385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1" name="AutoShape 10"/>
          <p:cNvCxnSpPr>
            <a:stCxn id="384" idx="2"/>
            <a:endCxn id="386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92" name="AutoShape 11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AutoShape 12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AutoShape 13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AutoShape 14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AutoShape 15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AutoShape 16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98" name="AutoShape 18"/>
          <p:cNvCxnSpPr>
            <a:stCxn id="385" idx="2"/>
            <a:endCxn id="392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9" name="AutoShape 19"/>
          <p:cNvCxnSpPr>
            <a:stCxn id="385" idx="2"/>
            <a:endCxn id="393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0" name="AutoShape 20"/>
          <p:cNvCxnSpPr>
            <a:stCxn id="385" idx="2"/>
            <a:endCxn id="394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1" name="AutoShape 21"/>
          <p:cNvCxnSpPr>
            <a:stCxn id="386" idx="2"/>
            <a:endCxn id="395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2" name="AutoShape 22"/>
          <p:cNvCxnSpPr>
            <a:stCxn id="386" idx="2"/>
            <a:endCxn id="396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3" name="AutoShape 23"/>
          <p:cNvCxnSpPr>
            <a:stCxn id="386" idx="2"/>
            <a:endCxn id="397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3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Text Box 2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9" name="Picture 2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2" name="AutoShape 2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3" name="AutoShape 3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AutoShape 4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6" name="AutoShape 6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37" name="AutoShape 7"/>
          <p:cNvCxnSpPr>
            <a:stCxn id="436" idx="2"/>
            <a:endCxn id="432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8" name="AutoShape 8"/>
          <p:cNvCxnSpPr>
            <a:stCxn id="436" idx="2"/>
            <a:endCxn id="433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9" name="AutoShape 9"/>
          <p:cNvCxnSpPr>
            <a:stCxn id="433" idx="2"/>
            <a:endCxn id="434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0" name="AutoShape 10"/>
          <p:cNvCxnSpPr>
            <a:stCxn id="433" idx="2"/>
            <a:endCxn id="435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41" name="AutoShape 11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AutoShape 21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AutoShape 22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AutoShape 23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45" name="AutoShape 24"/>
          <p:cNvCxnSpPr>
            <a:stCxn id="432" idx="2"/>
            <a:endCxn id="444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6" name="AutoShape 25"/>
          <p:cNvCxnSpPr>
            <a:stCxn id="432" idx="2"/>
            <a:endCxn id="443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7" name="AutoShape 26"/>
          <p:cNvCxnSpPr>
            <a:stCxn id="435" idx="2"/>
            <a:endCxn id="441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8" name="AutoShape 27"/>
          <p:cNvCxnSpPr>
            <a:stCxn id="435" idx="2"/>
            <a:endCxn id="442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49" name="Text Box 29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Text Box 2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86" name="Object 3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4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09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510" name="Line 5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2" name="Text Box 8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3" name="Line 10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16" name="Picture 13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517" name="Line 6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Line 9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21" name="Picture 5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3" name="AutoShape 4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27" name="Picture 7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0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1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0" name="Object 12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1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Text Box 13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94" name="Line 6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Line 7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38" name="Picture 5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6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6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00" name="Line 8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Peter Watson</cp:lastModifiedBy>
  <cp:lastPrinted>2004-11-17T16:02:36Z</cp:lastPrinted>
  <dcterms:modified xsi:type="dcterms:W3CDTF">2015-06-25T09:41:44Z</dcterms:modified>
  <cp:revision>82</cp:revision>
  <dc:subject/>
  <dc:title>No Slide Title</dc:title>
</cp:coreProperties>
</file>