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dt" idx="55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 type="ftr" idx="56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 type="sldNum" idx="57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1ECD13-6C2B-47E0-96C3-EC2AE667F0B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36CB15-E97C-46CF-B263-D99BE64B05B2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5523-38E9-4CBD-829D-123E8DF4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D6E-1A4B-455C-98AD-E9DA92D5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8F9B7-40CA-4379-9609-4BF2559A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D037A-3917-4724-8C23-1935BA22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36E32-704B-430C-9761-8AD12ED9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86961-965A-4723-A8D9-34086F6D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779AF-0E3B-4A3F-B304-6E4D9F0F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4AF28-4612-4CE8-8310-51D9CC49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70381-372E-4D60-A891-0DB35BC3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C7E37-205A-4A18-B3FA-24C1C828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ADE2C-B52A-4A2C-BF4B-B6BA8639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5E9F6-5325-4682-B02F-97AE843C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779-F96A-4C98-B29A-C565C371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03523-2CE7-4888-B2E6-0367E75E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11517-2B83-4F3A-BB9F-4176BF4D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62A50-EA9E-4470-AB0F-E8F98841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CB2E1-7378-4B09-B6B1-6DDD79D8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BAF5D-C1A7-4DEE-A2FE-4B009E9F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F573D-3D45-4413-ADE6-A88F4048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8EC1A-0B68-489C-9E0A-6CB1277C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1570F-6AA5-4B12-AE9E-4047131C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2B820-3078-4C7B-81C5-EA9F6ECF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34968-E711-482F-A50C-C693DA03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325-EE9A-4D66-AA9B-8F87DB2C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8723C-3C3C-499C-AEC9-D0523A24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2A42A-59D1-4FE8-8AED-BDC3EDD9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B8689-D9AE-4F15-889D-90A11DFA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5CE8C-AB14-41B1-8F60-715EBC65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7D0B6-A1BD-40C6-AC23-175C07D3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9E944-5094-4FDA-B17B-52A6A324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3C30B-01D9-4AF9-8F57-D7672D14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55EE6-5C00-4D58-B198-652A9623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D2657-96E6-48D3-89A6-EBC548D6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A2FE8-8617-4157-AE1F-EB02F615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E033-A630-46BE-B982-D8175C7D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93EF4-5381-4D3A-B9F9-C6B96F82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2A0DC-8C0B-43D8-AB9E-52572FFC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310AF-9705-4C6C-B97E-A7B5EFE4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B114C-312C-4890-882D-185B3980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3ECC4-9581-4F68-8A45-E62BCFB5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7D44D-A36B-4601-8242-1599235E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9D9C0-F8D4-4DD8-9D13-CFF3C264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5EC0E-A71A-440F-B673-71258203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E184C-AA4D-4AF7-BC21-5DD464B0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EDA6F-0293-4015-B3C6-9CF2EC28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51A1-86BE-49FA-963B-6F10AE56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0D5A0-F3DB-4CF8-95AE-569E7F0A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EFE6E-04DF-4F85-98CD-D8CE5CAB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E4129-1E86-4812-BB05-9DBA92FA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7DBE3-E4BD-4FC3-AB1D-F9923CFF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02571-539E-40B4-ABCF-354F51BB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F37075-22EA-4C3D-8EF6-A01C7864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DFB004-CBD3-4291-9E17-E43AC32B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CDFAD-83BD-4279-8C61-2E277A41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4AA28-D763-4EAC-A6A4-9674FFE6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F9BA4F-C247-46B3-BB73-13A13C75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6262-8F70-42E2-A30E-10F36CAB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58B43-8189-4529-9CB8-6C5B0B23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7D1E06-01CD-4F07-9E41-F94248EC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14305-B686-4D8D-A362-963C3369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5BB7A-77AB-4530-962F-462D18D4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C1D5B-38E0-4E34-B10C-DD9437E6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A6936-F9AC-4B5D-8F60-F3D383E3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87BBD-3E38-471C-B506-29E136FB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5B07D-F208-4BCC-8897-C2AAB73D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C353A8-864F-4BAF-9C2D-1A458EB9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893D40-84C6-49BB-BE29-6AC214E7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AB9D-A348-4B12-A771-103846E5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63E620-EDE0-4E18-8D1F-F228DE78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763F2-34FD-463D-8EE9-BB6E1101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450338-C5F2-422F-8F3A-6D39CD49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AD27E-5CB6-421F-BF15-9E4AB085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555B83-34B9-49B2-BF20-2BFF69D6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B92C8-07F9-447A-85D4-F91A4B84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72BA95-7E33-47B6-8CD2-54B3DD84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B7DAB-4389-4E20-85D8-2ADEED00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F9B2B4-58D6-4C7B-837B-883B2CD0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6B62E1-CA1F-4805-8F9F-7C3D93FC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B74E-24AD-46E1-87A7-75BCD60A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78738E-DCB2-4CF5-9595-1C47E1E7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37DD48-75C8-4D27-BBFC-7ACA4D2A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7568D4-FB1D-4A0D-A40A-4CD3F971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C9693F-0262-463F-8313-5933350A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E4ACD3-4C9A-4E26-AA09-B2D71269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D70BDE-F444-4D13-82FE-40A10691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ECB1A-3AC3-40F6-8949-19AE7A56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E4C2AC-E413-4C1B-9F5D-AFC6D000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430964-AB0D-49D4-B0FA-6683D554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93D8A1-3EE3-47E1-8265-82F9BEED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D6FE-F2E1-418E-931C-12EEF1FB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11AD11-D40C-4BB5-A62B-287D3C52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B5B642-0BB5-4C9B-824D-4378C8D1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BA2493-F58C-4155-8CBC-D6E22630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BAEB38-8B6D-4410-8EED-9EE70317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9949B7-7E9F-4781-8D79-B2B61D43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5339FC-A535-4B45-9C08-8BF962E0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3C399-DCE2-46AD-9158-081238D0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554FC9-C062-4219-9B39-83BF19DD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7C4A4D-C692-49D1-B212-070619F6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5A2034-7C98-408D-93EC-2FC19BFF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CE37-5642-4EBE-B663-21A42911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4E2D60-EA00-4033-8A92-86F99EEC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AAC8C5-ECAA-4C1A-816D-6D53D461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8B1ADE-85B8-4B70-90AA-EB755209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371043-F4A3-456A-9CC2-28758DA7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67789D-3E64-495A-A479-296E45AB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045209-91F6-4ABC-9F2C-D52775BD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570905-A3A2-4250-A69C-4A0D05EE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EE7768-D866-4AEE-9CC7-E5B54146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CD3A05-3BAD-48FB-A117-A6597F0C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85193E-EC82-45D4-8669-F88D27A6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BD3C-27EF-472B-9F81-BA98F1E8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39C9-043C-4690-A02A-B2CFB0B2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83BDCE-B120-4CC7-95F9-C895965D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F4E350-31BE-479F-BADD-E3E22949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73E1AE-11B2-42AA-BD09-BEFDE91B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4F1F4E-297B-4362-B3E0-94B48463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5BAC4F-9A9A-4BA1-9F4F-7680D89D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ADE90C-4A1E-4FBF-818C-24DE2FF8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6C1813-F2EC-4B89-A7B4-FF65C164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A530B5-6094-4EC1-8DB6-11C3C33E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481A3E-735C-4F29-9A81-87DC3D9F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59F3F5-8091-42E4-BE28-DCE3B096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9BEA-F07E-4D52-8743-C8F81E52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29385F-6E43-45D7-BE7F-C9B00AE4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C1C386-943E-497F-AEE1-AE8D73EE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FE9879-2E48-4C08-8F32-A02B8C39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46BD77-A8A6-405A-A9D0-19680245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4701A2-9432-451C-A67F-DEEECCA4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FA1258-51FD-403F-A195-F63FCCF3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D2D279-833C-4F12-8F35-296ED425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696F-80DE-477F-85FD-F0B2BEBB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6281-7A00-4304-BDF8-009EC285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2222-EC22-4EB8-9D04-BC6944AA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E4FF0-9E2E-489F-9F5F-506C5A60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82CC8-045F-4C0A-B514-FE90558B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CD923-61FC-4F48-9FA5-0780F087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5E42C-12B5-478B-AB4B-F65D1929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F2C8F-0A02-4459-8512-D1F51FED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F2E6-9E58-4405-851E-468FE48C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369AC-DF39-4953-BFB8-9D87FC2C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D1B42-9B51-4C36-AB50-8EDB744A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A2935-3024-4C28-98F2-9ED3E5D9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EE3DB-8E3A-409D-8153-94C5FAEA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0E1C7-B556-4C49-B930-B3C751BA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17653-EA65-4EDD-B86C-F368158E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88694-E14D-4FD8-B3C4-2AEBD3E3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FCE10-56AD-4271-BC83-3C793859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4CB5E-745B-4A13-A3FF-F97BF140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E2190-61C0-40AF-BE4A-6E470C7C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B33-1D89-4B00-81F8-9DAF6A5D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0F825-7EFD-4A11-99C6-2250140C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F076C-7C9B-47C9-87E1-9FFB7334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2DCF4-41E6-46A6-86D3-E8E9D9D1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89017-F851-4D1F-8893-DA98D160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2DEE3-D33A-475A-BCD1-0DA1C8C0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2899E-EACE-4900-831D-5AD94DEA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F5346-BA7F-4D5D-820D-CC04A175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7197E-60DF-4AB1-921F-575D8C4A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AEB95-1A03-48E3-8B26-A4257819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49779-752D-4009-A851-81427C39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827-AD84-4891-BE29-1ED3FACC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312B7-E723-4838-AAF7-3AC744B4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9E335-6307-4CB4-B311-E3E09144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AEBCE-2446-458B-9FA2-37D51AE7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02F7C-1757-446E-814E-42B8CA64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414D6-FAF0-4D69-876E-D58FB888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174EF-D446-4F03-A390-C5FEC0AD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3F3FC-17D3-436B-B399-6324A4E0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D1728-FC1E-41DE-8C6E-686E64EC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D8B6F-55C4-470B-BD5F-A991B1CF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B3995-8B6F-43D3-9F92-9A73A004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081-2DDF-4336-A326-3AFF47E4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9CC21-8B18-4E6E-BFB8-3365CBB9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B5DD6-6B27-4618-A822-73263C06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F33E4-3D01-4B5C-A914-1159BDE2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16A09-E37B-443A-A410-C0DFF612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E702D-F4EF-4B6B-91D3-9C4D8982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3C622-8E13-4862-970E-A1CB4AC0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7B327-6B51-41A5-B3A3-A4F53102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C48C4-57E8-4DF8-A569-90C83C8D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665CB-39E6-4749-BF09-A8B07BAF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2F951-47C3-4306-991F-0557FAC4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E0D0-C408-4133-B1B8-61B3BED5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646C4-79C9-4964-B74D-EA043265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4EBEC-AE70-4C85-ABEC-7EA1F5B9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FFBB9-7A52-45E9-B3B0-1D18174A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2FF48-B93D-40DD-99AF-7D6EA868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FB569-395E-4206-AE6F-8CA7BD4D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D7D57-9574-4DF8-AE9A-ACC991B0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3BED0-4578-426A-B567-A7FC2C92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C4BDD-C525-4C59-84BB-7C09D342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D6878-6BA1-4C7E-B10E-D6496FCD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23283-D08C-4FFD-9947-6B691FA3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664-50D8-4183-A7E9-B4EF6949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F99CD-C9F6-41CF-9B6E-46778C4E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BDF17-5F57-48B0-A1B7-2A2C2443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58C34-F27C-4AC8-A537-652425FF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76BE7-4466-4113-8E65-DE1B844B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EBB22-F9B2-4036-B197-CB09521C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BB27E-BA48-4BB0-B0D9-5E05F99A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4A7C4-742B-471D-BDC9-8C890B89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5DDB2-901C-41C0-B020-894F4C7E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80CD4-1B62-4B0C-92D7-22B1D5E1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EED25-E13A-4EEF-A951-B266F277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447-D624-4A8F-ABB4-C989A391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4DC80-0680-4563-8900-2AB6318A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633E4-E831-4D7B-B09C-4446A749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08BB5-E9DD-4E96-9C3B-0D21853F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65864-DDC5-411A-805E-96BB905E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B0B0A-DE0D-45D9-8726-F6239139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8275F-DCA1-49A0-8F18-82487903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03D6D-23C2-48FB-92A5-75DEFECC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9E448-6C75-4AB4-90F8-FD478C10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862A4-7D46-4212-881C-5C603748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5A3FA-2BF8-4EF7-833B-8C28E970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3414-59D2-4499-8B67-1CF33B64236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BF1C-74CA-4412-9029-E0EAAD8A31A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0EDC-ED1C-4CFC-B966-FE952B363D4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6F6B-4E30-4B1B-BF28-26B6141DC38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68AE-5430-40E2-8B83-9D1C5834965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2EDE-5487-4036-A645-337669ABE15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D65D-E63D-4390-B8B0-254AE0DC581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CA16-BB5B-45F3-9F37-6DDE3920FCA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2D61-DE88-418E-AFC8-6AF0112B223A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1B53-7CEF-493D-9834-95710E795A8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B98D-E86C-4EDF-909C-883C019BC43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0B6C-31D0-475B-8C3C-306F0B22D41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176D-0068-407D-9841-9C01F5524EF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12E6-C900-4CA8-BC26-4FD9071EF5D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F733-6F5F-440A-A2C7-74A99F86AB9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2AE0-BACB-47A1-ABDF-C35F5D4B0A4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9DE7-8BF4-4A5D-B339-67605FFE0A8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D274-8F50-40F2-8F9A-E8EBF894910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6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6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96E3-7992-48BF-8C48-5F8F4589853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E366-182F-4CD8-A2C5-12D7655DFD8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5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0F63-A77D-4FC3-B5E4-3CD75E4820B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0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2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8672-E0C6-4878-8548-FB8B2A97424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7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D371-5F0B-4580-B976-D64BAEA6A45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3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55F6-61FC-4180-A775-79B03C38FF3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9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3436-89C4-465F-88A1-95D468BC865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4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5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C869-D5F7-4405-9EB0-D1AECB0C78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0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E08C-0C82-4C6E-8CC5-0036A3495F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6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9404-4CB7-408E-B022-2A8951935B2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3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7C99-8B67-4AA2-9BEC-A2120893576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9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5 November 201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3697-E81A-4CA9-828D-3D0319D1ABB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8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4CE4-320D-4D98-9D10-14931795D06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90D3-3ACF-4A4F-8024-BC826EAFF3A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1C1D-5600-4B2D-807E-D11C38A0B5E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B13E-77DA-4819-9C73-A81EC47D354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9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863F-45A1-4974-9ECA-46E7D07EBCF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4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444B-A0F9-41F9-8E09-3C8C54913B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90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91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92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3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4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5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6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7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8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9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200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201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202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2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3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4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5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6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7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C5C5-F812-4269-8815-B4155CAEFC6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3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4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41DF-C529-4F06-A55C-2C10EEBC57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0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D349-575C-451C-930E-E4C64C187D4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6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1A66-7DBF-4F09-B121-55C99DFBAFE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46D8-7CE5-402B-A066-945B917BEB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2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C547-8802-41B4-AD36-F5976A4A067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E62A-573F-4FFB-ACF4-0D4BC3897CD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4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5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0DF4-1BD8-4DF5-A6F5-DC1E186883C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61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AEE5-2E4E-423A-BD56-346017C91A6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0EBB-0C11-453A-94B2-3348D6AC35D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3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22BD-E948-4A4B-94EF-5FA93ABBDFB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8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9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2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80D6-3D45-4ADD-89AE-40F86FE9B0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4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9471-60A0-4105-B89B-D45A4305EA0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1847-EAD8-4CFC-BD73-0B1990F70C2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5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6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7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0845-A5F1-4FFF-91C1-A2300D976CE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D801-A365-4823-A15C-42301DC8E19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C748-DC3B-4471-BEDE-3E5C24872B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8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0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EEC0-263B-4DF6-A94D-2B5ED5AE58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6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8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59EE-C243-4E94-8FB4-D08CB28B639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4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F95F-5FF2-4624-BC2C-5A81D4CF6EC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31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3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CCE8-7808-451B-85A6-42349B4A8D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089E-B7EE-4A90-8E0A-81630A79F9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4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5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6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3978-1030-49E8-A716-FB78844CA33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3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4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250B-B980-45AC-963C-BA6EEC09833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1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62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26A8-4144-49F2-8DD7-474945547FF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9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70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71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09F9-D801-42CA-A0B8-E10617EA81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80D2-0AB6-4A07-A74A-18538D33AD6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8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9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F137-2052-410A-B8C1-93C82C3AE2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AEDC-E474-44E6-A745-3663105B5D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0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8069-97F1-420E-88AD-448E1A5367A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6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8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F39D-6598-4CA6-88B8-17617A13B0A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0A19-A8D0-44D8-A6B3-14F784694E4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8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9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10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A37D-C15E-44A8-9E56-33C7CA4E9D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265B-692D-47C7-A67D-0D96D2E7606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5CF4-08AC-463D-96EB-CA6CF8882B8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EA83-31B5-4519-87E4-A528BEB179D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3E23-8490-4616-92BB-DFBB22F71E2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2308-2058-4990-9CF3-B4F0C526218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43F6-8281-4421-A8B4-2C32E731376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6-05-03T14:47:15Z</dcterms:modified>
  <cp:revision>108</cp:revision>
  <dc:subject/>
  <dc:title>Aims and Objectives</dc:title>
</cp:coreProperties>
</file>