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DD36-57B7-40F9-89E5-F02608228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A714-5421-4353-BD88-EB3135426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D537-618B-4428-A8BB-EFD0533BC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2A0C-0DD6-4D5D-9202-3F4352101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4198-0374-4144-B887-329798B48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A27B-1FD9-45F2-911D-794ACF319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5E33-DD58-4D95-8BF2-7C2ECB081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E8FB-00A6-4F0D-A4BA-F497CA617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4CC4-3D0A-4F06-9DFA-3298F1E00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D506-7987-45AF-B9E8-F6C8382F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0B47-E7E5-416A-99AC-C0410325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378B-BEE2-422A-9C9F-C7650445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60659-A188-4851-9C6C-AE03C6934BF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50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15:07Z</dcterms:created>
  <dc:creator>Peter Watson</dc:creator>
  <dc:description/>
  <dc:language>en-US</dc:language>
  <cp:lastModifiedBy>Peter Watson</cp:lastModifiedBy>
  <dcterms:modified xsi:type="dcterms:W3CDTF">2010-10-04T14:15:07Z</dcterms:modified>
  <cp:revision>1</cp:revision>
  <dc:subject/>
  <dc:title>Slide 1</dc:title>
</cp:coreProperties>
</file>