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303C-BC00-46E3-AADB-7A708B0FC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D51E-BA0A-4805-BAD8-6A36278DA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1BCE-9198-41CB-B58C-B4C1FEC06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42BD-D0DA-4BE0-B16E-E8D1B0585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BE92-F166-4888-AC94-301A7DFB8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85E4-AE2D-475F-846E-E3D4C2A88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9EB1-208C-4F8D-948B-5C8D2EB55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1CDA-8027-43FD-BE32-C44BCF220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BA29-9DEA-4215-A8CD-EA65A5760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9D67-BE99-474B-9935-66AAE0BA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9FED-8627-4C16-8D8C-749E01FF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6BF0-CC27-4A5F-93ED-CEC6BA42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1447E-A075-4585-947E-B7D3B2EF9B8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50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15:07Z</dcterms:created>
  <dc:creator>Peter Watson</dc:creator>
  <dc:description/>
  <dc:language>en-US</dc:language>
  <cp:lastModifiedBy>Peter Watson</cp:lastModifiedBy>
  <dcterms:modified xsi:type="dcterms:W3CDTF">2010-10-04T14:15:07Z</dcterms:modified>
  <cp:revision>1</cp:revision>
  <dc:subject/>
  <dc:title>Slide 1</dc:title>
</cp:coreProperties>
</file>