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6A75-074C-4CF6-B4A0-F859E9EF3673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DEB1-4DBE-4A5F-AC18-4F10DD3615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0FA-0B3C-4C08-A58B-E88C7DFA7D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E50-9560-4A0A-B4CC-197006261D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3C9-5BC3-452D-BA6C-2360D87EA6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D37A-EA4C-4225-BCEF-FF6D185645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EB7-DD32-4EE5-B100-50178D1A42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6FE3-F73F-4E2E-8389-063A784C5C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4316-B0A2-4A0A-B044-B5E924DBDA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05EC-775B-4E57-B6EF-EE298C7F49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064C-DAAC-47F3-9147-26D6D24DC2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951E-06DF-4926-8B94-82BA58BF1E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F5F9-3AEB-41F3-92A0-0252E1647C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472B-C886-4072-99C3-DA3B26E5B0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D6A0-96FA-47D0-B672-4CAA426705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D50-9951-4455-B416-B5BD5316DF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22DE-5FFF-475C-9A07-BB08970A8C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7048-8334-4BE3-B969-77714D85DC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189-3E67-41CE-92E3-FFA38E26E8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50A3-9A4C-4703-AC7B-564218701A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F612-9383-48E9-9138-E0B9C28024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C12E-725B-4A47-9DF1-372704B453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923D-F940-4896-8478-8B6A63953EC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A4EC-1AA2-42B2-ABFA-DC619358D8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33D6-5889-419F-BC77-20995B32FE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82A4-6C9C-4299-BAC6-B7DC1B4F16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3B32-BCCE-4EEB-9B80-55BA3739D5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282E-1D6D-4560-9352-1549ED53C3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AC1-4902-49F3-AA8A-E12DF62989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F40-7916-4280-90E8-C5DECCDE83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108E-6F5E-42EB-A88D-24E10D2701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570-BAE7-44D9-A43D-7157A5F332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EB5-4081-44F9-A170-6B32BDAB96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7F00-6471-4181-AD59-F83D89D0B2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8D1D-5168-4DC1-B871-F07BB2C3E4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4496-60D0-4B63-B5A9-2CA013ED59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78BD-E4CC-4003-B87A-9BA2BC54F5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E96-BC7F-447C-9310-FDCFC223BB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A783-6015-4D24-8D3E-C1BDF84978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7D3-81DA-4ACC-BE22-D1732ED2FB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67B1-4255-4165-A7ED-4F8821795E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E113-31BE-4183-8666-58155C39AD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AECB-EC97-42B1-8051-C85A58ACDF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2249-6250-4160-BB7F-8C4489698E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4E29-F16B-429F-A133-47A3B4244E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A5BE-6170-48AA-8380-01CE2B9D87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30F2-54F3-474C-8400-10F2E03C6F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5E70-E638-4079-894F-A928B5CFC5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22E-B3A8-4567-BFB0-7FE297EFB3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F88D-7F0A-475A-BD7E-11B517F6A1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7D70-DAB5-4AE0-B62B-129EAFB4B4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C66F-43D2-478D-9935-F71D1F188F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F81-048D-4B40-9CAD-B6415CFC6A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7C4B-F7E6-4324-B924-6F49D23C61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9F5-116E-4362-8865-CC9C9F33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1A4-9C5C-4B83-BC01-47D1050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F3F-C31B-44F8-903A-6327F286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BC6-82C8-4920-A8E6-E69791A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6CD-8715-4DA0-8555-550EF0B0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22E-566B-43D9-9DED-4D510740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1A7-B06E-4CB6-A3E4-24007ADF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063-69CF-4230-BEEF-065514D0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4E3-4F6E-4942-8C60-A6751EF9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3F6-FA3D-4C47-8E73-E5B7252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1EF-2739-438F-8798-1B9F262E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5A1-54AD-410C-B774-DD390AF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6FD7-B172-4A1A-B75B-4029700A38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6-05-03T14:53:39Z</dcterms:modified>
  <cp:revision>107</cp:revision>
  <dc:subject/>
  <dc:title>Aims and Objectives</dc:title>
</cp:coreProperties>
</file>