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588D-35B4-4072-A4C4-A2360CC6493D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D652-CFB4-49AC-A50C-FD0DFB44E7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0715-B60B-4893-B502-044582850E7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A937-D589-41E5-8E8D-2F1E24C8056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0EAF-B372-4FA2-9619-4ADFB2F7286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FA45-A62E-41D8-ABA9-6D83CC04F94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9DFB-146E-4B0E-9429-BA9E369D148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B01A-E388-4300-87D7-E8A9C6E40D4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85D5-352E-4F37-B148-F1F7667F371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973C-4329-44EF-8675-76479AAB020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1F72-17A2-4316-A81D-56B9883473E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EAA9-97FD-475E-9241-2BD396B3411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E94C-DE6E-46EC-9060-D7E5EA675AC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AD5E-933E-4181-B5E0-91CBC7D3292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4F48-8C57-4E2D-A1C8-7211E285C94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F36C-0874-451C-8D83-6A9FCB2CA79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3EB6-43AE-4508-9FB6-BE4DD457AE1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618F-BDDF-4086-95FB-242A1F6ADBB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5870-D047-4DD4-BE09-75BED1B28C9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3BFE-DB3D-4729-9D9D-33F872D2A98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6179-ED82-4F29-B250-DC84D9C7446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3E9E-75AB-4BF2-A838-4C11C1A84EB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62B6-C7A3-46D1-A49C-9EFAB5A786E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C020-27BB-483B-810A-D177AAB4767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0473-13FA-4BB8-9BDF-C5FF4D8F316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E5A5-0277-47B1-B122-36BCFA8A730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6BF9-D3CE-47C7-A05D-19774623A81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A469-892B-4810-AF95-231F5CAB94A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DBFA-30DF-4320-AA92-EC8061250D9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7624-A642-4A08-AE53-CD98B878574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1AED-4324-4A2C-A827-C1AED83A351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28DB-09A0-491D-8F40-E9700BB2F1D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5D77-DED6-4FC1-A74F-AC30E537219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D18B-95ED-4F97-89F2-F584CCECCBC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215C-2ED1-4CEB-9080-EA0C5B9CF1C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F555-57FB-4019-9EA9-610FB7758B4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1D71-5358-4D1E-93CA-72AF778AE1D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4029-A870-4C4F-A0EA-21DE4EAAB1C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8D8B-2D61-4146-A27B-55D67EBABF0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F0B5-B0F6-4100-9D3F-7B65D19937D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8FB4-7A88-4619-B448-F3BF04CF8CB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4524-160D-44C3-A9C6-A9284208CE6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289F-1711-47BE-A982-120A10DCCC4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1BEF-819A-4EDE-AC4B-15E2A9AA459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E662-49F0-4A66-8977-CE73378A7C0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E138-A79F-486A-9A87-AA898304B59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9E7D-46C8-42A6-A486-574A5E11637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1F92-1286-40E2-84DC-DA626D56165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87D0-CC40-452D-8C2E-3B2E4A522CA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C9BC-D74C-419E-BB99-63A5C77E9DB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72AE-9006-4C87-8461-ED71B5D6DF7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FD8E-1913-4C9C-B3A3-8B4AEE4044D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33D4-95FF-4FCB-A1FD-461A8DCD003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1AB0-DEEE-453B-BB44-0A3EB4B46EB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E83-470F-4355-96C6-E3B7D55C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1A3C-70CE-492C-BBB1-814B3063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511-B707-4C9F-8B43-00EC69EA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3CA-5643-46E5-B1E2-B33C264C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5259-7D9F-4F91-A821-E42FE58C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2D4-1ADD-4480-AF60-2B094730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7863-B1AC-4C2C-95FC-24442C37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139-1D9E-4B3A-A0F3-23CCC801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4144-020F-4FD3-BA18-A4BB9D3A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CFF-177F-4E96-8CB8-6A98BA98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8989-E873-4A20-B548-629BE253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6E56-BB59-49EB-9E18-83BAEFF3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FBDA-5634-40F8-8513-30026838A7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18296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17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3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36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1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1st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8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6-05-03T14:53:39Z</dcterms:modified>
  <cp:revision>107</cp:revision>
  <dc:subject/>
  <dc:title>Aims and Objectives</dc:title>
</cp:coreProperties>
</file>